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2.wmf" ContentType="image/x-wmf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518160" y="6087960"/>
            <a:ext cx="198108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6-bit Microcontroll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05760" y="6313320"/>
            <a:ext cx="1293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Lehmann </a:t>
            </a:r>
            <a:fld id="{1BA0DEAE-5019-43EA-8C54-BA5774BDA08E}" type="datetime"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6000"/>
              </a:lnSpc>
            </a:pPr>
            <a:fld id="{E2340A9C-8324-417C-AC78-A833C5303CE6}" type="slidenum"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/ 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7320" y="571680"/>
            <a:ext cx="8823240" cy="53071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68120" y="174600"/>
            <a:ext cx="1789200" cy="2746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43120" y="6026040"/>
            <a:ext cx="690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157320" y="6110280"/>
            <a:ext cx="152388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C166 Fami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521560" y="6095880"/>
            <a:ext cx="439560" cy="4395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71680" y="763560"/>
            <a:ext cx="798984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166 Family of High Performanc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-Bit Microcontrol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43120" y="1838160"/>
            <a:ext cx="1657440" cy="2048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9080" y="884160"/>
            <a:ext cx="84646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71760" y="4157640"/>
            <a:ext cx="24732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SAB 80C1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C1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C1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60680" y="6095880"/>
            <a:ext cx="4579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The Reference Clas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747800" y="863640"/>
            <a:ext cx="7243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PU Block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517680" y="1971720"/>
            <a:ext cx="8229600" cy="338148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2203560" y="3584520"/>
            <a:ext cx="325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36480" y="2970360"/>
            <a:ext cx="8445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On-C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(EP)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241800" y="2679840"/>
            <a:ext cx="353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94200" y="2835360"/>
            <a:ext cx="649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STK 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97080" y="3006720"/>
            <a:ext cx="642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STK U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36960" y="3300480"/>
            <a:ext cx="763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Exec.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68640" y="3483000"/>
            <a:ext cx="698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Instr. Pt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33720" y="3662280"/>
            <a:ext cx="770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Instr. Re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271680" y="390672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4-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Pipe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990880" y="4373640"/>
            <a:ext cx="1017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Data Page Pt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184640" y="2043000"/>
            <a:ext cx="934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444920" y="2720880"/>
            <a:ext cx="473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MD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456080" y="2960640"/>
            <a:ext cx="452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MD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216320" y="3295800"/>
            <a:ext cx="932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Mul./Div.-H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187880" y="3478320"/>
            <a:ext cx="988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Bit-Mask G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378320" y="3863880"/>
            <a:ext cx="406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  <a:ea typeface="Arial"/>
              </a:rPr>
              <a:t>AL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794120" y="3905280"/>
            <a:ext cx="501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16-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272120" y="4091040"/>
            <a:ext cx="819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Barrel-Shi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173480" y="4376880"/>
            <a:ext cx="1017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Code Seg. Pt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181320" y="4680000"/>
            <a:ext cx="473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P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057480" y="4834080"/>
            <a:ext cx="72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SYSC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5764320" y="2808360"/>
            <a:ext cx="417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5799240" y="4762440"/>
            <a:ext cx="345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559480" y="3402000"/>
            <a:ext cx="82692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  <a:ea typeface="Arial"/>
              </a:rPr>
              <a:t>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  <a:ea typeface="Arial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  <a:ea typeface="Arial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254480" y="4782960"/>
            <a:ext cx="853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Context Pt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7273800" y="2705040"/>
            <a:ext cx="325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7257960" y="4514760"/>
            <a:ext cx="325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8093160" y="3271680"/>
            <a:ext cx="34776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700" spc="-1" strike="noStrike">
                <a:solidFill>
                  <a:srgbClr val="fc0128"/>
                </a:solidFill>
                <a:latin typeface="Arial"/>
                <a:ea typeface="Arial"/>
              </a:rPr>
              <a:t>R1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8112240" y="4403880"/>
            <a:ext cx="2984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700" spc="-1" strike="noStrike">
                <a:solidFill>
                  <a:srgbClr val="fc0128"/>
                </a:solidFill>
                <a:latin typeface="Arial"/>
                <a:ea typeface="Arial"/>
              </a:rPr>
              <a:t>R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7883640" y="2046240"/>
            <a:ext cx="750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On-C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686" name=""/>
            <p:cNvSpPr/>
            <p:nvPr/>
          </p:nvSpPr>
          <p:spPr>
            <a:xfrm>
              <a:off x="241200" y="655560"/>
              <a:ext cx="257400" cy="249480"/>
            </a:xfrm>
            <a:custGeom>
              <a:avLst/>
              <a:gdLst/>
              <a:ahLst/>
              <a:rect l="0" t="0" r="r" b="b"/>
              <a:pathLst>
                <a:path w="715" h="693">
                  <a:moveTo>
                    <a:pt x="0" y="693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69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690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fill="none"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fill="none"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 txBox="1"/>
          <p:nvPr/>
        </p:nvSpPr>
        <p:spPr>
          <a:xfrm>
            <a:off x="3021120" y="2557440"/>
            <a:ext cx="50796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10800000">
            <a:off x="3006720" y="3375000"/>
            <a:ext cx="2805120" cy="75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174840" y="3375000"/>
            <a:ext cx="1411200" cy="5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455581"/>
            </a:solidFill>
            <a:round/>
            <a:tailEnd len="med" type="triangle" w="med"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643720" y="3375000"/>
            <a:ext cx="3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custDash>
              <a:ds d="202857" sp="202857"/>
            </a:custDash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10800000">
            <a:off x="5586480" y="3117600"/>
            <a:ext cx="360" cy="219240"/>
          </a:xfrm>
          <a:prstGeom prst="rect">
            <a:avLst/>
          </a:prstGeom>
          <a:solidFill>
            <a:srgbClr val="081d58"/>
          </a:solidFill>
          <a:ln w="12600">
            <a:solidFill>
              <a:srgbClr val="081d58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10800000">
            <a:off x="5813280" y="3117600"/>
            <a:ext cx="360" cy="21924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736800" y="2556000"/>
            <a:ext cx="666720" cy="0"/>
          </a:xfrm>
          <a:custGeom>
            <a:avLst/>
            <a:gdLst/>
            <a:ahLst/>
            <a:rect l="0" t="0" r="r" b="b"/>
            <a:pathLst>
              <a:path w="1852" h="0">
                <a:moveTo>
                  <a:pt x="1852" y="0"/>
                </a:moveTo>
                <a:lnTo>
                  <a:pt x="0" y="0"/>
                </a:lnTo>
                <a:lnTo>
                  <a:pt x="75" y="0"/>
                </a:lnTo>
                <a:lnTo>
                  <a:pt x="185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custDash>
              <a:ds d="202857" sp="202857"/>
              <a:ds d="100000" sp="202857"/>
            </a:custDash>
            <a:round/>
            <a:headEnd len="med" type="triangle" w="med"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5497560" y="3122640"/>
            <a:ext cx="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344760" y="3122640"/>
            <a:ext cx="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259080" y="3341520"/>
            <a:ext cx="1320840" cy="8748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006720" y="3341520"/>
            <a:ext cx="1573200" cy="87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021120" y="3035160"/>
            <a:ext cx="155736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9920" y="3429000"/>
            <a:ext cx="704880" cy="360"/>
          </a:xfrm>
          <a:prstGeom prst="rect">
            <a:avLst/>
          </a:prstGeom>
          <a:solidFill>
            <a:srgbClr val="081d58"/>
          </a:solidFill>
          <a:ln w="12600">
            <a:solidFill>
              <a:srgbClr val="000000"/>
            </a:solidFill>
            <a:custDash>
              <a:ds d="202857" sp="202857"/>
            </a:custDash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4578480" y="3430440"/>
            <a:ext cx="9144000" cy="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244680" y="3405240"/>
            <a:ext cx="316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143240" y="3408480"/>
            <a:ext cx="1440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5583240" y="3863880"/>
            <a:ext cx="9144000" cy="360"/>
          </a:xfrm>
          <a:prstGeom prst="rect">
            <a:avLst/>
          </a:prstGeom>
          <a:noFill/>
          <a:ln w="12600">
            <a:solidFill>
              <a:srgbClr val="919191"/>
            </a:solidFill>
            <a:custDash>
              <a:ds d="100000" sp="100000"/>
            </a:custDash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572000" y="-1828800"/>
            <a:ext cx="3168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0560" y="3429000"/>
            <a:ext cx="14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599000" y="-6281640"/>
            <a:ext cx="32591520" cy="131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0" y="34560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72000" y="3022560"/>
            <a:ext cx="23652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572000" y="1152360"/>
            <a:ext cx="201960" cy="141480"/>
          </a:xfrm>
          <a:custGeom>
            <a:avLst/>
            <a:gdLst/>
            <a:ahLst/>
            <a:rect l="0" t="0" r="r" b="b"/>
            <a:pathLst>
              <a:path fill="none" w="561" h="393">
                <a:moveTo>
                  <a:pt x="281" y="393"/>
                </a:moveTo>
                <a:lnTo>
                  <a:pt x="561" y="197"/>
                </a:lnTo>
                <a:lnTo>
                  <a:pt x="281" y="0"/>
                </a:lnTo>
                <a:lnTo>
                  <a:pt x="0" y="197"/>
                </a:lnTo>
                <a:lnTo>
                  <a:pt x="281" y="393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739" name=""/>
          <p:cNvSpPr txBox="1"/>
          <p:nvPr/>
        </p:nvSpPr>
        <p:spPr>
          <a:xfrm>
            <a:off x="4572000" y="3432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3022560"/>
            <a:ext cx="236520" cy="405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742" name=""/>
          <p:cNvSpPr/>
          <p:nvPr/>
        </p:nvSpPr>
        <p:spPr>
          <a:xfrm flipH="1" flipV="1">
            <a:off x="4591080" y="3452760"/>
            <a:ext cx="32216760" cy="9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4572000" y="3452760"/>
            <a:ext cx="3816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714920" y="342900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4165560" y="3587760"/>
            <a:ext cx="405000" cy="77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4591080" y="3432240"/>
            <a:ext cx="360" cy="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572000" y="3429000"/>
            <a:ext cx="1440" cy="4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4165560" y="3587760"/>
            <a:ext cx="405000" cy="77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17695800" y="3850488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4572000" y="3438360"/>
            <a:ext cx="38160" cy="3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4572000" y="3429000"/>
            <a:ext cx="14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572000" y="3429000"/>
            <a:ext cx="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572000" y="3429000"/>
            <a:ext cx="38160" cy="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3429000"/>
            <a:ext cx="14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572000" y="3427560"/>
            <a:ext cx="360" cy="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4572000" y="3444840"/>
            <a:ext cx="1440" cy="48861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70560" y="3587760"/>
            <a:ext cx="144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675240" y="3665520"/>
            <a:ext cx="895320" cy="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572000" y="3429000"/>
            <a:ext cx="14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572000" y="3438360"/>
            <a:ext cx="12960" cy="0"/>
          </a:xfrm>
          <a:custGeom>
            <a:avLst/>
            <a:gdLst/>
            <a:ahLst/>
            <a:rect l="0" t="0" r="r" b="b"/>
            <a:pathLst>
              <a:path w="36" h="0">
                <a:moveTo>
                  <a:pt x="36" y="0"/>
                </a:moveTo>
                <a:lnTo>
                  <a:pt x="0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4572000" y="344664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4572000" y="1982880"/>
            <a:ext cx="90360" cy="1828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730760" y="34290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4572000" y="3446640"/>
            <a:ext cx="38160" cy="26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4572000" y="3429000"/>
            <a:ext cx="14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572000" y="3429000"/>
            <a:ext cx="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4572000" y="3429000"/>
            <a:ext cx="158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4730760" y="3427560"/>
            <a:ext cx="777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4730760" y="34290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699160" y="3427560"/>
            <a:ext cx="360" cy="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0" y="3429000"/>
            <a:ext cx="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572000" y="3430440"/>
            <a:ext cx="2556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572000" y="345132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4572000" y="2378160"/>
            <a:ext cx="90360" cy="75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730760" y="34290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572000" y="3454560"/>
            <a:ext cx="14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573440" y="3429000"/>
            <a:ext cx="3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4013280" y="3429000"/>
            <a:ext cx="558720" cy="9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4570560" y="3587760"/>
            <a:ext cx="144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576680" y="3429000"/>
            <a:ext cx="20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572000" y="3432240"/>
            <a:ext cx="0" cy="0"/>
          </a:xfrm>
          <a:custGeom>
            <a:avLst/>
            <a:gdLst/>
            <a:ahLst/>
            <a:rect l="0" t="0" r="r" b="b"/>
            <a:pathLst>
              <a:path fill="none" w="0" h="0">
                <a:moveTo>
                  <a:pt x="0" y="0"/>
                </a:moveTo>
              </a:path>
            </a:pathLst>
          </a:custGeom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4572000" y="3110040"/>
            <a:ext cx="90360" cy="318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730760" y="3427560"/>
            <a:ext cx="777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72000" y="3433680"/>
            <a:ext cx="1908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4572000" y="3473280"/>
            <a:ext cx="14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4165560" y="3587760"/>
            <a:ext cx="405000" cy="77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23437800" y="16206840"/>
            <a:ext cx="2925612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789" name=""/>
          <p:cNvSpPr txBox="1"/>
          <p:nvPr/>
        </p:nvSpPr>
        <p:spPr>
          <a:xfrm>
            <a:off x="4587840" y="3429000"/>
            <a:ext cx="914400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4572000" y="3429000"/>
            <a:ext cx="20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72000" y="344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572000" y="3022560"/>
            <a:ext cx="23652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0" y="3327480"/>
            <a:ext cx="480960" cy="2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795" name=""/>
          <p:cNvSpPr/>
          <p:nvPr/>
        </p:nvSpPr>
        <p:spPr>
          <a:xfrm>
            <a:off x="4573440" y="3429000"/>
            <a:ext cx="3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5197320" y="3429000"/>
            <a:ext cx="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72000" y="34290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799" name=""/>
          <p:cNvSpPr/>
          <p:nvPr/>
        </p:nvSpPr>
        <p:spPr>
          <a:xfrm>
            <a:off x="4573440" y="3429000"/>
            <a:ext cx="7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4572000" y="3429000"/>
            <a:ext cx="811080" cy="9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70560" y="3587760"/>
            <a:ext cx="144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8374560" y="46266120"/>
            <a:ext cx="135018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91080" y="3444840"/>
            <a:ext cx="0" cy="0"/>
          </a:xfrm>
          <a:custGeom>
            <a:avLst/>
            <a:gdLst/>
            <a:ahLst/>
            <a:rect l="0" t="0" r="r" b="b"/>
            <a:pathLst>
              <a:path fill="none" w="0" h="0">
                <a:moveTo>
                  <a:pt x="0" y="0"/>
                </a:moveTo>
              </a:path>
            </a:pathLst>
          </a:custGeom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4572000" y="3429000"/>
            <a:ext cx="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4594320" y="-34347240"/>
            <a:ext cx="45194400" cy="41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4572000" y="3429000"/>
            <a:ext cx="158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4730760" y="3427560"/>
            <a:ext cx="777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869080" y="2419200"/>
            <a:ext cx="136440" cy="100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4572000" y="3429000"/>
            <a:ext cx="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575240" y="3429000"/>
            <a:ext cx="1800" cy="16200"/>
          </a:xfrm>
          <a:custGeom>
            <a:avLst/>
            <a:gdLst/>
            <a:ahLst/>
            <a:rect l="0" t="0" r="r" b="b"/>
            <a:pathLst>
              <a:path fill="none" w="5" h="45">
                <a:moveTo>
                  <a:pt x="3" y="45"/>
                </a:moveTo>
                <a:lnTo>
                  <a:pt x="0" y="23"/>
                </a:lnTo>
                <a:lnTo>
                  <a:pt x="3" y="0"/>
                </a:lnTo>
                <a:lnTo>
                  <a:pt x="5" y="23"/>
                </a:lnTo>
                <a:lnTo>
                  <a:pt x="3" y="45"/>
                </a:lnTo>
              </a:path>
            </a:pathLst>
          </a:custGeom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70560" y="3626640"/>
            <a:ext cx="0" cy="0"/>
          </a:xfrm>
          <a:custGeom>
            <a:avLst/>
            <a:gdLst/>
            <a:ahLst/>
            <a:rect l="0" t="0" r="r" b="b"/>
            <a:pathLst>
              <a:path fill="none" w="0" h="0">
                <a:moveTo>
                  <a:pt x="0" y="0"/>
                </a:moveTo>
              </a:path>
            </a:pathLst>
          </a:custGeom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417840" y="4948200"/>
            <a:ext cx="266760" cy="19080"/>
          </a:xfrm>
          <a:custGeom>
            <a:avLst/>
            <a:gdLst/>
            <a:ahLst/>
            <a:rect l="0" t="0" r="r" b="b"/>
            <a:pathLst>
              <a:path w="741" h="53">
                <a:moveTo>
                  <a:pt x="0" y="0"/>
                </a:moveTo>
                <a:lnTo>
                  <a:pt x="717" y="53"/>
                </a:lnTo>
                <a:lnTo>
                  <a:pt x="717" y="53"/>
                </a:lnTo>
                <a:cubicBezTo>
                  <a:pt x="728" y="43"/>
                  <a:pt x="736" y="33"/>
                  <a:pt x="741" y="22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572000" y="3429000"/>
            <a:ext cx="14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573440" y="3429000"/>
            <a:ext cx="7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100400" y="3429000"/>
            <a:ext cx="175572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0" y="34290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572000" y="3432240"/>
            <a:ext cx="0" cy="0"/>
          </a:xfrm>
          <a:custGeom>
            <a:avLst/>
            <a:gdLst/>
            <a:ahLst/>
            <a:rect l="0" t="0" r="r" b="b"/>
            <a:pathLst>
              <a:path fill="none" w="0" h="0">
                <a:moveTo>
                  <a:pt x="0" y="0"/>
                </a:moveTo>
              </a:path>
            </a:pathLst>
          </a:custGeom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4572000" y="343368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4572000" y="4748040"/>
            <a:ext cx="90360" cy="16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730760" y="34290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572000" y="343224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7162920" y="4724280"/>
            <a:ext cx="12193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103720" y="3321000"/>
            <a:ext cx="1757880" cy="2302200"/>
          </a:xfrm>
          <a:custGeom>
            <a:avLst/>
            <a:gdLst/>
            <a:ahLst/>
            <a:rect l="0" t="0" r="r" b="b"/>
            <a:pathLst>
              <a:path w="4883" h="6395">
                <a:moveTo>
                  <a:pt x="0" y="6395"/>
                </a:moveTo>
                <a:lnTo>
                  <a:pt x="4883" y="6395"/>
                </a:lnTo>
                <a:lnTo>
                  <a:pt x="4883" y="0"/>
                </a:lnTo>
                <a:lnTo>
                  <a:pt x="0" y="0"/>
                </a:lnTo>
                <a:lnTo>
                  <a:pt x="0" y="63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74720" y="3240000"/>
            <a:ext cx="2927880" cy="2300760"/>
          </a:xfrm>
          <a:custGeom>
            <a:avLst/>
            <a:gdLst/>
            <a:ahLst/>
            <a:rect l="0" t="0" r="r" b="b"/>
            <a:pathLst>
              <a:path w="8133" h="6391">
                <a:moveTo>
                  <a:pt x="0" y="6391"/>
                </a:moveTo>
                <a:lnTo>
                  <a:pt x="8133" y="6391"/>
                </a:lnTo>
                <a:lnTo>
                  <a:pt x="8133" y="0"/>
                </a:lnTo>
                <a:lnTo>
                  <a:pt x="0" y="0"/>
                </a:lnTo>
                <a:lnTo>
                  <a:pt x="0" y="63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G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304920" y="1812960"/>
            <a:ext cx="426708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Up to 16 GPRs = 1 Register bank</a:t>
            </a:r>
            <a:br>
              <a:rPr sz="1400"/>
            </a:br>
            <a:r>
              <a:rPr b="1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Consisting of ma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 Word-Regi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 Word-Registers with lower and higher Byte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The GPRs are bit-addres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747800" y="863640"/>
            <a:ext cx="7243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Purpose Register (GP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724280" y="1812960"/>
            <a:ext cx="426708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Any Register bank can be freely allocated in internal 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The location of the active Register bank is determined by Context Pointer (C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CP can be easily switched to select another Register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076480" y="4205160"/>
            <a:ext cx="345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2076480" y="4051440"/>
            <a:ext cx="345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2041560" y="3913200"/>
            <a:ext cx="417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2041560" y="3768840"/>
            <a:ext cx="417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2041560" y="3624120"/>
            <a:ext cx="417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2041560" y="3487680"/>
            <a:ext cx="417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2041560" y="3335400"/>
            <a:ext cx="417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2041560" y="3205080"/>
            <a:ext cx="417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1182600" y="4362480"/>
            <a:ext cx="609480" cy="1228680"/>
            <a:chOff x="1182600" y="4362480"/>
            <a:chExt cx="609480" cy="1228680"/>
          </a:xfrm>
        </p:grpSpPr>
        <p:sp>
          <p:nvSpPr>
            <p:cNvPr id="838" name=""/>
            <p:cNvSpPr txBox="1"/>
            <p:nvPr/>
          </p:nvSpPr>
          <p:spPr>
            <a:xfrm>
              <a:off x="1235160" y="5362560"/>
              <a:ext cx="5047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RH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 txBox="1"/>
            <p:nvPr/>
          </p:nvSpPr>
          <p:spPr>
            <a:xfrm>
              <a:off x="1235160" y="5208480"/>
              <a:ext cx="5047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RH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 txBox="1"/>
            <p:nvPr/>
          </p:nvSpPr>
          <p:spPr>
            <a:xfrm>
              <a:off x="1235160" y="5070600"/>
              <a:ext cx="5047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RH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>
              <a:off x="1235160" y="4925880"/>
              <a:ext cx="5047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RH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 txBox="1"/>
            <p:nvPr/>
          </p:nvSpPr>
          <p:spPr>
            <a:xfrm>
              <a:off x="1182600" y="478152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RH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 txBox="1"/>
            <p:nvPr/>
          </p:nvSpPr>
          <p:spPr>
            <a:xfrm>
              <a:off x="1235160" y="4645080"/>
              <a:ext cx="5047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RH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 txBox="1"/>
            <p:nvPr/>
          </p:nvSpPr>
          <p:spPr>
            <a:xfrm>
              <a:off x="1235160" y="4492800"/>
              <a:ext cx="5047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RH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 txBox="1"/>
            <p:nvPr/>
          </p:nvSpPr>
          <p:spPr>
            <a:xfrm>
              <a:off x="1182600" y="436248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RH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2651040" y="4354560"/>
            <a:ext cx="617400" cy="1228680"/>
            <a:chOff x="2651040" y="4354560"/>
            <a:chExt cx="617400" cy="1228680"/>
          </a:xfrm>
        </p:grpSpPr>
        <p:sp>
          <p:nvSpPr>
            <p:cNvPr id="847" name=""/>
            <p:cNvSpPr txBox="1"/>
            <p:nvPr/>
          </p:nvSpPr>
          <p:spPr>
            <a:xfrm>
              <a:off x="2703600" y="5354640"/>
              <a:ext cx="5112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RL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 txBox="1"/>
            <p:nvPr/>
          </p:nvSpPr>
          <p:spPr>
            <a:xfrm>
              <a:off x="2703600" y="5200560"/>
              <a:ext cx="5112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R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 txBox="1"/>
            <p:nvPr/>
          </p:nvSpPr>
          <p:spPr>
            <a:xfrm>
              <a:off x="2703600" y="5062680"/>
              <a:ext cx="5112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RL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2703600" y="4917960"/>
              <a:ext cx="5112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RL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 txBox="1"/>
            <p:nvPr/>
          </p:nvSpPr>
          <p:spPr>
            <a:xfrm>
              <a:off x="2651040" y="4773600"/>
              <a:ext cx="6174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RL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 txBox="1"/>
            <p:nvPr/>
          </p:nvSpPr>
          <p:spPr>
            <a:xfrm>
              <a:off x="2703600" y="4637160"/>
              <a:ext cx="5112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RL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>
              <a:off x="2703600" y="4484520"/>
              <a:ext cx="5112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RL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 txBox="1"/>
            <p:nvPr/>
          </p:nvSpPr>
          <p:spPr>
            <a:xfrm>
              <a:off x="2651040" y="4354560"/>
              <a:ext cx="6174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RL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"/>
          <p:cNvSpPr txBox="1"/>
          <p:nvPr/>
        </p:nvSpPr>
        <p:spPr>
          <a:xfrm>
            <a:off x="7118280" y="4762440"/>
            <a:ext cx="1309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  <a:ea typeface="Arial"/>
              </a:rPr>
              <a:t>Context po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6810480" y="3271680"/>
            <a:ext cx="585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0FD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119560" y="3921120"/>
            <a:ext cx="1728720" cy="10317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6791400" y="5443560"/>
            <a:ext cx="1936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0FA0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‘C167/’C165 @ </a:t>
            </a: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0F6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7543800" y="3271680"/>
            <a:ext cx="10652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(2)KB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nal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092560" y="3309840"/>
            <a:ext cx="1781640" cy="2324520"/>
          </a:xfrm>
          <a:custGeom>
            <a:avLst/>
            <a:gdLst/>
            <a:ahLst/>
            <a:rect l="0" t="0" r="r" b="b"/>
            <a:pathLst>
              <a:path w="4949" h="6457">
                <a:moveTo>
                  <a:pt x="0" y="6457"/>
                </a:moveTo>
                <a:lnTo>
                  <a:pt x="4949" y="6457"/>
                </a:lnTo>
                <a:lnTo>
                  <a:pt x="4949" y="0"/>
                </a:lnTo>
                <a:lnTo>
                  <a:pt x="0" y="0"/>
                </a:lnTo>
                <a:lnTo>
                  <a:pt x="0" y="6457"/>
                </a:lnTo>
                <a:lnTo>
                  <a:pt x="69" y="6427"/>
                </a:lnTo>
                <a:lnTo>
                  <a:pt x="69" y="30"/>
                </a:lnTo>
                <a:lnTo>
                  <a:pt x="30" y="65"/>
                </a:lnTo>
                <a:lnTo>
                  <a:pt x="4914" y="65"/>
                </a:lnTo>
                <a:lnTo>
                  <a:pt x="4879" y="30"/>
                </a:lnTo>
                <a:lnTo>
                  <a:pt x="4879" y="6427"/>
                </a:lnTo>
                <a:lnTo>
                  <a:pt x="4914" y="6392"/>
                </a:lnTo>
                <a:lnTo>
                  <a:pt x="30" y="6392"/>
                </a:lnTo>
                <a:lnTo>
                  <a:pt x="69" y="6427"/>
                </a:lnTo>
                <a:lnTo>
                  <a:pt x="0" y="64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121360" y="3922560"/>
            <a:ext cx="1744920" cy="1049760"/>
          </a:xfrm>
          <a:custGeom>
            <a:avLst/>
            <a:gdLst/>
            <a:ahLst/>
            <a:rect l="0" t="0" r="r" b="b"/>
            <a:pathLst>
              <a:path fill="none" w="4847" h="2916">
                <a:moveTo>
                  <a:pt x="0" y="2916"/>
                </a:moveTo>
                <a:lnTo>
                  <a:pt x="4847" y="2916"/>
                </a:lnTo>
                <a:lnTo>
                  <a:pt x="4847" y="0"/>
                </a:lnTo>
                <a:lnTo>
                  <a:pt x="0" y="0"/>
                </a:lnTo>
                <a:lnTo>
                  <a:pt x="0" y="291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105520" y="41148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105520" y="48006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888240" y="4865760"/>
            <a:ext cx="238320" cy="9720"/>
          </a:xfrm>
          <a:custGeom>
            <a:avLst/>
            <a:gdLst/>
            <a:ahLst/>
            <a:rect l="0" t="0" r="r" b="b"/>
            <a:pathLst>
              <a:path w="662" h="27">
                <a:moveTo>
                  <a:pt x="33" y="0"/>
                </a:moveTo>
                <a:lnTo>
                  <a:pt x="24" y="0"/>
                </a:lnTo>
                <a:lnTo>
                  <a:pt x="16" y="3"/>
                </a:lnTo>
                <a:lnTo>
                  <a:pt x="12" y="4"/>
                </a:lnTo>
                <a:lnTo>
                  <a:pt x="4" y="6"/>
                </a:lnTo>
                <a:lnTo>
                  <a:pt x="0" y="9"/>
                </a:lnTo>
                <a:lnTo>
                  <a:pt x="0" y="19"/>
                </a:lnTo>
                <a:lnTo>
                  <a:pt x="4" y="20"/>
                </a:lnTo>
                <a:lnTo>
                  <a:pt x="12" y="24"/>
                </a:lnTo>
                <a:lnTo>
                  <a:pt x="16" y="25"/>
                </a:lnTo>
                <a:lnTo>
                  <a:pt x="24" y="27"/>
                </a:lnTo>
                <a:lnTo>
                  <a:pt x="641" y="27"/>
                </a:lnTo>
                <a:lnTo>
                  <a:pt x="645" y="25"/>
                </a:lnTo>
                <a:lnTo>
                  <a:pt x="654" y="24"/>
                </a:lnTo>
                <a:lnTo>
                  <a:pt x="658" y="20"/>
                </a:lnTo>
                <a:lnTo>
                  <a:pt x="662" y="19"/>
                </a:lnTo>
                <a:lnTo>
                  <a:pt x="662" y="9"/>
                </a:lnTo>
                <a:lnTo>
                  <a:pt x="658" y="6"/>
                </a:lnTo>
                <a:lnTo>
                  <a:pt x="654" y="4"/>
                </a:lnTo>
                <a:lnTo>
                  <a:pt x="645" y="3"/>
                </a:lnTo>
                <a:lnTo>
                  <a:pt x="641" y="0"/>
                </a:lnTo>
                <a:lnTo>
                  <a:pt x="629" y="0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916600" y="4986360"/>
            <a:ext cx="0" cy="407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859360" y="5280120"/>
            <a:ext cx="114840" cy="114840"/>
          </a:xfrm>
          <a:custGeom>
            <a:avLst/>
            <a:gdLst/>
            <a:ahLst/>
            <a:rect l="0" t="0" r="r" b="b"/>
            <a:pathLst>
              <a:path w="319" h="319">
                <a:moveTo>
                  <a:pt x="0" y="0"/>
                </a:moveTo>
                <a:lnTo>
                  <a:pt x="159" y="319"/>
                </a:lnTo>
                <a:lnTo>
                  <a:pt x="31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18040" y="3505320"/>
            <a:ext cx="0" cy="40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861160" y="3505320"/>
            <a:ext cx="114840" cy="114840"/>
          </a:xfrm>
          <a:custGeom>
            <a:avLst/>
            <a:gdLst/>
            <a:ahLst/>
            <a:rect l="0" t="0" r="r" b="b"/>
            <a:pathLst>
              <a:path w="319" h="319">
                <a:moveTo>
                  <a:pt x="319" y="319"/>
                </a:moveTo>
                <a:lnTo>
                  <a:pt x="159" y="0"/>
                </a:lnTo>
                <a:lnTo>
                  <a:pt x="0" y="319"/>
                </a:lnTo>
                <a:lnTo>
                  <a:pt x="319" y="31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63560" y="3227400"/>
            <a:ext cx="2951640" cy="2324520"/>
          </a:xfrm>
          <a:custGeom>
            <a:avLst/>
            <a:gdLst/>
            <a:ahLst/>
            <a:rect l="0" t="0" r="r" b="b"/>
            <a:pathLst>
              <a:path w="8199" h="6457">
                <a:moveTo>
                  <a:pt x="0" y="6457"/>
                </a:moveTo>
                <a:lnTo>
                  <a:pt x="8199" y="6457"/>
                </a:lnTo>
                <a:lnTo>
                  <a:pt x="8199" y="0"/>
                </a:lnTo>
                <a:lnTo>
                  <a:pt x="0" y="0"/>
                </a:lnTo>
                <a:lnTo>
                  <a:pt x="0" y="6457"/>
                </a:lnTo>
                <a:lnTo>
                  <a:pt x="65" y="6427"/>
                </a:lnTo>
                <a:lnTo>
                  <a:pt x="65" y="35"/>
                </a:lnTo>
                <a:lnTo>
                  <a:pt x="30" y="70"/>
                </a:lnTo>
                <a:lnTo>
                  <a:pt x="8164" y="70"/>
                </a:lnTo>
                <a:lnTo>
                  <a:pt x="8129" y="35"/>
                </a:lnTo>
                <a:lnTo>
                  <a:pt x="8129" y="6427"/>
                </a:lnTo>
                <a:lnTo>
                  <a:pt x="8164" y="6387"/>
                </a:lnTo>
                <a:lnTo>
                  <a:pt x="30" y="6387"/>
                </a:lnTo>
                <a:lnTo>
                  <a:pt x="65" y="6427"/>
                </a:lnTo>
                <a:lnTo>
                  <a:pt x="0" y="64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70040" y="3513240"/>
            <a:ext cx="295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70040" y="3657600"/>
            <a:ext cx="295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70040" y="3946680"/>
            <a:ext cx="295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70040" y="4233960"/>
            <a:ext cx="295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70040" y="4521240"/>
            <a:ext cx="295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70040" y="4808520"/>
            <a:ext cx="295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70040" y="5095800"/>
            <a:ext cx="295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0040" y="5384880"/>
            <a:ext cx="295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70040" y="3801960"/>
            <a:ext cx="295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70040" y="4089240"/>
            <a:ext cx="295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70040" y="4376880"/>
            <a:ext cx="295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70040" y="4665600"/>
            <a:ext cx="295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0040" y="4952880"/>
            <a:ext cx="295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0040" y="5240160"/>
            <a:ext cx="295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0040" y="3367080"/>
            <a:ext cx="295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246400" y="4379760"/>
            <a:ext cx="0" cy="117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5707080" y="3913200"/>
            <a:ext cx="417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5734080" y="4776840"/>
            <a:ext cx="345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900840" y="4829040"/>
            <a:ext cx="86040" cy="86040"/>
          </a:xfrm>
          <a:custGeom>
            <a:avLst/>
            <a:gdLst/>
            <a:ahLst/>
            <a:rect l="0" t="0" r="r" b="b"/>
            <a:pathLst>
              <a:path w="239" h="239">
                <a:moveTo>
                  <a:pt x="239" y="0"/>
                </a:moveTo>
                <a:lnTo>
                  <a:pt x="0" y="115"/>
                </a:lnTo>
                <a:lnTo>
                  <a:pt x="239" y="239"/>
                </a:lnTo>
                <a:lnTo>
                  <a:pt x="23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888240" y="4816440"/>
            <a:ext cx="111600" cy="111600"/>
          </a:xfrm>
          <a:custGeom>
            <a:avLst/>
            <a:gdLst/>
            <a:ahLst/>
            <a:rect l="0" t="0" r="r" b="b"/>
            <a:pathLst>
              <a:path w="310" h="310">
                <a:moveTo>
                  <a:pt x="310" y="30"/>
                </a:moveTo>
                <a:lnTo>
                  <a:pt x="310" y="19"/>
                </a:lnTo>
                <a:lnTo>
                  <a:pt x="306" y="15"/>
                </a:lnTo>
                <a:lnTo>
                  <a:pt x="302" y="7"/>
                </a:lnTo>
                <a:lnTo>
                  <a:pt x="295" y="3"/>
                </a:lnTo>
                <a:lnTo>
                  <a:pt x="291" y="0"/>
                </a:lnTo>
                <a:lnTo>
                  <a:pt x="272" y="0"/>
                </a:lnTo>
                <a:lnTo>
                  <a:pt x="268" y="0"/>
                </a:lnTo>
                <a:lnTo>
                  <a:pt x="19" y="124"/>
                </a:lnTo>
                <a:lnTo>
                  <a:pt x="11" y="128"/>
                </a:lnTo>
                <a:lnTo>
                  <a:pt x="3" y="136"/>
                </a:lnTo>
                <a:lnTo>
                  <a:pt x="3" y="143"/>
                </a:lnTo>
                <a:lnTo>
                  <a:pt x="0" y="151"/>
                </a:lnTo>
                <a:lnTo>
                  <a:pt x="0" y="159"/>
                </a:lnTo>
                <a:lnTo>
                  <a:pt x="3" y="166"/>
                </a:lnTo>
                <a:lnTo>
                  <a:pt x="7" y="174"/>
                </a:lnTo>
                <a:lnTo>
                  <a:pt x="15" y="178"/>
                </a:lnTo>
                <a:lnTo>
                  <a:pt x="19" y="178"/>
                </a:lnTo>
                <a:lnTo>
                  <a:pt x="268" y="306"/>
                </a:lnTo>
                <a:lnTo>
                  <a:pt x="275" y="310"/>
                </a:lnTo>
                <a:lnTo>
                  <a:pt x="283" y="310"/>
                </a:lnTo>
                <a:lnTo>
                  <a:pt x="291" y="306"/>
                </a:lnTo>
                <a:lnTo>
                  <a:pt x="299" y="306"/>
                </a:lnTo>
                <a:lnTo>
                  <a:pt x="302" y="299"/>
                </a:lnTo>
                <a:lnTo>
                  <a:pt x="306" y="291"/>
                </a:lnTo>
                <a:lnTo>
                  <a:pt x="310" y="283"/>
                </a:lnTo>
                <a:lnTo>
                  <a:pt x="310" y="279"/>
                </a:lnTo>
                <a:lnTo>
                  <a:pt x="310" y="30"/>
                </a:lnTo>
                <a:lnTo>
                  <a:pt x="248" y="30"/>
                </a:lnTo>
                <a:lnTo>
                  <a:pt x="248" y="279"/>
                </a:lnTo>
                <a:lnTo>
                  <a:pt x="295" y="252"/>
                </a:lnTo>
                <a:lnTo>
                  <a:pt x="46" y="128"/>
                </a:lnTo>
                <a:lnTo>
                  <a:pt x="46" y="182"/>
                </a:lnTo>
                <a:lnTo>
                  <a:pt x="295" y="57"/>
                </a:lnTo>
                <a:lnTo>
                  <a:pt x="248" y="30"/>
                </a:lnTo>
                <a:lnTo>
                  <a:pt x="31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718080" y="3238560"/>
            <a:ext cx="1346400" cy="2324520"/>
          </a:xfrm>
          <a:custGeom>
            <a:avLst/>
            <a:gdLst/>
            <a:ahLst/>
            <a:rect l="0" t="0" r="r" b="b"/>
            <a:pathLst>
              <a:path w="3740" h="6457">
                <a:moveTo>
                  <a:pt x="0" y="0"/>
                </a:moveTo>
                <a:lnTo>
                  <a:pt x="2929" y="2942"/>
                </a:lnTo>
                <a:lnTo>
                  <a:pt x="2929" y="2121"/>
                </a:lnTo>
                <a:lnTo>
                  <a:pt x="3740" y="3346"/>
                </a:lnTo>
                <a:lnTo>
                  <a:pt x="2929" y="4491"/>
                </a:lnTo>
                <a:lnTo>
                  <a:pt x="2929" y="3674"/>
                </a:lnTo>
                <a:lnTo>
                  <a:pt x="0" y="645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3703680" y="5362560"/>
            <a:ext cx="345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3703680" y="5208480"/>
            <a:ext cx="345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703680" y="5070600"/>
            <a:ext cx="345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3703680" y="4925880"/>
            <a:ext cx="345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668760" y="4781520"/>
            <a:ext cx="417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3703680" y="4645080"/>
            <a:ext cx="345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3703680" y="4492800"/>
            <a:ext cx="345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668760" y="4362480"/>
            <a:ext cx="417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900" name=""/>
            <p:cNvSpPr/>
            <p:nvPr/>
          </p:nvSpPr>
          <p:spPr>
            <a:xfrm>
              <a:off x="241200" y="655560"/>
              <a:ext cx="257400" cy="249480"/>
            </a:xfrm>
            <a:custGeom>
              <a:avLst/>
              <a:gdLst/>
              <a:ahLst/>
              <a:rect l="0" t="0" r="r" b="b"/>
              <a:pathLst>
                <a:path w="715" h="693">
                  <a:moveTo>
                    <a:pt x="0" y="693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69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904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fill="none"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fill="none"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80880" y="4114800"/>
            <a:ext cx="852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Effective execution time of most instruction in 100(80)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Optimized branch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branch instruction (Jump, Cond. Jump, Call, Return,...) only one additional machine cycle is normally required to fetch target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Jump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loop processing no additional machine cycle is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1747800" y="863640"/>
            <a:ext cx="7243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ur Stage Instruction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57200" y="16765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Processing of each instruction is partitioned in 4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1736640" y="2171520"/>
            <a:ext cx="5649840" cy="189396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 txBox="1"/>
          <p:nvPr/>
        </p:nvSpPr>
        <p:spPr>
          <a:xfrm>
            <a:off x="428760" y="2185920"/>
            <a:ext cx="86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28760" y="2567160"/>
            <a:ext cx="110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28760" y="3024360"/>
            <a:ext cx="1158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428760" y="3481560"/>
            <a:ext cx="1496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rit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1881360" y="2247840"/>
            <a:ext cx="816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Inst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2719440" y="2247840"/>
            <a:ext cx="816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Inst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3481560" y="2247840"/>
            <a:ext cx="816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Inst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319640" y="2247840"/>
            <a:ext cx="816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Inst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7365960" y="3641760"/>
            <a:ext cx="5796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2735280" y="3868560"/>
            <a:ext cx="39337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Machine Cycle = 100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(8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s at 20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(2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Hz CPU 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945" name=""/>
            <p:cNvSpPr/>
            <p:nvPr/>
          </p:nvSpPr>
          <p:spPr>
            <a:xfrm>
              <a:off x="241200" y="655560"/>
              <a:ext cx="257400" cy="249480"/>
            </a:xfrm>
            <a:custGeom>
              <a:avLst/>
              <a:gdLst/>
              <a:ahLst/>
              <a:rect l="0" t="0" r="r" b="b"/>
              <a:pathLst>
                <a:path w="715" h="693">
                  <a:moveTo>
                    <a:pt x="0" y="693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69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949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fill="none"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fill="none"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1690560" y="868320"/>
            <a:ext cx="72216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ructi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Data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ithmetic and boolean instruction incl. fast multiply/divide in 0.5/1.0us (0.4/0.80µ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up to 15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t shift and rotate in 100(80)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t to bit manipulation in internal RAM and SF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Data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V instructions with all important addressing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te to word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stack (PUSH, POP) with over- and underflow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r stack (MOV with auto increment and dec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978" name=""/>
            <p:cNvSpPr/>
            <p:nvPr/>
          </p:nvSpPr>
          <p:spPr>
            <a:xfrm>
              <a:off x="241200" y="655560"/>
              <a:ext cx="257400" cy="249480"/>
            </a:xfrm>
            <a:custGeom>
              <a:avLst/>
              <a:gdLst/>
              <a:ahLst/>
              <a:rect l="0" t="0" r="r" b="b"/>
              <a:pathLst>
                <a:path w="715" h="693">
                  <a:moveTo>
                    <a:pt x="0" y="693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69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982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fill="none"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4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fill="none"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1747800" y="787320"/>
            <a:ext cx="7243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..Instructi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Program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mps and calls / conditional jumps under 16 different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ftware- and hardware-Tr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context switching in 100(80)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Special instruction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 reduction and system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n-interruptable instruction sequences (C167 / C1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tended addressing access (C167 / C1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011" name=""/>
            <p:cNvSpPr/>
            <p:nvPr/>
          </p:nvSpPr>
          <p:spPr>
            <a:xfrm>
              <a:off x="241200" y="655560"/>
              <a:ext cx="257400" cy="249480"/>
            </a:xfrm>
            <a:custGeom>
              <a:avLst/>
              <a:gdLst/>
              <a:ahLst/>
              <a:rect l="0" t="0" r="r" b="b"/>
              <a:pathLst>
                <a:path w="715" h="693">
                  <a:moveTo>
                    <a:pt x="0" y="693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69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015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fill="none"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fill="none"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752480" y="863640"/>
            <a:ext cx="71596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Complete address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n Neumann” architecture with multiple internal bus structure to avoid bus bottlen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4KByte non-segmented address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 to 16 MBytes (256KB on the ‘C166) segmented address space: 64KB code segments and 16K data p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Internal address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 to 128KBytes ROM / Flash-EPROM (32K on the ‘C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. 4KB RAM (C167) plus 1 KBytes SFR’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166: 1KB RAM; C165: 2KB RA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044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048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fill="none"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0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747800" y="863640"/>
            <a:ext cx="7243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..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Flexible ext. bus configurations to simplify system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 to 24-bit Address / 8-bit Data (MUX and NM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 to 24-bit Address / 16-bit Data (MUX and NM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ve (two on 80C166) completely independent configuration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ve (C167 / C165) programmable chip selects and programmable bus control signal to save external glue-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grammable HOLD/HOLDA/BREQ bus arbitration function for multi-master 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078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082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fill="none"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4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1752480" y="711360"/>
            <a:ext cx="71596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nal and external Memory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43080" y="5297400"/>
            <a:ext cx="190440" cy="15228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517680" y="5259240"/>
            <a:ext cx="1468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t Addressable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43080" y="5526000"/>
            <a:ext cx="190440" cy="1522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517680" y="5487840"/>
            <a:ext cx="114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-Bus Periph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1965240" y="1430280"/>
            <a:ext cx="28353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gment 0 includes Internal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552760" y="1752480"/>
            <a:ext cx="152388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552760" y="1752480"/>
            <a:ext cx="1523880" cy="15228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552760" y="2209680"/>
            <a:ext cx="1523880" cy="15228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552760" y="3352680"/>
            <a:ext cx="1523880" cy="15228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552760" y="3809880"/>
            <a:ext cx="1523880" cy="1522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400480" y="2209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400480" y="2666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400480" y="17524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400480" y="3809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400480" y="31240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925720" y="1832040"/>
            <a:ext cx="7779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512 By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FR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1881360" y="2212920"/>
            <a:ext cx="66348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0C166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167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165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2849400" y="2365200"/>
            <a:ext cx="9302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nal 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4022640" y="2289240"/>
            <a:ext cx="345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2022480" y="2746440"/>
            <a:ext cx="522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167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165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2022480" y="427032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167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400480" y="4191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400480" y="4572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4022640" y="2670120"/>
            <a:ext cx="345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4022640" y="4194000"/>
            <a:ext cx="345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2768760" y="4270320"/>
            <a:ext cx="1093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-Chip X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849400" y="2746440"/>
            <a:ext cx="9302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nal 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2971800" y="4651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2602080" y="5108400"/>
            <a:ext cx="142560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OM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lash EP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mappable to Seg. 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400480" y="5105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400480" y="5715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400480" y="3352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022480" y="335592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167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2908440" y="3432240"/>
            <a:ext cx="8128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512 By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t. SFR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4175280" y="5565600"/>
            <a:ext cx="536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175280" y="3660840"/>
            <a:ext cx="544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F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4175280" y="4041720"/>
            <a:ext cx="536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175280" y="4422600"/>
            <a:ext cx="550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E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4175280" y="4956120"/>
            <a:ext cx="536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4175280" y="2060640"/>
            <a:ext cx="558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FE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4175280" y="2517840"/>
            <a:ext cx="558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FA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4175280" y="2975040"/>
            <a:ext cx="544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F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4175280" y="3203640"/>
            <a:ext cx="544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F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4175280" y="1603440"/>
            <a:ext cx="536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2575080" y="1635120"/>
            <a:ext cx="1528560" cy="187200"/>
            <a:chOff x="2575080" y="1635120"/>
            <a:chExt cx="1528560" cy="187200"/>
          </a:xfrm>
        </p:grpSpPr>
        <p:sp>
          <p:nvSpPr>
            <p:cNvPr id="1155" name=""/>
            <p:cNvSpPr txBox="1"/>
            <p:nvPr/>
          </p:nvSpPr>
          <p:spPr>
            <a:xfrm>
              <a:off x="2575080" y="1635120"/>
              <a:ext cx="233280" cy="18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 txBox="1"/>
            <p:nvPr/>
          </p:nvSpPr>
          <p:spPr>
            <a:xfrm>
              <a:off x="3870360" y="1635120"/>
              <a:ext cx="233280" cy="18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"/>
          <p:cNvSpPr txBox="1"/>
          <p:nvPr/>
        </p:nvSpPr>
        <p:spPr>
          <a:xfrm>
            <a:off x="4022640" y="5337000"/>
            <a:ext cx="417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2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4022640" y="1832040"/>
            <a:ext cx="452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5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4022640" y="3432240"/>
            <a:ext cx="452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5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2955960" y="3127320"/>
            <a:ext cx="72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2955960" y="3965400"/>
            <a:ext cx="72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552760" y="1752480"/>
            <a:ext cx="1523880" cy="3962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6537240" y="1638360"/>
            <a:ext cx="15476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 to 16 M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7086600" y="5715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16292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1629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7162920" y="5486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7162920" y="4343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162920" y="4114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162920" y="4572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162920" y="3429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7162920" y="3200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7162920" y="3657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162920" y="2514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16292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16292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7162920" y="2057400"/>
            <a:ext cx="304920" cy="365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162920" y="2031840"/>
            <a:ext cx="3049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267080" y="571500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267080" y="1752480"/>
            <a:ext cx="2438640" cy="3048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5851440" y="1908000"/>
            <a:ext cx="10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de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7756560" y="1908000"/>
            <a:ext cx="847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a P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6967440" y="5108400"/>
            <a:ext cx="254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967440" y="4194000"/>
            <a:ext cx="254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6967440" y="3279600"/>
            <a:ext cx="254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6967440" y="2441520"/>
            <a:ext cx="254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7523280" y="4803840"/>
            <a:ext cx="254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7523280" y="5032440"/>
            <a:ext cx="254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7523280" y="5261040"/>
            <a:ext cx="254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7523280" y="5489640"/>
            <a:ext cx="254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7523280" y="3889440"/>
            <a:ext cx="254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7523280" y="4118040"/>
            <a:ext cx="254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7523280" y="4346640"/>
            <a:ext cx="254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7523280" y="4575240"/>
            <a:ext cx="254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7451640" y="2975040"/>
            <a:ext cx="325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7451640" y="3203640"/>
            <a:ext cx="325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7523280" y="3432240"/>
            <a:ext cx="254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7523280" y="3660840"/>
            <a:ext cx="254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7451640" y="2060640"/>
            <a:ext cx="325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7451640" y="2289240"/>
            <a:ext cx="325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7451640" y="2517840"/>
            <a:ext cx="325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7451640" y="2746440"/>
            <a:ext cx="325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05720" y="48006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08660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086600" y="2971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086600" y="2076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7238880" y="5257800"/>
            <a:ext cx="152280" cy="45720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238880" y="2971800"/>
            <a:ext cx="152280" cy="137160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238880" y="4343400"/>
            <a:ext cx="152280" cy="4572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7315200" y="335268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7315200" y="4267080"/>
            <a:ext cx="914400" cy="121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8137440" y="4041720"/>
            <a:ext cx="6080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OM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L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6754680" y="4638600"/>
            <a:ext cx="46656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6754680" y="3724200"/>
            <a:ext cx="46656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6754680" y="2809800"/>
            <a:ext cx="46656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6732720" y="2048040"/>
            <a:ext cx="48888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FF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218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222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fill="none"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752480" y="711360"/>
            <a:ext cx="71596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de and Data Addressing via Segmentation and P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251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4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255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fill="none"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1" name="" descr=""/>
          <p:cNvPicPr/>
          <p:nvPr/>
        </p:nvPicPr>
        <p:blipFill>
          <a:blip r:embed="rId1"/>
          <a:stretch/>
        </p:blipFill>
        <p:spPr>
          <a:xfrm>
            <a:off x="571680" y="2187720"/>
            <a:ext cx="8161200" cy="2865600"/>
          </a:xfrm>
          <a:prstGeom prst="rect">
            <a:avLst/>
          </a:prstGeom>
          <a:ln w="0">
            <a:noFill/>
          </a:ln>
        </p:spPr>
      </p:pic>
      <p:sp>
        <p:nvSpPr>
          <p:cNvPr id="1282" name=""/>
          <p:cNvSpPr txBox="1"/>
          <p:nvPr/>
        </p:nvSpPr>
        <p:spPr>
          <a:xfrm>
            <a:off x="257040" y="1822320"/>
            <a:ext cx="38797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ddressing with Data Page Pointer (DP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4753080" y="1822320"/>
            <a:ext cx="37418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de addressing with Code Segment Po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114640" y="2309760"/>
            <a:ext cx="111924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2036880" y="2309760"/>
            <a:ext cx="13302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6-bit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583160" y="2319480"/>
            <a:ext cx="142092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553080" y="2319480"/>
            <a:ext cx="191628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4521240" y="2313000"/>
            <a:ext cx="1636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de Seg. Po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6645240" y="2300400"/>
            <a:ext cx="16858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6-bit Instr. Po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434880" y="3017880"/>
            <a:ext cx="14302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lection of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Page Po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4935600" y="3292560"/>
            <a:ext cx="11336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-bit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4971960" y="3681360"/>
            <a:ext cx="10400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7207200" y="3524400"/>
            <a:ext cx="628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6-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2478240" y="3848040"/>
            <a:ext cx="628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-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774720" y="4660920"/>
            <a:ext cx="628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1338120" y="453852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4959360" y="4826160"/>
            <a:ext cx="26542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sical 24-bit Code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18-bit on the 80C16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603360" y="5162400"/>
            <a:ext cx="2595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sical 24-bit Data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18-bit on the 80C16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762120" y="3456000"/>
            <a:ext cx="6494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P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762120" y="3722760"/>
            <a:ext cx="6494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P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762120" y="3989520"/>
            <a:ext cx="6494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P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762120" y="4255920"/>
            <a:ext cx="6494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PP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1752480" y="711360"/>
            <a:ext cx="71596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a Addressing via Extend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306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310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fill="none"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2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"/>
          <p:cNvSpPr txBox="1"/>
          <p:nvPr/>
        </p:nvSpPr>
        <p:spPr>
          <a:xfrm>
            <a:off x="304920" y="1812960"/>
            <a:ext cx="852480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Overrides standard DPP addressing scheme to ease large (up to 32-bit) address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gment or Page override by an immediat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gment and Page override by a Register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49200" y="4246560"/>
            <a:ext cx="1629360" cy="395640"/>
          </a:xfrm>
          <a:custGeom>
            <a:avLst/>
            <a:gdLst/>
            <a:ahLst/>
            <a:rect l="0" t="0" r="r" b="b"/>
            <a:pathLst>
              <a:path w="4526" h="1099">
                <a:moveTo>
                  <a:pt x="0" y="1099"/>
                </a:moveTo>
                <a:lnTo>
                  <a:pt x="4526" y="1099"/>
                </a:lnTo>
                <a:lnTo>
                  <a:pt x="4526" y="0"/>
                </a:lnTo>
                <a:lnTo>
                  <a:pt x="0" y="0"/>
                </a:lnTo>
                <a:lnTo>
                  <a:pt x="0" y="10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38040" y="4235400"/>
            <a:ext cx="1651320" cy="419400"/>
          </a:xfrm>
          <a:custGeom>
            <a:avLst/>
            <a:gdLst/>
            <a:ahLst/>
            <a:rect l="0" t="0" r="r" b="b"/>
            <a:pathLst>
              <a:path w="4587" h="1165">
                <a:moveTo>
                  <a:pt x="0" y="1165"/>
                </a:moveTo>
                <a:lnTo>
                  <a:pt x="4587" y="1165"/>
                </a:lnTo>
                <a:lnTo>
                  <a:pt x="4587" y="0"/>
                </a:lnTo>
                <a:lnTo>
                  <a:pt x="0" y="0"/>
                </a:lnTo>
                <a:lnTo>
                  <a:pt x="0" y="1165"/>
                </a:lnTo>
                <a:lnTo>
                  <a:pt x="65" y="1131"/>
                </a:lnTo>
                <a:lnTo>
                  <a:pt x="65" y="29"/>
                </a:lnTo>
                <a:lnTo>
                  <a:pt x="30" y="63"/>
                </a:lnTo>
                <a:lnTo>
                  <a:pt x="4556" y="63"/>
                </a:lnTo>
                <a:lnTo>
                  <a:pt x="4521" y="29"/>
                </a:lnTo>
                <a:lnTo>
                  <a:pt x="4521" y="1131"/>
                </a:lnTo>
                <a:lnTo>
                  <a:pt x="4556" y="1097"/>
                </a:lnTo>
                <a:lnTo>
                  <a:pt x="30" y="1097"/>
                </a:lnTo>
                <a:lnTo>
                  <a:pt x="65" y="1131"/>
                </a:lnTo>
                <a:lnTo>
                  <a:pt x="0" y="11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1911240" y="4657680"/>
            <a:ext cx="0" cy="41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1854360" y="4954680"/>
            <a:ext cx="114840" cy="114840"/>
          </a:xfrm>
          <a:custGeom>
            <a:avLst/>
            <a:gdLst/>
            <a:ahLst/>
            <a:rect l="0" t="0" r="r" b="b"/>
            <a:pathLst>
              <a:path w="319" h="319">
                <a:moveTo>
                  <a:pt x="319" y="0"/>
                </a:moveTo>
                <a:lnTo>
                  <a:pt x="159" y="319"/>
                </a:lnTo>
                <a:lnTo>
                  <a:pt x="0" y="0"/>
                </a:lnTo>
                <a:lnTo>
                  <a:pt x="31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090440" y="4657680"/>
            <a:ext cx="0" cy="41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1031760" y="4954680"/>
            <a:ext cx="114840" cy="114840"/>
          </a:xfrm>
          <a:custGeom>
            <a:avLst/>
            <a:gdLst/>
            <a:ahLst/>
            <a:rect l="0" t="0" r="r" b="b"/>
            <a:pathLst>
              <a:path w="319" h="319">
                <a:moveTo>
                  <a:pt x="319" y="0"/>
                </a:moveTo>
                <a:lnTo>
                  <a:pt x="164" y="319"/>
                </a:lnTo>
                <a:lnTo>
                  <a:pt x="0" y="0"/>
                </a:lnTo>
                <a:lnTo>
                  <a:pt x="31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239920" y="4246560"/>
            <a:ext cx="1626120" cy="395640"/>
          </a:xfrm>
          <a:custGeom>
            <a:avLst/>
            <a:gdLst/>
            <a:ahLst/>
            <a:rect l="0" t="0" r="r" b="b"/>
            <a:pathLst>
              <a:path w="4517" h="1099">
                <a:moveTo>
                  <a:pt x="0" y="1099"/>
                </a:moveTo>
                <a:lnTo>
                  <a:pt x="4517" y="1099"/>
                </a:lnTo>
                <a:lnTo>
                  <a:pt x="4517" y="0"/>
                </a:lnTo>
                <a:lnTo>
                  <a:pt x="0" y="0"/>
                </a:lnTo>
                <a:lnTo>
                  <a:pt x="0" y="10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227320" y="4235400"/>
            <a:ext cx="1651320" cy="419400"/>
          </a:xfrm>
          <a:custGeom>
            <a:avLst/>
            <a:gdLst/>
            <a:ahLst/>
            <a:rect l="0" t="0" r="r" b="b"/>
            <a:pathLst>
              <a:path w="4587" h="1165">
                <a:moveTo>
                  <a:pt x="0" y="1165"/>
                </a:moveTo>
                <a:lnTo>
                  <a:pt x="4587" y="1165"/>
                </a:lnTo>
                <a:lnTo>
                  <a:pt x="4587" y="0"/>
                </a:lnTo>
                <a:lnTo>
                  <a:pt x="0" y="0"/>
                </a:lnTo>
                <a:lnTo>
                  <a:pt x="0" y="1165"/>
                </a:lnTo>
                <a:lnTo>
                  <a:pt x="69" y="1131"/>
                </a:lnTo>
                <a:lnTo>
                  <a:pt x="69" y="29"/>
                </a:lnTo>
                <a:lnTo>
                  <a:pt x="34" y="63"/>
                </a:lnTo>
                <a:lnTo>
                  <a:pt x="4552" y="63"/>
                </a:lnTo>
                <a:lnTo>
                  <a:pt x="4517" y="29"/>
                </a:lnTo>
                <a:lnTo>
                  <a:pt x="4517" y="1131"/>
                </a:lnTo>
                <a:lnTo>
                  <a:pt x="4552" y="1097"/>
                </a:lnTo>
                <a:lnTo>
                  <a:pt x="34" y="1097"/>
                </a:lnTo>
                <a:lnTo>
                  <a:pt x="69" y="1131"/>
                </a:lnTo>
                <a:lnTo>
                  <a:pt x="0" y="11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803760" y="4657680"/>
            <a:ext cx="0" cy="41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746520" y="4954680"/>
            <a:ext cx="114840" cy="114840"/>
          </a:xfrm>
          <a:custGeom>
            <a:avLst/>
            <a:gdLst/>
            <a:ahLst/>
            <a:rect l="0" t="0" r="r" b="b"/>
            <a:pathLst>
              <a:path w="319" h="319">
                <a:moveTo>
                  <a:pt x="319" y="0"/>
                </a:moveTo>
                <a:lnTo>
                  <a:pt x="159" y="319"/>
                </a:lnTo>
                <a:lnTo>
                  <a:pt x="0" y="0"/>
                </a:lnTo>
                <a:lnTo>
                  <a:pt x="31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320920" y="4657680"/>
            <a:ext cx="0" cy="41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265480" y="4954680"/>
            <a:ext cx="114840" cy="114840"/>
          </a:xfrm>
          <a:custGeom>
            <a:avLst/>
            <a:gdLst/>
            <a:ahLst/>
            <a:rect l="0" t="0" r="r" b="b"/>
            <a:pathLst>
              <a:path w="319" h="319">
                <a:moveTo>
                  <a:pt x="319" y="0"/>
                </a:moveTo>
                <a:lnTo>
                  <a:pt x="155" y="319"/>
                </a:lnTo>
                <a:lnTo>
                  <a:pt x="0" y="0"/>
                </a:lnTo>
                <a:lnTo>
                  <a:pt x="31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5280120" y="4246560"/>
            <a:ext cx="1626120" cy="395640"/>
          </a:xfrm>
          <a:custGeom>
            <a:avLst/>
            <a:gdLst/>
            <a:ahLst/>
            <a:rect l="0" t="0" r="r" b="b"/>
            <a:pathLst>
              <a:path w="4517" h="1099">
                <a:moveTo>
                  <a:pt x="0" y="1099"/>
                </a:moveTo>
                <a:lnTo>
                  <a:pt x="4517" y="1099"/>
                </a:lnTo>
                <a:lnTo>
                  <a:pt x="4517" y="0"/>
                </a:lnTo>
                <a:lnTo>
                  <a:pt x="0" y="0"/>
                </a:lnTo>
                <a:lnTo>
                  <a:pt x="0" y="10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5267160" y="4235400"/>
            <a:ext cx="1651320" cy="419400"/>
          </a:xfrm>
          <a:custGeom>
            <a:avLst/>
            <a:gdLst/>
            <a:ahLst/>
            <a:rect l="0" t="0" r="r" b="b"/>
            <a:pathLst>
              <a:path w="4587" h="1165">
                <a:moveTo>
                  <a:pt x="0" y="1165"/>
                </a:moveTo>
                <a:lnTo>
                  <a:pt x="4587" y="1165"/>
                </a:lnTo>
                <a:lnTo>
                  <a:pt x="4587" y="0"/>
                </a:lnTo>
                <a:lnTo>
                  <a:pt x="0" y="0"/>
                </a:lnTo>
                <a:lnTo>
                  <a:pt x="0" y="1165"/>
                </a:lnTo>
                <a:lnTo>
                  <a:pt x="69" y="1131"/>
                </a:lnTo>
                <a:lnTo>
                  <a:pt x="69" y="29"/>
                </a:lnTo>
                <a:lnTo>
                  <a:pt x="34" y="63"/>
                </a:lnTo>
                <a:lnTo>
                  <a:pt x="4552" y="63"/>
                </a:lnTo>
                <a:lnTo>
                  <a:pt x="4517" y="29"/>
                </a:lnTo>
                <a:lnTo>
                  <a:pt x="4517" y="1131"/>
                </a:lnTo>
                <a:lnTo>
                  <a:pt x="4552" y="1097"/>
                </a:lnTo>
                <a:lnTo>
                  <a:pt x="34" y="1097"/>
                </a:lnTo>
                <a:lnTo>
                  <a:pt x="69" y="1131"/>
                </a:lnTo>
                <a:lnTo>
                  <a:pt x="0" y="11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838920" y="4657680"/>
            <a:ext cx="0" cy="41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781680" y="4954680"/>
            <a:ext cx="114840" cy="114840"/>
          </a:xfrm>
          <a:custGeom>
            <a:avLst/>
            <a:gdLst/>
            <a:ahLst/>
            <a:rect l="0" t="0" r="r" b="b"/>
            <a:pathLst>
              <a:path w="319" h="319">
                <a:moveTo>
                  <a:pt x="319" y="0"/>
                </a:moveTo>
                <a:lnTo>
                  <a:pt x="159" y="319"/>
                </a:lnTo>
                <a:lnTo>
                  <a:pt x="0" y="0"/>
                </a:lnTo>
                <a:lnTo>
                  <a:pt x="31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5807160" y="4664160"/>
            <a:ext cx="0" cy="41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749920" y="4960800"/>
            <a:ext cx="114840" cy="114840"/>
          </a:xfrm>
          <a:custGeom>
            <a:avLst/>
            <a:gdLst/>
            <a:ahLst/>
            <a:rect l="0" t="0" r="r" b="b"/>
            <a:pathLst>
              <a:path w="319" h="319">
                <a:moveTo>
                  <a:pt x="319" y="0"/>
                </a:moveTo>
                <a:lnTo>
                  <a:pt x="159" y="319"/>
                </a:lnTo>
                <a:lnTo>
                  <a:pt x="0" y="0"/>
                </a:lnTo>
                <a:lnTo>
                  <a:pt x="31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167600" y="4246560"/>
            <a:ext cx="1629000" cy="395640"/>
          </a:xfrm>
          <a:custGeom>
            <a:avLst/>
            <a:gdLst/>
            <a:ahLst/>
            <a:rect l="0" t="0" r="r" b="b"/>
            <a:pathLst>
              <a:path w="4525" h="1099">
                <a:moveTo>
                  <a:pt x="0" y="1099"/>
                </a:moveTo>
                <a:lnTo>
                  <a:pt x="4525" y="1099"/>
                </a:lnTo>
                <a:lnTo>
                  <a:pt x="4525" y="0"/>
                </a:lnTo>
                <a:lnTo>
                  <a:pt x="0" y="0"/>
                </a:lnTo>
                <a:lnTo>
                  <a:pt x="0" y="10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56440" y="4235400"/>
            <a:ext cx="1651320" cy="419400"/>
          </a:xfrm>
          <a:custGeom>
            <a:avLst/>
            <a:gdLst/>
            <a:ahLst/>
            <a:rect l="0" t="0" r="r" b="b"/>
            <a:pathLst>
              <a:path w="4587" h="1165">
                <a:moveTo>
                  <a:pt x="0" y="1165"/>
                </a:moveTo>
                <a:lnTo>
                  <a:pt x="4587" y="1165"/>
                </a:lnTo>
                <a:lnTo>
                  <a:pt x="4587" y="0"/>
                </a:lnTo>
                <a:lnTo>
                  <a:pt x="0" y="0"/>
                </a:lnTo>
                <a:lnTo>
                  <a:pt x="0" y="1165"/>
                </a:lnTo>
                <a:lnTo>
                  <a:pt x="65" y="1131"/>
                </a:lnTo>
                <a:lnTo>
                  <a:pt x="65" y="29"/>
                </a:lnTo>
                <a:lnTo>
                  <a:pt x="30" y="63"/>
                </a:lnTo>
                <a:lnTo>
                  <a:pt x="4556" y="63"/>
                </a:lnTo>
                <a:lnTo>
                  <a:pt x="4521" y="29"/>
                </a:lnTo>
                <a:lnTo>
                  <a:pt x="4521" y="1131"/>
                </a:lnTo>
                <a:lnTo>
                  <a:pt x="4556" y="1097"/>
                </a:lnTo>
                <a:lnTo>
                  <a:pt x="30" y="1097"/>
                </a:lnTo>
                <a:lnTo>
                  <a:pt x="65" y="1131"/>
                </a:lnTo>
                <a:lnTo>
                  <a:pt x="0" y="11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8732880" y="4657680"/>
            <a:ext cx="0" cy="41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8675640" y="4954680"/>
            <a:ext cx="114840" cy="114840"/>
          </a:xfrm>
          <a:custGeom>
            <a:avLst/>
            <a:gdLst/>
            <a:ahLst/>
            <a:rect l="0" t="0" r="r" b="b"/>
            <a:pathLst>
              <a:path w="319" h="319">
                <a:moveTo>
                  <a:pt x="319" y="0"/>
                </a:moveTo>
                <a:lnTo>
                  <a:pt x="159" y="319"/>
                </a:lnTo>
                <a:lnTo>
                  <a:pt x="0" y="0"/>
                </a:lnTo>
                <a:lnTo>
                  <a:pt x="31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423200" y="4668840"/>
            <a:ext cx="0" cy="41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364520" y="4965840"/>
            <a:ext cx="114840" cy="114840"/>
          </a:xfrm>
          <a:custGeom>
            <a:avLst/>
            <a:gdLst/>
            <a:ahLst/>
            <a:rect l="0" t="0" r="r" b="b"/>
            <a:pathLst>
              <a:path w="319" h="319">
                <a:moveTo>
                  <a:pt x="319" y="0"/>
                </a:moveTo>
                <a:lnTo>
                  <a:pt x="164" y="319"/>
                </a:lnTo>
                <a:lnTo>
                  <a:pt x="0" y="0"/>
                </a:lnTo>
                <a:lnTo>
                  <a:pt x="31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212760" y="3085920"/>
            <a:ext cx="33656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amples:  </a:t>
            </a:r>
            <a:r>
              <a:rPr b="1" lang="en-US" sz="1400" spc="-1" strike="noStrike">
                <a:solidFill>
                  <a:srgbClr val="063de8"/>
                </a:solidFill>
                <a:latin typeface="Arial"/>
                <a:ea typeface="Arial"/>
              </a:rPr>
              <a:t>Override Segment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5775480" y="3085920"/>
            <a:ext cx="21114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  <a:ea typeface="Arial"/>
              </a:rPr>
              <a:t>Override Pag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289080" y="3467160"/>
            <a:ext cx="4878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63de8"/>
                </a:solidFill>
                <a:latin typeface="Courier New"/>
                <a:ea typeface="Courier New"/>
              </a:rPr>
              <a:t>EXTS RN,#data2 ;data2:No. of i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63de8"/>
                </a:solidFill>
                <a:latin typeface="Courier New"/>
                <a:ea typeface="Courier New"/>
              </a:rPr>
              <a:t>MOV [RM],Ri    ;to be used for Ext.Addr.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5927760" y="3467160"/>
            <a:ext cx="1784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63de8"/>
                </a:solidFill>
                <a:latin typeface="Courier New"/>
                <a:ea typeface="Courier New"/>
              </a:rPr>
              <a:t>EXTP RN, #dat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63de8"/>
                </a:solidFill>
                <a:latin typeface="Courier New"/>
                <a:ea typeface="Courier New"/>
              </a:rPr>
              <a:t>MOV [RM], 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922320" y="4305240"/>
            <a:ext cx="4413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2741760" y="4305240"/>
            <a:ext cx="4604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5875200" y="4305240"/>
            <a:ext cx="4413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7770960" y="4305240"/>
            <a:ext cx="4604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266760" y="5392800"/>
            <a:ext cx="38862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hysical address, where the contents of Ri is mov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4991040" y="5392800"/>
            <a:ext cx="38862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hysical address, where the contents of Ri is mov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281160" y="4021200"/>
            <a:ext cx="35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1847880" y="4021200"/>
            <a:ext cx="2682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3753000" y="4021200"/>
            <a:ext cx="2682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6800760" y="4021200"/>
            <a:ext cx="2682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8705880" y="4021200"/>
            <a:ext cx="2682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5157720" y="4021200"/>
            <a:ext cx="35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7062840" y="4021200"/>
            <a:ext cx="35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2109960" y="4021200"/>
            <a:ext cx="35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1847880" y="4630680"/>
            <a:ext cx="2682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3753000" y="4630680"/>
            <a:ext cx="2682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6800760" y="4630680"/>
            <a:ext cx="2682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8705880" y="4630680"/>
            <a:ext cx="2682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7367760" y="4630680"/>
            <a:ext cx="35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7164360" y="5087880"/>
            <a:ext cx="455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8578800" y="5087880"/>
            <a:ext cx="3697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6630840" y="5087880"/>
            <a:ext cx="455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5564160" y="5087880"/>
            <a:ext cx="455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3625920" y="5087880"/>
            <a:ext cx="3697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2058840" y="5087880"/>
            <a:ext cx="455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1677960" y="5087880"/>
            <a:ext cx="455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839880" y="5087880"/>
            <a:ext cx="455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5810400" y="4630680"/>
            <a:ext cx="2682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2262240" y="4630680"/>
            <a:ext cx="35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1085760" y="4630680"/>
            <a:ext cx="2682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81200" y="6095880"/>
            <a:ext cx="250200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Architectural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60480" y="3033720"/>
            <a:ext cx="5413680" cy="2291040"/>
          </a:xfrm>
          <a:custGeom>
            <a:avLst/>
            <a:gdLst/>
            <a:ahLst/>
            <a:rect l="0" t="0" r="r" b="b"/>
            <a:pathLst>
              <a:path w="15038" h="6364">
                <a:moveTo>
                  <a:pt x="0" y="0"/>
                </a:moveTo>
                <a:lnTo>
                  <a:pt x="0" y="6364"/>
                </a:lnTo>
                <a:lnTo>
                  <a:pt x="15038" y="6364"/>
                </a:lnTo>
                <a:lnTo>
                  <a:pt x="15038" y="0"/>
                </a:lnTo>
                <a:lnTo>
                  <a:pt x="13208" y="0"/>
                </a:lnTo>
                <a:lnTo>
                  <a:pt x="13208" y="1932"/>
                </a:lnTo>
                <a:lnTo>
                  <a:pt x="1839" y="1932"/>
                </a:lnTo>
                <a:lnTo>
                  <a:pt x="1839" y="0"/>
                </a:lnTo>
                <a:lnTo>
                  <a:pt x="0" y="0"/>
                </a:lnTo>
                <a:close/>
              </a:path>
            </a:pathLst>
          </a:custGeom>
          <a:solidFill>
            <a:srgbClr val="21212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60480" y="3033720"/>
            <a:ext cx="5423400" cy="2300760"/>
          </a:xfrm>
          <a:custGeom>
            <a:avLst/>
            <a:gdLst/>
            <a:ahLst/>
            <a:rect l="0" t="0" r="r" b="b"/>
            <a:pathLst>
              <a:path fill="none" w="15065" h="6391">
                <a:moveTo>
                  <a:pt x="0" y="0"/>
                </a:moveTo>
                <a:lnTo>
                  <a:pt x="0" y="6391"/>
                </a:lnTo>
                <a:lnTo>
                  <a:pt x="15065" y="6391"/>
                </a:lnTo>
                <a:lnTo>
                  <a:pt x="15065" y="0"/>
                </a:lnTo>
                <a:lnTo>
                  <a:pt x="13232" y="0"/>
                </a:lnTo>
                <a:lnTo>
                  <a:pt x="13232" y="1941"/>
                </a:lnTo>
                <a:lnTo>
                  <a:pt x="1842" y="1941"/>
                </a:lnTo>
                <a:lnTo>
                  <a:pt x="1842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60480" y="1590840"/>
            <a:ext cx="5413680" cy="1391040"/>
          </a:xfrm>
          <a:custGeom>
            <a:avLst/>
            <a:gdLst/>
            <a:ahLst/>
            <a:rect l="0" t="0" r="r" b="b"/>
            <a:pathLst>
              <a:path w="15038" h="3864">
                <a:moveTo>
                  <a:pt x="101" y="0"/>
                </a:moveTo>
                <a:lnTo>
                  <a:pt x="15038" y="0"/>
                </a:lnTo>
                <a:lnTo>
                  <a:pt x="15038" y="3864"/>
                </a:lnTo>
                <a:lnTo>
                  <a:pt x="0" y="3864"/>
                </a:lnTo>
                <a:lnTo>
                  <a:pt x="0" y="0"/>
                </a:lnTo>
                <a:lnTo>
                  <a:pt x="101" y="0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60480" y="1590840"/>
            <a:ext cx="5423400" cy="1402200"/>
          </a:xfrm>
          <a:custGeom>
            <a:avLst/>
            <a:gdLst/>
            <a:ahLst/>
            <a:rect l="0" t="0" r="r" b="b"/>
            <a:pathLst>
              <a:path fill="none" w="15065" h="3895">
                <a:moveTo>
                  <a:pt x="102" y="0"/>
                </a:moveTo>
                <a:lnTo>
                  <a:pt x="15065" y="0"/>
                </a:lnTo>
                <a:lnTo>
                  <a:pt x="15065" y="3895"/>
                </a:lnTo>
                <a:lnTo>
                  <a:pt x="0" y="3895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35000" y="3773520"/>
            <a:ext cx="5266080" cy="1468800"/>
          </a:xfrm>
          <a:custGeom>
            <a:avLst/>
            <a:gdLst/>
            <a:ahLst/>
            <a:rect l="0" t="0" r="r" b="b"/>
            <a:pathLst>
              <a:path w="14628" h="4080">
                <a:moveTo>
                  <a:pt x="1417" y="0"/>
                </a:moveTo>
                <a:lnTo>
                  <a:pt x="1417" y="2725"/>
                </a:lnTo>
                <a:lnTo>
                  <a:pt x="13196" y="2725"/>
                </a:lnTo>
                <a:lnTo>
                  <a:pt x="13196" y="0"/>
                </a:lnTo>
                <a:lnTo>
                  <a:pt x="14628" y="0"/>
                </a:lnTo>
                <a:lnTo>
                  <a:pt x="14628" y="4080"/>
                </a:lnTo>
                <a:lnTo>
                  <a:pt x="0" y="4080"/>
                </a:lnTo>
                <a:lnTo>
                  <a:pt x="0" y="0"/>
                </a:lnTo>
                <a:lnTo>
                  <a:pt x="141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35000" y="3773520"/>
            <a:ext cx="5275800" cy="1479960"/>
          </a:xfrm>
          <a:custGeom>
            <a:avLst/>
            <a:gdLst/>
            <a:ahLst/>
            <a:rect l="0" t="0" r="r" b="b"/>
            <a:pathLst>
              <a:path fill="none" w="14655" h="4111">
                <a:moveTo>
                  <a:pt x="1420" y="0"/>
                </a:moveTo>
                <a:lnTo>
                  <a:pt x="1420" y="2745"/>
                </a:lnTo>
                <a:lnTo>
                  <a:pt x="13221" y="2745"/>
                </a:lnTo>
                <a:lnTo>
                  <a:pt x="13221" y="0"/>
                </a:lnTo>
                <a:lnTo>
                  <a:pt x="14655" y="0"/>
                </a:lnTo>
                <a:lnTo>
                  <a:pt x="14655" y="4111"/>
                </a:lnTo>
                <a:lnTo>
                  <a:pt x="0" y="4111"/>
                </a:lnTo>
                <a:lnTo>
                  <a:pt x="0" y="0"/>
                </a:lnTo>
                <a:lnTo>
                  <a:pt x="1420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94560" y="3105000"/>
            <a:ext cx="492480" cy="533880"/>
          </a:xfrm>
          <a:custGeom>
            <a:avLst/>
            <a:gdLst/>
            <a:ahLst/>
            <a:rect l="0" t="0" r="r" b="b"/>
            <a:pathLst>
              <a:path w="1368" h="1483">
                <a:moveTo>
                  <a:pt x="0" y="1483"/>
                </a:moveTo>
                <a:lnTo>
                  <a:pt x="0" y="0"/>
                </a:lnTo>
                <a:lnTo>
                  <a:pt x="1368" y="0"/>
                </a:lnTo>
                <a:lnTo>
                  <a:pt x="1368" y="1483"/>
                </a:lnTo>
                <a:lnTo>
                  <a:pt x="0" y="14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94560" y="3105000"/>
            <a:ext cx="503640" cy="543240"/>
          </a:xfrm>
          <a:custGeom>
            <a:avLst/>
            <a:gdLst/>
            <a:ahLst/>
            <a:rect l="0" t="0" r="r" b="b"/>
            <a:pathLst>
              <a:path fill="none" w="1399" h="1509">
                <a:moveTo>
                  <a:pt x="0" y="1509"/>
                </a:moveTo>
                <a:lnTo>
                  <a:pt x="1399" y="1509"/>
                </a:lnTo>
                <a:lnTo>
                  <a:pt x="1399" y="0"/>
                </a:lnTo>
                <a:lnTo>
                  <a:pt x="0" y="0"/>
                </a:lnTo>
                <a:lnTo>
                  <a:pt x="0" y="150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1200" y="1689120"/>
            <a:ext cx="2757960" cy="1194120"/>
          </a:xfrm>
          <a:custGeom>
            <a:avLst/>
            <a:gdLst/>
            <a:ahLst/>
            <a:rect l="0" t="0" r="r" b="b"/>
            <a:pathLst>
              <a:path w="7661" h="3317">
                <a:moveTo>
                  <a:pt x="0" y="3317"/>
                </a:moveTo>
                <a:lnTo>
                  <a:pt x="0" y="0"/>
                </a:lnTo>
                <a:lnTo>
                  <a:pt x="7661" y="0"/>
                </a:lnTo>
                <a:lnTo>
                  <a:pt x="7661" y="3317"/>
                </a:lnTo>
                <a:lnTo>
                  <a:pt x="0" y="33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1200" y="1689120"/>
            <a:ext cx="2767320" cy="1205280"/>
          </a:xfrm>
          <a:custGeom>
            <a:avLst/>
            <a:gdLst/>
            <a:ahLst/>
            <a:rect l="0" t="0" r="r" b="b"/>
            <a:pathLst>
              <a:path fill="none" w="7687" h="3348">
                <a:moveTo>
                  <a:pt x="0" y="3348"/>
                </a:moveTo>
                <a:lnTo>
                  <a:pt x="7687" y="3348"/>
                </a:lnTo>
                <a:lnTo>
                  <a:pt x="7687" y="0"/>
                </a:lnTo>
                <a:lnTo>
                  <a:pt x="0" y="0"/>
                </a:lnTo>
                <a:lnTo>
                  <a:pt x="0" y="3348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7040" y="3085920"/>
            <a:ext cx="3926160" cy="536760"/>
          </a:xfrm>
          <a:custGeom>
            <a:avLst/>
            <a:gdLst/>
            <a:ahLst/>
            <a:rect l="0" t="0" r="r" b="b"/>
            <a:pathLst>
              <a:path w="10906" h="1491">
                <a:moveTo>
                  <a:pt x="0" y="1491"/>
                </a:moveTo>
                <a:lnTo>
                  <a:pt x="0" y="0"/>
                </a:lnTo>
                <a:lnTo>
                  <a:pt x="10906" y="0"/>
                </a:lnTo>
                <a:lnTo>
                  <a:pt x="10906" y="1491"/>
                </a:lnTo>
                <a:lnTo>
                  <a:pt x="0" y="14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7040" y="3085920"/>
            <a:ext cx="3937320" cy="547920"/>
          </a:xfrm>
          <a:custGeom>
            <a:avLst/>
            <a:gdLst/>
            <a:ahLst/>
            <a:rect l="0" t="0" r="r" b="b"/>
            <a:pathLst>
              <a:path fill="none" w="10937" h="1522">
                <a:moveTo>
                  <a:pt x="0" y="1522"/>
                </a:moveTo>
                <a:lnTo>
                  <a:pt x="10937" y="1522"/>
                </a:lnTo>
                <a:lnTo>
                  <a:pt x="10937" y="0"/>
                </a:lnTo>
                <a:lnTo>
                  <a:pt x="0" y="0"/>
                </a:lnTo>
                <a:lnTo>
                  <a:pt x="0" y="1522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75320" y="3100320"/>
            <a:ext cx="0" cy="517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710400" y="3421080"/>
            <a:ext cx="5112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WD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35000" y="3089160"/>
            <a:ext cx="487800" cy="533880"/>
          </a:xfrm>
          <a:custGeom>
            <a:avLst/>
            <a:gdLst/>
            <a:ahLst/>
            <a:rect l="0" t="0" r="r" b="b"/>
            <a:pathLst>
              <a:path w="1355" h="1483">
                <a:moveTo>
                  <a:pt x="0" y="1483"/>
                </a:moveTo>
                <a:lnTo>
                  <a:pt x="0" y="0"/>
                </a:lnTo>
                <a:lnTo>
                  <a:pt x="1355" y="0"/>
                </a:lnTo>
                <a:lnTo>
                  <a:pt x="1355" y="1483"/>
                </a:lnTo>
                <a:lnTo>
                  <a:pt x="0" y="14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35000" y="3089160"/>
            <a:ext cx="498960" cy="545040"/>
          </a:xfrm>
          <a:custGeom>
            <a:avLst/>
            <a:gdLst/>
            <a:ahLst/>
            <a:rect l="0" t="0" r="r" b="b"/>
            <a:pathLst>
              <a:path fill="none" w="1386" h="1514">
                <a:moveTo>
                  <a:pt x="0" y="1514"/>
                </a:moveTo>
                <a:lnTo>
                  <a:pt x="1386" y="1514"/>
                </a:lnTo>
                <a:lnTo>
                  <a:pt x="1386" y="0"/>
                </a:lnTo>
                <a:lnTo>
                  <a:pt x="0" y="0"/>
                </a:lnTo>
                <a:lnTo>
                  <a:pt x="0" y="1514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914480" y="3409920"/>
            <a:ext cx="53496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S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848200" y="3301920"/>
            <a:ext cx="48096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33960" y="2546280"/>
            <a:ext cx="7570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P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47960" y="1665360"/>
            <a:ext cx="991080" cy="1233720"/>
          </a:xfrm>
          <a:custGeom>
            <a:avLst/>
            <a:gdLst/>
            <a:ahLst/>
            <a:rect l="0" t="0" r="r" b="b"/>
            <a:pathLst>
              <a:path w="2753" h="3427">
                <a:moveTo>
                  <a:pt x="0" y="3427"/>
                </a:moveTo>
                <a:lnTo>
                  <a:pt x="0" y="0"/>
                </a:lnTo>
                <a:lnTo>
                  <a:pt x="2753" y="0"/>
                </a:lnTo>
                <a:lnTo>
                  <a:pt x="2753" y="3427"/>
                </a:lnTo>
                <a:lnTo>
                  <a:pt x="0" y="3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47960" y="1665360"/>
            <a:ext cx="1000440" cy="1243440"/>
          </a:xfrm>
          <a:custGeom>
            <a:avLst/>
            <a:gdLst/>
            <a:ahLst/>
            <a:rect l="0" t="0" r="r" b="b"/>
            <a:pathLst>
              <a:path fill="none" w="2779" h="3454">
                <a:moveTo>
                  <a:pt x="0" y="3454"/>
                </a:moveTo>
                <a:lnTo>
                  <a:pt x="2779" y="3454"/>
                </a:lnTo>
                <a:lnTo>
                  <a:pt x="2779" y="0"/>
                </a:lnTo>
                <a:lnTo>
                  <a:pt x="0" y="0"/>
                </a:lnTo>
                <a:lnTo>
                  <a:pt x="0" y="3454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11240" y="2330280"/>
            <a:ext cx="7444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M 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35760" y="1689120"/>
            <a:ext cx="1151280" cy="1209960"/>
          </a:xfrm>
          <a:custGeom>
            <a:avLst/>
            <a:gdLst/>
            <a:ahLst/>
            <a:rect l="0" t="0" r="r" b="b"/>
            <a:pathLst>
              <a:path w="3198" h="3361">
                <a:moveTo>
                  <a:pt x="0" y="3361"/>
                </a:moveTo>
                <a:lnTo>
                  <a:pt x="0" y="0"/>
                </a:lnTo>
                <a:lnTo>
                  <a:pt x="3198" y="0"/>
                </a:lnTo>
                <a:lnTo>
                  <a:pt x="3198" y="3361"/>
                </a:lnTo>
                <a:lnTo>
                  <a:pt x="0" y="33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35760" y="1689120"/>
            <a:ext cx="1162440" cy="1219680"/>
          </a:xfrm>
          <a:custGeom>
            <a:avLst/>
            <a:gdLst/>
            <a:ahLst/>
            <a:rect l="0" t="0" r="r" b="b"/>
            <a:pathLst>
              <a:path fill="none" w="3229" h="3388">
                <a:moveTo>
                  <a:pt x="0" y="3388"/>
                </a:moveTo>
                <a:lnTo>
                  <a:pt x="3229" y="3388"/>
                </a:lnTo>
                <a:lnTo>
                  <a:pt x="3229" y="0"/>
                </a:lnTo>
                <a:lnTo>
                  <a:pt x="0" y="0"/>
                </a:lnTo>
                <a:lnTo>
                  <a:pt x="0" y="3388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34080" y="2624040"/>
            <a:ext cx="627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11240" y="5024520"/>
            <a:ext cx="67464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OR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10000" y="3828960"/>
            <a:ext cx="3930840" cy="783000"/>
          </a:xfrm>
          <a:custGeom>
            <a:avLst/>
            <a:gdLst/>
            <a:ahLst/>
            <a:rect l="0" t="0" r="r" b="b"/>
            <a:pathLst>
              <a:path w="10919" h="2175">
                <a:moveTo>
                  <a:pt x="0" y="2175"/>
                </a:moveTo>
                <a:lnTo>
                  <a:pt x="0" y="0"/>
                </a:lnTo>
                <a:lnTo>
                  <a:pt x="10919" y="0"/>
                </a:lnTo>
                <a:lnTo>
                  <a:pt x="10919" y="2175"/>
                </a:lnTo>
                <a:lnTo>
                  <a:pt x="0" y="2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10000" y="3828960"/>
            <a:ext cx="3940560" cy="792360"/>
          </a:xfrm>
          <a:custGeom>
            <a:avLst/>
            <a:gdLst/>
            <a:ahLst/>
            <a:rect l="0" t="0" r="r" b="b"/>
            <a:pathLst>
              <a:path fill="none" w="10946" h="2201">
                <a:moveTo>
                  <a:pt x="0" y="2201"/>
                </a:moveTo>
                <a:lnTo>
                  <a:pt x="10946" y="2201"/>
                </a:lnTo>
                <a:lnTo>
                  <a:pt x="10946" y="0"/>
                </a:lnTo>
                <a:lnTo>
                  <a:pt x="0" y="0"/>
                </a:lnTo>
                <a:lnTo>
                  <a:pt x="0" y="2201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537160" y="3892680"/>
            <a:ext cx="7016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AP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037040" y="4133880"/>
            <a:ext cx="4413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24440" y="38289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78240" y="38289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717640" y="4049640"/>
            <a:ext cx="4096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717640" y="3884760"/>
            <a:ext cx="4348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t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879560"/>
            <a:ext cx="3653280" cy="648000"/>
          </a:xfrm>
          <a:custGeom>
            <a:avLst/>
            <a:gdLst/>
            <a:ahLst/>
            <a:rect l="0" t="0" r="r" b="b"/>
            <a:pathLst>
              <a:path w="10148" h="1800">
                <a:moveTo>
                  <a:pt x="0" y="1800"/>
                </a:moveTo>
                <a:lnTo>
                  <a:pt x="0" y="0"/>
                </a:lnTo>
                <a:lnTo>
                  <a:pt x="10148" y="0"/>
                </a:lnTo>
                <a:lnTo>
                  <a:pt x="10148" y="1800"/>
                </a:lnTo>
                <a:lnTo>
                  <a:pt x="0" y="1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962440" y="2004840"/>
            <a:ext cx="30891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cessor -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28920" y="3154320"/>
            <a:ext cx="2259360" cy="403560"/>
          </a:xfrm>
          <a:custGeom>
            <a:avLst/>
            <a:gdLst/>
            <a:ahLst/>
            <a:rect l="0" t="0" r="r" b="b"/>
            <a:pathLst>
              <a:path w="6276" h="1121">
                <a:moveTo>
                  <a:pt x="0" y="1121"/>
                </a:moveTo>
                <a:lnTo>
                  <a:pt x="0" y="0"/>
                </a:lnTo>
                <a:lnTo>
                  <a:pt x="6276" y="0"/>
                </a:lnTo>
                <a:lnTo>
                  <a:pt x="6276" y="1121"/>
                </a:lnTo>
                <a:lnTo>
                  <a:pt x="0" y="1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74920" y="3218040"/>
            <a:ext cx="222552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rupt-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03720" y="3889440"/>
            <a:ext cx="616320" cy="155880"/>
          </a:xfrm>
          <a:custGeom>
            <a:avLst/>
            <a:gdLst/>
            <a:ahLst/>
            <a:rect l="0" t="0" r="r" b="b"/>
            <a:pathLst>
              <a:path w="1712" h="433">
                <a:moveTo>
                  <a:pt x="0" y="433"/>
                </a:moveTo>
                <a:lnTo>
                  <a:pt x="0" y="0"/>
                </a:lnTo>
                <a:lnTo>
                  <a:pt x="1712" y="0"/>
                </a:lnTo>
                <a:lnTo>
                  <a:pt x="1712" y="433"/>
                </a:lnTo>
                <a:lnTo>
                  <a:pt x="0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45040" y="3884760"/>
            <a:ext cx="5875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S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40280" y="3913200"/>
            <a:ext cx="464040" cy="135360"/>
          </a:xfrm>
          <a:custGeom>
            <a:avLst/>
            <a:gdLst/>
            <a:ahLst/>
            <a:rect l="0" t="0" r="r" b="b"/>
            <a:pathLst>
              <a:path w="1289" h="376">
                <a:moveTo>
                  <a:pt x="0" y="376"/>
                </a:moveTo>
                <a:lnTo>
                  <a:pt x="0" y="0"/>
                </a:lnTo>
                <a:lnTo>
                  <a:pt x="1289" y="0"/>
                </a:lnTo>
                <a:lnTo>
                  <a:pt x="1289" y="376"/>
                </a:lnTo>
                <a:lnTo>
                  <a:pt x="0" y="3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843440" y="3876840"/>
            <a:ext cx="4921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G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39960" y="4305240"/>
            <a:ext cx="3613680" cy="730440"/>
          </a:xfrm>
          <a:custGeom>
            <a:avLst/>
            <a:gdLst/>
            <a:ahLst/>
            <a:rect l="0" t="0" r="r" b="b"/>
            <a:pathLst>
              <a:path w="10038" h="2029">
                <a:moveTo>
                  <a:pt x="0" y="2029"/>
                </a:moveTo>
                <a:lnTo>
                  <a:pt x="0" y="0"/>
                </a:lnTo>
                <a:lnTo>
                  <a:pt x="10038" y="0"/>
                </a:lnTo>
                <a:lnTo>
                  <a:pt x="10038" y="2029"/>
                </a:lnTo>
                <a:lnTo>
                  <a:pt x="0" y="20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986200" y="4567320"/>
            <a:ext cx="301464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eripheral-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60480" y="3033720"/>
            <a:ext cx="696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14480" y="2567160"/>
            <a:ext cx="6904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la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717640" y="4214880"/>
            <a:ext cx="6001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375000" y="3967200"/>
            <a:ext cx="5238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X-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75160" y="4133880"/>
            <a:ext cx="13622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ync Commun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12000" y="4133880"/>
            <a:ext cx="473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W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375000" y="4133880"/>
            <a:ext cx="784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eriphera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892080"/>
            <a:ext cx="85057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 Three Subsystems of the C166 Fami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" descr=""/>
          <p:cNvPicPr/>
          <p:nvPr/>
        </p:nvPicPr>
        <p:blipFill>
          <a:blip r:embed="rId1"/>
          <a:stretch/>
        </p:blipFill>
        <p:spPr>
          <a:xfrm>
            <a:off x="304920" y="-1852560"/>
            <a:ext cx="8542440" cy="8710560"/>
          </a:xfrm>
          <a:prstGeom prst="rect">
            <a:avLst/>
          </a:prstGeom>
          <a:ln w="0">
            <a:noFill/>
          </a:ln>
        </p:spPr>
      </p:pic>
      <p:sp>
        <p:nvSpPr>
          <p:cNvPr id="1396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1752480" y="863640"/>
            <a:ext cx="72388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arision of Bus Speed at Different Bus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152280" y="5638680"/>
            <a:ext cx="8763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ctr">
              <a:lnSpc>
                <a:spcPct val="90000"/>
              </a:lnSpc>
              <a:buClr>
                <a:srgbClr val="000000"/>
              </a:buClr>
              <a:buSzPct val="150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rnal bus speed optimization by prefetching into the instruction queue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-777960" y="3259080"/>
            <a:ext cx="23781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times at 20 MHz CPU 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0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401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4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405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fill="none"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7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241"/>
              </a:spcBef>
              <a:spcAft>
                <a:spcPts val="241"/>
              </a:spcAft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Interrupt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41"/>
              </a:spcBef>
              <a:spcAft>
                <a:spcPts val="24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tremely short interrupt response time of minimal 250(200)ns typical:400(320)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41"/>
              </a:spcBef>
              <a:spcAft>
                <a:spcPts val="24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rupt execution in small time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41"/>
              </a:spcBef>
              <a:spcAft>
                <a:spcPts val="24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sures highest real-time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41"/>
              </a:spcBef>
              <a:spcAft>
                <a:spcPts val="24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mprehensive prioritization sche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41"/>
              </a:spcBef>
              <a:spcAft>
                <a:spcPts val="241"/>
              </a:spcAft>
              <a:buClr>
                <a:srgbClr val="000000"/>
              </a:buClr>
              <a:buFont typeface="Monotype Sorts"/>
              <a:buChar char=""/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asy scheduling of complex real-time systems by using up to 64 priority levels (4 groups within 16 level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41"/>
              </a:spcBef>
              <a:spcAft>
                <a:spcPts val="24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n-maskable interrupt input (N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41"/>
              </a:spcBef>
              <a:spcAft>
                <a:spcPts val="24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rdware-Traps on runtime errors and Software-Tr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1752480" y="863640"/>
            <a:ext cx="7238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rup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435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439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fill="none"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CPU independent interrupt-service via </a:t>
            </a:r>
            <a:br>
              <a:rPr sz="2000"/>
            </a:b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Peripheral Events Controller (P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f-loads the CPU from simple but frequent interrupt-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rupt-driven “DMA-like” data transfer to any location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gment 0, without task switch of the 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kes peripheral data transfers Independent of running CPU 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se-time is minimal 150(120)ns, typical 300(240)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a CPU load of 100(80)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1752480" y="863640"/>
            <a:ext cx="7238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..Interrupt System (P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469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2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473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fill="none"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/>
          <p:nvPr/>
        </p:nvSpPr>
        <p:spPr>
          <a:xfrm>
            <a:off x="4657680" y="3286080"/>
            <a:ext cx="52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657680" y="3638520"/>
            <a:ext cx="52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657680" y="2523960"/>
            <a:ext cx="52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657680" y="2876400"/>
            <a:ext cx="52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7315200" y="1981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1353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146240" y="26668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1752480" y="863640"/>
            <a:ext cx="7238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rup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38040" y="2022480"/>
            <a:ext cx="974880" cy="12528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206880" y="1677960"/>
            <a:ext cx="426708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206880" y="1677960"/>
            <a:ext cx="4283280" cy="203400"/>
          </a:xfrm>
          <a:custGeom>
            <a:avLst/>
            <a:gdLst/>
            <a:ahLst/>
            <a:rect l="0" t="0" r="r" b="b"/>
            <a:pathLst>
              <a:path fill="none" w="11898" h="565">
                <a:moveTo>
                  <a:pt x="0" y="565"/>
                </a:moveTo>
                <a:lnTo>
                  <a:pt x="11898" y="565"/>
                </a:lnTo>
                <a:lnTo>
                  <a:pt x="11898" y="0"/>
                </a:lnTo>
                <a:lnTo>
                  <a:pt x="0" y="0"/>
                </a:lnTo>
                <a:lnTo>
                  <a:pt x="0" y="56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141720" y="1743120"/>
            <a:ext cx="4262400" cy="1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141720" y="1743120"/>
            <a:ext cx="4278600" cy="209880"/>
          </a:xfrm>
          <a:custGeom>
            <a:avLst/>
            <a:gdLst/>
            <a:ahLst/>
            <a:rect l="0" t="0" r="r" b="b"/>
            <a:pathLst>
              <a:path fill="none" w="11885" h="583">
                <a:moveTo>
                  <a:pt x="0" y="583"/>
                </a:moveTo>
                <a:lnTo>
                  <a:pt x="11885" y="583"/>
                </a:lnTo>
                <a:lnTo>
                  <a:pt x="11885" y="0"/>
                </a:lnTo>
                <a:lnTo>
                  <a:pt x="0" y="0"/>
                </a:lnTo>
                <a:lnTo>
                  <a:pt x="0" y="58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583080" y="2163600"/>
            <a:ext cx="1105200" cy="2161080"/>
          </a:xfrm>
          <a:custGeom>
            <a:avLst/>
            <a:gdLst/>
            <a:ahLst/>
            <a:rect l="0" t="0" r="r" b="b"/>
            <a:pathLst>
              <a:path w="3070" h="6003">
                <a:moveTo>
                  <a:pt x="0" y="6003"/>
                </a:moveTo>
                <a:lnTo>
                  <a:pt x="3070" y="6003"/>
                </a:lnTo>
                <a:lnTo>
                  <a:pt x="3070" y="0"/>
                </a:lnTo>
                <a:lnTo>
                  <a:pt x="0" y="0"/>
                </a:lnTo>
                <a:lnTo>
                  <a:pt x="0" y="600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3075120" y="1819440"/>
            <a:ext cx="4264200" cy="18900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068640" y="1812960"/>
            <a:ext cx="4275360" cy="201960"/>
          </a:xfrm>
          <a:custGeom>
            <a:avLst/>
            <a:gdLst/>
            <a:ahLst/>
            <a:rect l="0" t="0" r="r" b="b"/>
            <a:pathLst>
              <a:path w="11876" h="561">
                <a:moveTo>
                  <a:pt x="17" y="561"/>
                </a:moveTo>
                <a:lnTo>
                  <a:pt x="11876" y="556"/>
                </a:lnTo>
                <a:lnTo>
                  <a:pt x="11876" y="0"/>
                </a:lnTo>
                <a:lnTo>
                  <a:pt x="4" y="0"/>
                </a:lnTo>
                <a:lnTo>
                  <a:pt x="0" y="544"/>
                </a:lnTo>
                <a:lnTo>
                  <a:pt x="35" y="544"/>
                </a:lnTo>
                <a:lnTo>
                  <a:pt x="35" y="16"/>
                </a:lnTo>
                <a:lnTo>
                  <a:pt x="17" y="32"/>
                </a:lnTo>
                <a:lnTo>
                  <a:pt x="11858" y="32"/>
                </a:lnTo>
                <a:lnTo>
                  <a:pt x="11841" y="16"/>
                </a:lnTo>
                <a:lnTo>
                  <a:pt x="11841" y="544"/>
                </a:lnTo>
                <a:lnTo>
                  <a:pt x="11858" y="528"/>
                </a:lnTo>
                <a:lnTo>
                  <a:pt x="17" y="528"/>
                </a:lnTo>
                <a:lnTo>
                  <a:pt x="17" y="5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307200" y="3076560"/>
            <a:ext cx="642960" cy="40644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307200" y="3076560"/>
            <a:ext cx="657720" cy="421200"/>
          </a:xfrm>
          <a:custGeom>
            <a:avLst/>
            <a:gdLst/>
            <a:ahLst/>
            <a:rect l="0" t="0" r="r" b="b"/>
            <a:pathLst>
              <a:path fill="none" w="1827" h="1170">
                <a:moveTo>
                  <a:pt x="0" y="1170"/>
                </a:moveTo>
                <a:lnTo>
                  <a:pt x="1827" y="1170"/>
                </a:lnTo>
                <a:lnTo>
                  <a:pt x="1827" y="0"/>
                </a:lnTo>
                <a:lnTo>
                  <a:pt x="0" y="0"/>
                </a:lnTo>
                <a:lnTo>
                  <a:pt x="0" y="117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6041880" y="3286080"/>
            <a:ext cx="265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6964200" y="3286080"/>
            <a:ext cx="19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426440" y="3146400"/>
            <a:ext cx="26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7689960" y="342576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 flipH="1">
            <a:off x="7426440" y="3425760"/>
            <a:ext cx="26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7696080" y="1828800"/>
            <a:ext cx="0" cy="1316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5605560" y="20239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6635880" y="2093760"/>
            <a:ext cx="0" cy="9115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159680" y="3139920"/>
            <a:ext cx="254520" cy="136800"/>
          </a:xfrm>
          <a:custGeom>
            <a:avLst/>
            <a:gdLst/>
            <a:ahLst/>
            <a:rect l="0" t="0" r="r" b="b"/>
            <a:pathLst>
              <a:path w="707" h="380">
                <a:moveTo>
                  <a:pt x="16" y="380"/>
                </a:moveTo>
                <a:lnTo>
                  <a:pt x="707" y="27"/>
                </a:lnTo>
                <a:lnTo>
                  <a:pt x="695" y="0"/>
                </a:lnTo>
                <a:lnTo>
                  <a:pt x="0" y="352"/>
                </a:lnTo>
                <a:lnTo>
                  <a:pt x="16" y="38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689960" y="3917880"/>
            <a:ext cx="198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888320" y="3778200"/>
            <a:ext cx="527400" cy="351360"/>
          </a:xfrm>
          <a:custGeom>
            <a:avLst/>
            <a:gdLst/>
            <a:ahLst/>
            <a:rect l="0" t="0" r="r" b="b"/>
            <a:pathLst>
              <a:path w="1465" h="976">
                <a:moveTo>
                  <a:pt x="0" y="976"/>
                </a:moveTo>
                <a:lnTo>
                  <a:pt x="1465" y="976"/>
                </a:lnTo>
                <a:lnTo>
                  <a:pt x="1465" y="0"/>
                </a:lnTo>
                <a:lnTo>
                  <a:pt x="0" y="0"/>
                </a:lnTo>
                <a:lnTo>
                  <a:pt x="0" y="97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22200" y="2548080"/>
            <a:ext cx="1648080" cy="178200"/>
          </a:xfrm>
          <a:custGeom>
            <a:avLst/>
            <a:gdLst/>
            <a:ahLst/>
            <a:rect l="0" t="0" r="r" b="b"/>
            <a:pathLst>
              <a:path w="4578" h="495">
                <a:moveTo>
                  <a:pt x="0" y="495"/>
                </a:moveTo>
                <a:lnTo>
                  <a:pt x="4578" y="495"/>
                </a:lnTo>
                <a:lnTo>
                  <a:pt x="4578" y="0"/>
                </a:lnTo>
                <a:lnTo>
                  <a:pt x="0" y="0"/>
                </a:lnTo>
                <a:lnTo>
                  <a:pt x="0" y="49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322200" y="2268360"/>
            <a:ext cx="1648080" cy="176400"/>
          </a:xfrm>
          <a:custGeom>
            <a:avLst/>
            <a:gdLst/>
            <a:ahLst/>
            <a:rect l="0" t="0" r="r" b="b"/>
            <a:pathLst>
              <a:path w="4578" h="490">
                <a:moveTo>
                  <a:pt x="0" y="490"/>
                </a:moveTo>
                <a:lnTo>
                  <a:pt x="4578" y="490"/>
                </a:lnTo>
                <a:lnTo>
                  <a:pt x="4578" y="0"/>
                </a:lnTo>
                <a:lnTo>
                  <a:pt x="0" y="0"/>
                </a:lnTo>
                <a:lnTo>
                  <a:pt x="0" y="49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06360" y="3355920"/>
            <a:ext cx="1679760" cy="422640"/>
          </a:xfrm>
          <a:custGeom>
            <a:avLst/>
            <a:gdLst/>
            <a:ahLst/>
            <a:rect l="0" t="0" r="r" b="b"/>
            <a:pathLst>
              <a:path w="4666" h="1174">
                <a:moveTo>
                  <a:pt x="0" y="1174"/>
                </a:moveTo>
                <a:lnTo>
                  <a:pt x="4666" y="1174"/>
                </a:lnTo>
                <a:lnTo>
                  <a:pt x="4666" y="0"/>
                </a:lnTo>
                <a:lnTo>
                  <a:pt x="0" y="0"/>
                </a:lnTo>
                <a:lnTo>
                  <a:pt x="0" y="117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986120" y="3706920"/>
            <a:ext cx="331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986120" y="3425760"/>
            <a:ext cx="331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322200" y="3567240"/>
            <a:ext cx="16477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314440" y="3419640"/>
            <a:ext cx="252720" cy="136800"/>
          </a:xfrm>
          <a:custGeom>
            <a:avLst/>
            <a:gdLst/>
            <a:ahLst/>
            <a:rect l="0" t="0" r="r" b="b"/>
            <a:pathLst>
              <a:path w="702" h="380">
                <a:moveTo>
                  <a:pt x="702" y="352"/>
                </a:moveTo>
                <a:lnTo>
                  <a:pt x="12" y="0"/>
                </a:lnTo>
                <a:lnTo>
                  <a:pt x="0" y="27"/>
                </a:lnTo>
                <a:lnTo>
                  <a:pt x="689" y="380"/>
                </a:lnTo>
                <a:lnTo>
                  <a:pt x="702" y="352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306360" y="3846600"/>
            <a:ext cx="1679760" cy="421200"/>
          </a:xfrm>
          <a:custGeom>
            <a:avLst/>
            <a:gdLst/>
            <a:ahLst/>
            <a:rect l="0" t="0" r="r" b="b"/>
            <a:pathLst>
              <a:path w="4666" h="1170">
                <a:moveTo>
                  <a:pt x="0" y="1170"/>
                </a:moveTo>
                <a:lnTo>
                  <a:pt x="4666" y="1170"/>
                </a:lnTo>
                <a:lnTo>
                  <a:pt x="4666" y="0"/>
                </a:lnTo>
                <a:lnTo>
                  <a:pt x="0" y="0"/>
                </a:lnTo>
                <a:lnTo>
                  <a:pt x="0" y="117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1986120" y="4199040"/>
            <a:ext cx="331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1986120" y="3917880"/>
            <a:ext cx="331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322200" y="4059360"/>
            <a:ext cx="16477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314440" y="3911760"/>
            <a:ext cx="252720" cy="136800"/>
          </a:xfrm>
          <a:custGeom>
            <a:avLst/>
            <a:gdLst/>
            <a:ahLst/>
            <a:rect l="0" t="0" r="r" b="b"/>
            <a:pathLst>
              <a:path w="702" h="380">
                <a:moveTo>
                  <a:pt x="702" y="352"/>
                </a:moveTo>
                <a:lnTo>
                  <a:pt x="12" y="0"/>
                </a:lnTo>
                <a:lnTo>
                  <a:pt x="0" y="27"/>
                </a:lnTo>
                <a:lnTo>
                  <a:pt x="689" y="380"/>
                </a:lnTo>
                <a:lnTo>
                  <a:pt x="702" y="352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1986120" y="2654280"/>
            <a:ext cx="75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986120" y="2373480"/>
            <a:ext cx="75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2590920" y="3567240"/>
            <a:ext cx="152280" cy="492120"/>
            <a:chOff x="2590920" y="3567240"/>
            <a:chExt cx="152280" cy="492120"/>
          </a:xfrm>
        </p:grpSpPr>
        <p:sp>
          <p:nvSpPr>
            <p:cNvPr id="1544" name=""/>
            <p:cNvSpPr/>
            <p:nvPr/>
          </p:nvSpPr>
          <p:spPr>
            <a:xfrm>
              <a:off x="2590920" y="356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590920" y="4059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2971800" y="2373480"/>
            <a:ext cx="530280" cy="1685880"/>
            <a:chOff x="2971800" y="2373480"/>
            <a:chExt cx="530280" cy="1685880"/>
          </a:xfrm>
        </p:grpSpPr>
        <p:sp>
          <p:nvSpPr>
            <p:cNvPr id="1547" name=""/>
            <p:cNvSpPr/>
            <p:nvPr/>
          </p:nvSpPr>
          <p:spPr>
            <a:xfrm>
              <a:off x="2971800" y="2654280"/>
              <a:ext cx="530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971800" y="2373480"/>
              <a:ext cx="530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971800" y="3567240"/>
              <a:ext cx="530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971800" y="4059360"/>
              <a:ext cx="530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2733840" y="2577960"/>
            <a:ext cx="252720" cy="68760"/>
          </a:xfrm>
          <a:custGeom>
            <a:avLst/>
            <a:gdLst/>
            <a:ahLst/>
            <a:rect l="0" t="0" r="r" b="b"/>
            <a:pathLst>
              <a:path w="702" h="191">
                <a:moveTo>
                  <a:pt x="0" y="28"/>
                </a:moveTo>
                <a:lnTo>
                  <a:pt x="689" y="191"/>
                </a:lnTo>
                <a:lnTo>
                  <a:pt x="702" y="162"/>
                </a:lnTo>
                <a:lnTo>
                  <a:pt x="8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868480" y="244476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733840" y="2297160"/>
            <a:ext cx="252720" cy="66960"/>
          </a:xfrm>
          <a:custGeom>
            <a:avLst/>
            <a:gdLst/>
            <a:ahLst/>
            <a:rect l="0" t="0" r="r" b="b"/>
            <a:pathLst>
              <a:path w="702" h="186">
                <a:moveTo>
                  <a:pt x="0" y="28"/>
                </a:moveTo>
                <a:lnTo>
                  <a:pt x="689" y="186"/>
                </a:lnTo>
                <a:lnTo>
                  <a:pt x="702" y="157"/>
                </a:lnTo>
                <a:lnTo>
                  <a:pt x="8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9360" bIns="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868480" y="216360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35280" y="3489480"/>
            <a:ext cx="252720" cy="68760"/>
          </a:xfrm>
          <a:custGeom>
            <a:avLst/>
            <a:gdLst/>
            <a:ahLst/>
            <a:rect l="0" t="0" r="r" b="b"/>
            <a:pathLst>
              <a:path w="702" h="191">
                <a:moveTo>
                  <a:pt x="0" y="28"/>
                </a:moveTo>
                <a:lnTo>
                  <a:pt x="689" y="191"/>
                </a:lnTo>
                <a:lnTo>
                  <a:pt x="702" y="162"/>
                </a:lnTo>
                <a:lnTo>
                  <a:pt x="8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868480" y="3214800"/>
            <a:ext cx="0" cy="2109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735280" y="3981600"/>
            <a:ext cx="252720" cy="68760"/>
          </a:xfrm>
          <a:custGeom>
            <a:avLst/>
            <a:gdLst/>
            <a:ahLst/>
            <a:rect l="0" t="0" r="r" b="b"/>
            <a:pathLst>
              <a:path w="702" h="191">
                <a:moveTo>
                  <a:pt x="0" y="28"/>
                </a:moveTo>
                <a:lnTo>
                  <a:pt x="689" y="191"/>
                </a:lnTo>
                <a:lnTo>
                  <a:pt x="702" y="159"/>
                </a:lnTo>
                <a:lnTo>
                  <a:pt x="8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868480" y="3706920"/>
            <a:ext cx="0" cy="2109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184720" y="2163600"/>
            <a:ext cx="841680" cy="2161080"/>
          </a:xfrm>
          <a:custGeom>
            <a:avLst/>
            <a:gdLst/>
            <a:ahLst/>
            <a:rect l="0" t="0" r="r" b="b"/>
            <a:pathLst>
              <a:path w="2338" h="6003">
                <a:moveTo>
                  <a:pt x="0" y="6003"/>
                </a:moveTo>
                <a:lnTo>
                  <a:pt x="2338" y="6003"/>
                </a:lnTo>
                <a:lnTo>
                  <a:pt x="2338" y="0"/>
                </a:lnTo>
                <a:lnTo>
                  <a:pt x="0" y="0"/>
                </a:lnTo>
                <a:lnTo>
                  <a:pt x="0" y="600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390600" y="1995480"/>
            <a:ext cx="92880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TR Flag is S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546120" y="2247840"/>
            <a:ext cx="12002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riperal Interru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546120" y="2533680"/>
            <a:ext cx="12002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riperal Interru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546120" y="3349800"/>
            <a:ext cx="12002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riperal Interru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546120" y="3852720"/>
            <a:ext cx="12002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riperal Interru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566640" y="3573360"/>
            <a:ext cx="1208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ternal Interrupt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566640" y="4056120"/>
            <a:ext cx="1208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ternal Interrupt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648240" y="2162160"/>
            <a:ext cx="974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Priority 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3592440" y="2773440"/>
            <a:ext cx="10875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Comparison of </a:t>
            </a:r>
            <a:br>
              <a:rPr sz="1000"/>
            </a:b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Interrupt Priority</a:t>
            </a:r>
            <a:br>
              <a:rPr sz="1000"/>
            </a:b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with CPU</a:t>
            </a:r>
            <a:br>
              <a:rPr sz="1000"/>
            </a:b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Runtime Prio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3556080" y="4118040"/>
            <a:ext cx="1158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16 Priority Lev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4633920" y="2021040"/>
            <a:ext cx="60948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hig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Prio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5140440" y="2162160"/>
            <a:ext cx="932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Group 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5253120" y="4118040"/>
            <a:ext cx="706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4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579840" y="1801800"/>
            <a:ext cx="3241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Interrupt Control Register of the appropriate periph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6262560" y="310356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INTR Fl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7696080" y="18288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7823160" y="1600200"/>
            <a:ext cx="940320" cy="1757880"/>
          </a:xfrm>
          <a:custGeom>
            <a:avLst/>
            <a:gdLst/>
            <a:ahLst/>
            <a:rect l="0" t="0" r="r" b="b"/>
            <a:pathLst>
              <a:path w="2612" h="4883">
                <a:moveTo>
                  <a:pt x="0" y="4883"/>
                </a:moveTo>
                <a:lnTo>
                  <a:pt x="2612" y="4883"/>
                </a:lnTo>
                <a:lnTo>
                  <a:pt x="2612" y="0"/>
                </a:lnTo>
                <a:lnTo>
                  <a:pt x="0" y="0"/>
                </a:lnTo>
                <a:lnTo>
                  <a:pt x="0" y="488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7763040" y="1679400"/>
            <a:ext cx="105876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 u="sng">
                <a:solidFill>
                  <a:srgbClr val="fc0128"/>
                </a:solidFill>
                <a:uFillTx/>
                <a:latin typeface="Arial"/>
                <a:ea typeface="Arial"/>
              </a:rPr>
              <a:t>INTR Servi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Save PSW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CSP, 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Set new priority</a:t>
            </a:r>
            <a:br>
              <a:rPr sz="1000"/>
            </a:b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in PSW. </a:t>
            </a:r>
            <a:br>
              <a:rPr sz="1000"/>
            </a:b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Set CSP, 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according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periphe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vector 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Trap n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7873920" y="3780000"/>
            <a:ext cx="565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P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Se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284040" y="4305240"/>
            <a:ext cx="29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2 Peripheral Interrupts on the 80C1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5 Peripheral Interrupts on the C1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8 Peripheral Interrupts on the C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284040" y="4875120"/>
            <a:ext cx="4681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 External Interrupts are possible, instead of the Capture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374760" y="5027760"/>
            <a:ext cx="5392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0C166: 19 ext. Interru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167: 35 ext. Interrupts including 8 which are sampled every 50(40)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165: 10 ext. Interrupts including 8 which are sampled every 50(40)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583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6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587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fill="none"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"/>
          <p:cNvSpPr/>
          <p:nvPr/>
        </p:nvSpPr>
        <p:spPr>
          <a:xfrm>
            <a:off x="2286000" y="3657600"/>
            <a:ext cx="32004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824520" y="3451320"/>
            <a:ext cx="1038600" cy="2197440"/>
          </a:xfrm>
          <a:custGeom>
            <a:avLst/>
            <a:gdLst/>
            <a:ahLst/>
            <a:rect l="0" t="0" r="r" b="b"/>
            <a:pathLst>
              <a:path w="2885" h="6104">
                <a:moveTo>
                  <a:pt x="0" y="6104"/>
                </a:moveTo>
                <a:lnTo>
                  <a:pt x="2885" y="6104"/>
                </a:lnTo>
                <a:lnTo>
                  <a:pt x="2885" y="0"/>
                </a:lnTo>
                <a:lnTo>
                  <a:pt x="0" y="0"/>
                </a:lnTo>
                <a:lnTo>
                  <a:pt x="0" y="610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3936960" y="3156120"/>
            <a:ext cx="1051200" cy="262440"/>
          </a:xfrm>
          <a:custGeom>
            <a:avLst/>
            <a:gdLst/>
            <a:ahLst/>
            <a:rect l="0" t="0" r="r" b="b"/>
            <a:pathLst>
              <a:path w="2920" h="729">
                <a:moveTo>
                  <a:pt x="0" y="729"/>
                </a:moveTo>
                <a:lnTo>
                  <a:pt x="2920" y="729"/>
                </a:lnTo>
                <a:lnTo>
                  <a:pt x="2920" y="0"/>
                </a:lnTo>
                <a:lnTo>
                  <a:pt x="0" y="0"/>
                </a:lnTo>
                <a:lnTo>
                  <a:pt x="0" y="72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4199040" y="3876840"/>
            <a:ext cx="1149840" cy="986040"/>
          </a:xfrm>
          <a:custGeom>
            <a:avLst/>
            <a:gdLst/>
            <a:ahLst/>
            <a:rect l="0" t="0" r="r" b="b"/>
            <a:pathLst>
              <a:path fill="none" w="3194" h="2739">
                <a:moveTo>
                  <a:pt x="0" y="2739"/>
                </a:moveTo>
                <a:lnTo>
                  <a:pt x="3194" y="2739"/>
                </a:lnTo>
                <a:lnTo>
                  <a:pt x="3194" y="0"/>
                </a:lnTo>
                <a:lnTo>
                  <a:pt x="0" y="0"/>
                </a:lnTo>
                <a:lnTo>
                  <a:pt x="0" y="273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199040" y="4103640"/>
            <a:ext cx="1149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99040" y="4368960"/>
            <a:ext cx="1149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199040" y="4635360"/>
            <a:ext cx="1149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315040" y="4759200"/>
            <a:ext cx="1504800" cy="52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6692760" y="5192640"/>
            <a:ext cx="127440" cy="106560"/>
          </a:xfrm>
          <a:custGeom>
            <a:avLst/>
            <a:gdLst/>
            <a:ahLst/>
            <a:rect l="0" t="0" r="r" b="b"/>
            <a:pathLst>
              <a:path w="354" h="296">
                <a:moveTo>
                  <a:pt x="102" y="0"/>
                </a:moveTo>
                <a:lnTo>
                  <a:pt x="354" y="252"/>
                </a:lnTo>
                <a:lnTo>
                  <a:pt x="0" y="296"/>
                </a:lnTo>
                <a:lnTo>
                  <a:pt x="10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5315040" y="4008600"/>
            <a:ext cx="1504800" cy="525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6692760" y="3990960"/>
            <a:ext cx="127440" cy="108360"/>
          </a:xfrm>
          <a:custGeom>
            <a:avLst/>
            <a:gdLst/>
            <a:ahLst/>
            <a:rect l="0" t="0" r="r" b="b"/>
            <a:pathLst>
              <a:path w="354" h="301">
                <a:moveTo>
                  <a:pt x="0" y="0"/>
                </a:moveTo>
                <a:lnTo>
                  <a:pt x="354" y="48"/>
                </a:lnTo>
                <a:lnTo>
                  <a:pt x="102" y="30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1639800" y="1712880"/>
            <a:ext cx="3939120" cy="327240"/>
          </a:xfrm>
          <a:custGeom>
            <a:avLst/>
            <a:gdLst/>
            <a:ahLst/>
            <a:rect l="0" t="0" r="r" b="b"/>
            <a:pathLst>
              <a:path w="10942" h="909">
                <a:moveTo>
                  <a:pt x="0" y="909"/>
                </a:moveTo>
                <a:lnTo>
                  <a:pt x="10942" y="909"/>
                </a:lnTo>
                <a:lnTo>
                  <a:pt x="10942" y="0"/>
                </a:lnTo>
                <a:lnTo>
                  <a:pt x="0" y="0"/>
                </a:lnTo>
                <a:lnTo>
                  <a:pt x="0" y="90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413160" y="2039760"/>
            <a:ext cx="0" cy="59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281400" y="28274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1706400" y="295920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1706400" y="295920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3543480" y="28274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3543480" y="2959200"/>
            <a:ext cx="919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4462560" y="295920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389400" y="2608200"/>
            <a:ext cx="160560" cy="227520"/>
          </a:xfrm>
          <a:custGeom>
            <a:avLst/>
            <a:gdLst/>
            <a:ahLst/>
            <a:rect l="0" t="0" r="r" b="b"/>
            <a:pathLst>
              <a:path w="446" h="632">
                <a:moveTo>
                  <a:pt x="108" y="24"/>
                </a:moveTo>
                <a:lnTo>
                  <a:pt x="96" y="12"/>
                </a:lnTo>
                <a:lnTo>
                  <a:pt x="84" y="8"/>
                </a:lnTo>
                <a:lnTo>
                  <a:pt x="68" y="0"/>
                </a:lnTo>
                <a:lnTo>
                  <a:pt x="52" y="0"/>
                </a:lnTo>
                <a:lnTo>
                  <a:pt x="40" y="4"/>
                </a:lnTo>
                <a:lnTo>
                  <a:pt x="24" y="8"/>
                </a:lnTo>
                <a:lnTo>
                  <a:pt x="16" y="20"/>
                </a:lnTo>
                <a:lnTo>
                  <a:pt x="8" y="32"/>
                </a:lnTo>
                <a:lnTo>
                  <a:pt x="0" y="45"/>
                </a:lnTo>
                <a:lnTo>
                  <a:pt x="0" y="65"/>
                </a:lnTo>
                <a:lnTo>
                  <a:pt x="4" y="78"/>
                </a:lnTo>
                <a:lnTo>
                  <a:pt x="8" y="90"/>
                </a:lnTo>
                <a:lnTo>
                  <a:pt x="342" y="603"/>
                </a:lnTo>
                <a:lnTo>
                  <a:pt x="350" y="616"/>
                </a:lnTo>
                <a:lnTo>
                  <a:pt x="366" y="624"/>
                </a:lnTo>
                <a:lnTo>
                  <a:pt x="378" y="632"/>
                </a:lnTo>
                <a:lnTo>
                  <a:pt x="394" y="632"/>
                </a:lnTo>
                <a:lnTo>
                  <a:pt x="406" y="628"/>
                </a:lnTo>
                <a:lnTo>
                  <a:pt x="422" y="620"/>
                </a:lnTo>
                <a:lnTo>
                  <a:pt x="434" y="611"/>
                </a:lnTo>
                <a:lnTo>
                  <a:pt x="442" y="599"/>
                </a:lnTo>
                <a:lnTo>
                  <a:pt x="446" y="583"/>
                </a:lnTo>
                <a:lnTo>
                  <a:pt x="446" y="566"/>
                </a:lnTo>
                <a:lnTo>
                  <a:pt x="446" y="554"/>
                </a:lnTo>
                <a:lnTo>
                  <a:pt x="438" y="537"/>
                </a:lnTo>
                <a:lnTo>
                  <a:pt x="108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3687840" y="2400480"/>
            <a:ext cx="2167200" cy="427320"/>
          </a:xfrm>
          <a:custGeom>
            <a:avLst/>
            <a:gdLst/>
            <a:ahLst/>
            <a:rect l="0" t="0" r="r" b="b"/>
            <a:pathLst>
              <a:path w="6020" h="1187">
                <a:moveTo>
                  <a:pt x="0" y="1187"/>
                </a:moveTo>
                <a:lnTo>
                  <a:pt x="6020" y="1187"/>
                </a:lnTo>
                <a:lnTo>
                  <a:pt x="6020" y="0"/>
                </a:lnTo>
                <a:lnTo>
                  <a:pt x="0" y="0"/>
                </a:lnTo>
                <a:lnTo>
                  <a:pt x="0" y="118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049400" y="3156120"/>
            <a:ext cx="1378440" cy="262440"/>
          </a:xfrm>
          <a:custGeom>
            <a:avLst/>
            <a:gdLst/>
            <a:ahLst/>
            <a:rect l="0" t="0" r="r" b="b"/>
            <a:pathLst>
              <a:path w="3829" h="729">
                <a:moveTo>
                  <a:pt x="0" y="729"/>
                </a:moveTo>
                <a:lnTo>
                  <a:pt x="3829" y="729"/>
                </a:lnTo>
                <a:lnTo>
                  <a:pt x="3829" y="0"/>
                </a:lnTo>
                <a:lnTo>
                  <a:pt x="0" y="0"/>
                </a:lnTo>
                <a:lnTo>
                  <a:pt x="0" y="72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214880" y="3537000"/>
            <a:ext cx="510120" cy="246600"/>
          </a:xfrm>
          <a:custGeom>
            <a:avLst/>
            <a:gdLst/>
            <a:ahLst/>
            <a:rect l="0" t="0" r="r" b="b"/>
            <a:pathLst>
              <a:path w="1417" h="685">
                <a:moveTo>
                  <a:pt x="0" y="685"/>
                </a:moveTo>
                <a:lnTo>
                  <a:pt x="1417" y="685"/>
                </a:lnTo>
                <a:lnTo>
                  <a:pt x="1417" y="0"/>
                </a:lnTo>
                <a:lnTo>
                  <a:pt x="0" y="0"/>
                </a:lnTo>
                <a:lnTo>
                  <a:pt x="0" y="6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4203720" y="3525840"/>
            <a:ext cx="532080" cy="270360"/>
          </a:xfrm>
          <a:custGeom>
            <a:avLst/>
            <a:gdLst/>
            <a:ahLst/>
            <a:rect l="0" t="0" r="r" b="b"/>
            <a:pathLst>
              <a:path w="1478" h="751">
                <a:moveTo>
                  <a:pt x="0" y="751"/>
                </a:moveTo>
                <a:lnTo>
                  <a:pt x="1478" y="751"/>
                </a:lnTo>
                <a:lnTo>
                  <a:pt x="1478" y="0"/>
                </a:lnTo>
                <a:lnTo>
                  <a:pt x="0" y="0"/>
                </a:lnTo>
                <a:lnTo>
                  <a:pt x="0" y="751"/>
                </a:lnTo>
                <a:lnTo>
                  <a:pt x="64" y="718"/>
                </a:lnTo>
                <a:lnTo>
                  <a:pt x="64" y="29"/>
                </a:lnTo>
                <a:lnTo>
                  <a:pt x="29" y="62"/>
                </a:lnTo>
                <a:lnTo>
                  <a:pt x="1448" y="62"/>
                </a:lnTo>
                <a:lnTo>
                  <a:pt x="1414" y="29"/>
                </a:lnTo>
                <a:lnTo>
                  <a:pt x="1414" y="718"/>
                </a:lnTo>
                <a:lnTo>
                  <a:pt x="1448" y="685"/>
                </a:lnTo>
                <a:lnTo>
                  <a:pt x="29" y="685"/>
                </a:lnTo>
                <a:lnTo>
                  <a:pt x="64" y="718"/>
                </a:lnTo>
                <a:lnTo>
                  <a:pt x="0" y="7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2427120" y="3876840"/>
            <a:ext cx="1576800" cy="986040"/>
          </a:xfrm>
          <a:custGeom>
            <a:avLst/>
            <a:gdLst/>
            <a:ahLst/>
            <a:rect l="0" t="0" r="r" b="b"/>
            <a:pathLst>
              <a:path fill="none" w="4380" h="2739">
                <a:moveTo>
                  <a:pt x="0" y="2739"/>
                </a:moveTo>
                <a:lnTo>
                  <a:pt x="4380" y="2739"/>
                </a:lnTo>
                <a:lnTo>
                  <a:pt x="4380" y="0"/>
                </a:lnTo>
                <a:lnTo>
                  <a:pt x="0" y="0"/>
                </a:lnTo>
                <a:lnTo>
                  <a:pt x="0" y="273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2558880" y="3657600"/>
            <a:ext cx="3168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2558880" y="4795920"/>
            <a:ext cx="31680" cy="23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824520" y="3943440"/>
            <a:ext cx="1038600" cy="130680"/>
          </a:xfrm>
          <a:custGeom>
            <a:avLst/>
            <a:gdLst/>
            <a:ahLst/>
            <a:rect l="0" t="0" r="r" b="b"/>
            <a:pathLst>
              <a:path w="2885" h="363">
                <a:moveTo>
                  <a:pt x="0" y="363"/>
                </a:moveTo>
                <a:lnTo>
                  <a:pt x="2885" y="363"/>
                </a:lnTo>
                <a:lnTo>
                  <a:pt x="2885" y="0"/>
                </a:lnTo>
                <a:lnTo>
                  <a:pt x="0" y="0"/>
                </a:lnTo>
                <a:lnTo>
                  <a:pt x="0" y="363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824520" y="5254560"/>
            <a:ext cx="1038600" cy="132120"/>
          </a:xfrm>
          <a:custGeom>
            <a:avLst/>
            <a:gdLst/>
            <a:ahLst/>
            <a:rect l="0" t="0" r="r" b="b"/>
            <a:pathLst>
              <a:path w="2885" h="367">
                <a:moveTo>
                  <a:pt x="0" y="367"/>
                </a:moveTo>
                <a:lnTo>
                  <a:pt x="2885" y="367"/>
                </a:lnTo>
                <a:lnTo>
                  <a:pt x="2885" y="0"/>
                </a:lnTo>
                <a:lnTo>
                  <a:pt x="0" y="0"/>
                </a:lnTo>
                <a:lnTo>
                  <a:pt x="0" y="367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246320" y="2532240"/>
            <a:ext cx="1903680" cy="230400"/>
          </a:xfrm>
          <a:custGeom>
            <a:avLst/>
            <a:gdLst/>
            <a:ahLst/>
            <a:rect l="0" t="0" r="r" b="b"/>
            <a:pathLst>
              <a:path w="5288" h="640">
                <a:moveTo>
                  <a:pt x="0" y="640"/>
                </a:moveTo>
                <a:lnTo>
                  <a:pt x="5288" y="640"/>
                </a:lnTo>
                <a:lnTo>
                  <a:pt x="5288" y="0"/>
                </a:lnTo>
                <a:lnTo>
                  <a:pt x="0" y="0"/>
                </a:lnTo>
                <a:lnTo>
                  <a:pt x="0" y="6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7937640" y="3940200"/>
            <a:ext cx="384480" cy="317880"/>
          </a:xfrm>
          <a:custGeom>
            <a:avLst/>
            <a:gdLst/>
            <a:ahLst/>
            <a:rect l="0" t="0" r="r" b="b"/>
            <a:pathLst>
              <a:path w="1068" h="883">
                <a:moveTo>
                  <a:pt x="186" y="0"/>
                </a:moveTo>
                <a:lnTo>
                  <a:pt x="139" y="8"/>
                </a:lnTo>
                <a:lnTo>
                  <a:pt x="93" y="25"/>
                </a:lnTo>
                <a:lnTo>
                  <a:pt x="55" y="54"/>
                </a:lnTo>
                <a:lnTo>
                  <a:pt x="25" y="88"/>
                </a:lnTo>
                <a:lnTo>
                  <a:pt x="8" y="134"/>
                </a:lnTo>
                <a:lnTo>
                  <a:pt x="0" y="180"/>
                </a:lnTo>
                <a:lnTo>
                  <a:pt x="8" y="227"/>
                </a:lnTo>
                <a:lnTo>
                  <a:pt x="25" y="273"/>
                </a:lnTo>
                <a:lnTo>
                  <a:pt x="55" y="311"/>
                </a:lnTo>
                <a:lnTo>
                  <a:pt x="93" y="341"/>
                </a:lnTo>
                <a:lnTo>
                  <a:pt x="139" y="357"/>
                </a:lnTo>
                <a:lnTo>
                  <a:pt x="186" y="362"/>
                </a:lnTo>
                <a:lnTo>
                  <a:pt x="886" y="362"/>
                </a:lnTo>
                <a:lnTo>
                  <a:pt x="703" y="180"/>
                </a:lnTo>
                <a:lnTo>
                  <a:pt x="703" y="703"/>
                </a:lnTo>
                <a:lnTo>
                  <a:pt x="708" y="749"/>
                </a:lnTo>
                <a:lnTo>
                  <a:pt x="725" y="795"/>
                </a:lnTo>
                <a:lnTo>
                  <a:pt x="754" y="833"/>
                </a:lnTo>
                <a:lnTo>
                  <a:pt x="792" y="862"/>
                </a:lnTo>
                <a:lnTo>
                  <a:pt x="839" y="879"/>
                </a:lnTo>
                <a:lnTo>
                  <a:pt x="886" y="883"/>
                </a:lnTo>
                <a:lnTo>
                  <a:pt x="932" y="879"/>
                </a:lnTo>
                <a:lnTo>
                  <a:pt x="979" y="862"/>
                </a:lnTo>
                <a:lnTo>
                  <a:pt x="1013" y="833"/>
                </a:lnTo>
                <a:lnTo>
                  <a:pt x="1042" y="795"/>
                </a:lnTo>
                <a:lnTo>
                  <a:pt x="1059" y="749"/>
                </a:lnTo>
                <a:lnTo>
                  <a:pt x="1068" y="703"/>
                </a:lnTo>
                <a:lnTo>
                  <a:pt x="1068" y="180"/>
                </a:lnTo>
                <a:lnTo>
                  <a:pt x="1059" y="134"/>
                </a:lnTo>
                <a:lnTo>
                  <a:pt x="1042" y="88"/>
                </a:lnTo>
                <a:lnTo>
                  <a:pt x="1013" y="54"/>
                </a:lnTo>
                <a:lnTo>
                  <a:pt x="979" y="25"/>
                </a:lnTo>
                <a:lnTo>
                  <a:pt x="932" y="8"/>
                </a:lnTo>
                <a:lnTo>
                  <a:pt x="886" y="0"/>
                </a:lnTo>
                <a:lnTo>
                  <a:pt x="18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7996320" y="4927680"/>
            <a:ext cx="336960" cy="465480"/>
          </a:xfrm>
          <a:custGeom>
            <a:avLst/>
            <a:gdLst/>
            <a:ahLst/>
            <a:rect l="0" t="0" r="r" b="b"/>
            <a:pathLst>
              <a:path w="936" h="1293">
                <a:moveTo>
                  <a:pt x="936" y="183"/>
                </a:moveTo>
                <a:lnTo>
                  <a:pt x="928" y="136"/>
                </a:lnTo>
                <a:lnTo>
                  <a:pt x="911" y="89"/>
                </a:lnTo>
                <a:lnTo>
                  <a:pt x="882" y="55"/>
                </a:lnTo>
                <a:lnTo>
                  <a:pt x="848" y="25"/>
                </a:lnTo>
                <a:lnTo>
                  <a:pt x="802" y="8"/>
                </a:lnTo>
                <a:lnTo>
                  <a:pt x="755" y="0"/>
                </a:lnTo>
                <a:lnTo>
                  <a:pt x="709" y="8"/>
                </a:lnTo>
                <a:lnTo>
                  <a:pt x="662" y="25"/>
                </a:lnTo>
                <a:lnTo>
                  <a:pt x="624" y="55"/>
                </a:lnTo>
                <a:lnTo>
                  <a:pt x="594" y="89"/>
                </a:lnTo>
                <a:lnTo>
                  <a:pt x="577" y="136"/>
                </a:lnTo>
                <a:lnTo>
                  <a:pt x="573" y="183"/>
                </a:lnTo>
                <a:lnTo>
                  <a:pt x="573" y="1109"/>
                </a:lnTo>
                <a:lnTo>
                  <a:pt x="755" y="926"/>
                </a:lnTo>
                <a:lnTo>
                  <a:pt x="181" y="926"/>
                </a:lnTo>
                <a:lnTo>
                  <a:pt x="134" y="930"/>
                </a:lnTo>
                <a:lnTo>
                  <a:pt x="92" y="947"/>
                </a:lnTo>
                <a:lnTo>
                  <a:pt x="54" y="977"/>
                </a:lnTo>
                <a:lnTo>
                  <a:pt x="25" y="1015"/>
                </a:lnTo>
                <a:lnTo>
                  <a:pt x="8" y="1062"/>
                </a:lnTo>
                <a:lnTo>
                  <a:pt x="0" y="1109"/>
                </a:lnTo>
                <a:lnTo>
                  <a:pt x="8" y="1156"/>
                </a:lnTo>
                <a:lnTo>
                  <a:pt x="25" y="1203"/>
                </a:lnTo>
                <a:lnTo>
                  <a:pt x="54" y="1237"/>
                </a:lnTo>
                <a:lnTo>
                  <a:pt x="92" y="1267"/>
                </a:lnTo>
                <a:lnTo>
                  <a:pt x="134" y="1284"/>
                </a:lnTo>
                <a:lnTo>
                  <a:pt x="181" y="1293"/>
                </a:lnTo>
                <a:lnTo>
                  <a:pt x="755" y="1293"/>
                </a:lnTo>
                <a:lnTo>
                  <a:pt x="802" y="1284"/>
                </a:lnTo>
                <a:lnTo>
                  <a:pt x="848" y="1267"/>
                </a:lnTo>
                <a:lnTo>
                  <a:pt x="882" y="1237"/>
                </a:lnTo>
                <a:lnTo>
                  <a:pt x="911" y="1203"/>
                </a:lnTo>
                <a:lnTo>
                  <a:pt x="928" y="1156"/>
                </a:lnTo>
                <a:lnTo>
                  <a:pt x="936" y="1109"/>
                </a:lnTo>
                <a:lnTo>
                  <a:pt x="936" y="1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3135240" y="2714760"/>
            <a:ext cx="57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595680" y="2655720"/>
            <a:ext cx="114840" cy="114840"/>
          </a:xfrm>
          <a:custGeom>
            <a:avLst/>
            <a:gdLst/>
            <a:ahLst/>
            <a:rect l="0" t="0" r="r" b="b"/>
            <a:pathLst>
              <a:path fill="none" w="319" h="319">
                <a:moveTo>
                  <a:pt x="0" y="319"/>
                </a:moveTo>
                <a:lnTo>
                  <a:pt x="319" y="164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3135240" y="2655720"/>
            <a:ext cx="114840" cy="114840"/>
          </a:xfrm>
          <a:custGeom>
            <a:avLst/>
            <a:gdLst/>
            <a:ahLst/>
            <a:rect l="0" t="0" r="r" b="b"/>
            <a:pathLst>
              <a:path fill="none" w="319" h="319">
                <a:moveTo>
                  <a:pt x="319" y="319"/>
                </a:moveTo>
                <a:lnTo>
                  <a:pt x="0" y="164"/>
                </a:lnTo>
                <a:lnTo>
                  <a:pt x="31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920000" y="5319720"/>
            <a:ext cx="271800" cy="35280"/>
          </a:xfrm>
          <a:custGeom>
            <a:avLst/>
            <a:gdLst/>
            <a:ahLst/>
            <a:rect l="0" t="0" r="r" b="b"/>
            <a:pathLst>
              <a:path w="755" h="98">
                <a:moveTo>
                  <a:pt x="755" y="0"/>
                </a:moveTo>
                <a:lnTo>
                  <a:pt x="0" y="0"/>
                </a:lnTo>
                <a:lnTo>
                  <a:pt x="0" y="98"/>
                </a:lnTo>
                <a:lnTo>
                  <a:pt x="755" y="98"/>
                </a:lnTo>
                <a:lnTo>
                  <a:pt x="75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920000" y="5243400"/>
            <a:ext cx="187560" cy="187560"/>
          </a:xfrm>
          <a:custGeom>
            <a:avLst/>
            <a:gdLst/>
            <a:ahLst/>
            <a:rect l="0" t="0" r="r" b="b"/>
            <a:pathLst>
              <a:path w="521" h="521">
                <a:moveTo>
                  <a:pt x="521" y="521"/>
                </a:moveTo>
                <a:lnTo>
                  <a:pt x="0" y="261"/>
                </a:lnTo>
                <a:lnTo>
                  <a:pt x="521" y="0"/>
                </a:lnTo>
                <a:lnTo>
                  <a:pt x="521" y="5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862760" y="5202360"/>
            <a:ext cx="270360" cy="270360"/>
          </a:xfrm>
          <a:custGeom>
            <a:avLst/>
            <a:gdLst/>
            <a:ahLst/>
            <a:rect l="0" t="0" r="r" b="b"/>
            <a:pathLst>
              <a:path w="751" h="751">
                <a:moveTo>
                  <a:pt x="618" y="643"/>
                </a:moveTo>
                <a:lnTo>
                  <a:pt x="714" y="580"/>
                </a:lnTo>
                <a:lnTo>
                  <a:pt x="179" y="313"/>
                </a:lnTo>
                <a:lnTo>
                  <a:pt x="179" y="434"/>
                </a:lnTo>
                <a:lnTo>
                  <a:pt x="714" y="166"/>
                </a:lnTo>
                <a:lnTo>
                  <a:pt x="618" y="108"/>
                </a:lnTo>
                <a:lnTo>
                  <a:pt x="618" y="643"/>
                </a:lnTo>
                <a:lnTo>
                  <a:pt x="751" y="751"/>
                </a:lnTo>
                <a:lnTo>
                  <a:pt x="751" y="0"/>
                </a:lnTo>
                <a:lnTo>
                  <a:pt x="0" y="375"/>
                </a:lnTo>
                <a:lnTo>
                  <a:pt x="751" y="751"/>
                </a:lnTo>
                <a:lnTo>
                  <a:pt x="618" y="6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552920" y="500688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4495680" y="5307120"/>
            <a:ext cx="114840" cy="114840"/>
          </a:xfrm>
          <a:custGeom>
            <a:avLst/>
            <a:gdLst/>
            <a:ahLst/>
            <a:rect l="0" t="0" r="r" b="b"/>
            <a:pathLst>
              <a:path w="319" h="319">
                <a:moveTo>
                  <a:pt x="319" y="0"/>
                </a:moveTo>
                <a:lnTo>
                  <a:pt x="159" y="319"/>
                </a:lnTo>
                <a:lnTo>
                  <a:pt x="0" y="0"/>
                </a:lnTo>
                <a:lnTo>
                  <a:pt x="31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1752480" y="863640"/>
            <a:ext cx="7238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ipheral Event Controller (P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1679400" y="1741320"/>
            <a:ext cx="37512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Interrupt has passed priority and group 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1301760" y="2530440"/>
            <a:ext cx="1828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Interrupt priority &lt;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747960" y="239400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Interrupt priority 14 or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and Data Counter &g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1028880" y="3159000"/>
            <a:ext cx="14590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rup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3884760" y="3159000"/>
            <a:ext cx="11620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PEC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4157640" y="3530520"/>
            <a:ext cx="6541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2913120" y="4084560"/>
            <a:ext cx="8460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8 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4162320" y="4130640"/>
            <a:ext cx="12412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4197240" y="4397400"/>
            <a:ext cx="11714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SRC Po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4148280" y="4629240"/>
            <a:ext cx="12715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DEST Po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4237200" y="3855960"/>
            <a:ext cx="10936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Contr. R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3222720" y="5400720"/>
            <a:ext cx="25509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R request if Data Counter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6445080" y="3112920"/>
            <a:ext cx="17352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Memory Segment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7829640" y="3417840"/>
            <a:ext cx="565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0FF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7858080" y="5487840"/>
            <a:ext cx="536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0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7940520" y="4280040"/>
            <a:ext cx="84600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Byte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38120" y="3959280"/>
            <a:ext cx="940320" cy="1757880"/>
          </a:xfrm>
          <a:custGeom>
            <a:avLst/>
            <a:gdLst/>
            <a:ahLst/>
            <a:rect l="0" t="0" r="r" b="b"/>
            <a:pathLst>
              <a:path w="2612" h="4883">
                <a:moveTo>
                  <a:pt x="0" y="4883"/>
                </a:moveTo>
                <a:lnTo>
                  <a:pt x="2612" y="4883"/>
                </a:lnTo>
                <a:lnTo>
                  <a:pt x="2612" y="0"/>
                </a:lnTo>
                <a:lnTo>
                  <a:pt x="0" y="0"/>
                </a:lnTo>
                <a:lnTo>
                  <a:pt x="0" y="488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378000" y="4038480"/>
            <a:ext cx="105876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R Servi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ve PSW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P, 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new priorit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 PSW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CSP, 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ccording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riphe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ector 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p N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914400" y="3463920"/>
            <a:ext cx="696960" cy="42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>
            <a:off x="1447920" y="563868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676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680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fill="none"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Periph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2 General Purpose Timer units (GPT1 &amp; GPT2):  5 Timers (200/400ns) with multiple Input/Output, Reload and Capture functions and complex concatenation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Capture/Compare unit (CAPCOM): 2 timers (400ns) each with Reload register and 16 independent 16-bit Capture/Compare channels programmable to 6 mode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2 independent identical USARTs: max 625 KBaud asynchronous and max 2.5 Mbit/sec synchronous data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Fast and accurate A/D Converter: 10-bit resolution, 10 input channels, 9.7µs conversion time, continuous and scan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I/O Ports: 6 Ports provide 76 I/O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Watchdog:  16-bit Reload-timer causes reset on ove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 txBox="1"/>
          <p:nvPr/>
        </p:nvSpPr>
        <p:spPr>
          <a:xfrm>
            <a:off x="1676520" y="86364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ipherals Set of the SAB 80C1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710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3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714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6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Periph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2 General Purpose Timer units (GPT1 &amp; GPT2): 5 Timers (200/400ns) with enhanced Input/Output, Reload and Capture functions and complex concatenation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2 Capture/Compare units (CAPCOM1 &amp; 2): 4 Timers (400ns) with Reload register and 32 independent 16-bit Capture/Compare channels programmable to 6 mode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4 high resolution PWM channels: each with independent time-base of up to 50ns resolution and programmable operation modes (edge-aligned, center-aligned, burst and single-shot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Independent USART: max 625 KBaud asynchronous and max 2.5 Mbit/sec synchronous data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 txBox="1"/>
          <p:nvPr/>
        </p:nvSpPr>
        <p:spPr>
          <a:xfrm>
            <a:off x="1676520" y="863640"/>
            <a:ext cx="7238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ipherals Set of the C1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3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744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7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748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0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165564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Periph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Fast Serial Synchronous Communication interface (SSC): max 5 Mbit/sec full duplex transfer rate, SPI compa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Fast and accurate A/D Converter: 10-Bit resolution, 16 input channels, 9.7µs conversion time, enhanced continuous and scan modes with channel-injection cap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I/O Ports: 8 Ports provide 111 I/O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Watchdog:  16-Bit Reload-timer causes reset on ove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1714680" y="863640"/>
            <a:ext cx="72770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..Peripherals Set of the C1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7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778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1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782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4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Peripher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2 General Purpose Timer units (GPT1 &amp; GPT2): 5 Timers (200</a:t>
            </a:r>
            <a:r>
              <a:rPr b="1" lang="en-US" sz="2000" spc="-1" strike="noStrike">
                <a:solidFill>
                  <a:srgbClr val="081d58"/>
                </a:solidFill>
                <a:latin typeface="Arial Narrow"/>
                <a:ea typeface="Arial Narrow"/>
              </a:rPr>
              <a:t>(160)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/400</a:t>
            </a:r>
            <a:r>
              <a:rPr b="1" lang="en-US" sz="2000" spc="-1" strike="noStrike">
                <a:solidFill>
                  <a:srgbClr val="081d58"/>
                </a:solidFill>
                <a:latin typeface="Arial Narrow"/>
                <a:ea typeface="Arial Narrow"/>
              </a:rPr>
              <a:t>(320)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ns) with enhanced Input/Output, Reload and Capture functions and complex concatenation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Independent USART: max. 625</a:t>
            </a:r>
            <a:r>
              <a:rPr b="1" lang="en-US" sz="2000" spc="-1" strike="noStrike">
                <a:solidFill>
                  <a:srgbClr val="081d58"/>
                </a:solidFill>
                <a:latin typeface="Arial Narrow"/>
                <a:ea typeface="Arial Narrow"/>
              </a:rPr>
              <a:t>(780)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KBaud asynchronous </a:t>
            </a:r>
            <a:br>
              <a:rPr sz="2000"/>
            </a:b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and max 2.5</a:t>
            </a:r>
            <a:r>
              <a:rPr b="1" lang="en-US" sz="2000" spc="-1" strike="noStrike">
                <a:solidFill>
                  <a:srgbClr val="081d58"/>
                </a:solidFill>
                <a:latin typeface="Arial Narrow"/>
                <a:ea typeface="Arial Narrow"/>
              </a:rPr>
              <a:t>(3.1)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Mbit/sec synchronous data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Fast Serial Synchronous Communication interface (SSC): </a:t>
            </a:r>
            <a:br>
              <a:rPr sz="2000"/>
            </a:b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max. 5</a:t>
            </a:r>
            <a:r>
              <a:rPr b="1" lang="en-US" sz="2000" spc="-1" strike="noStrike">
                <a:solidFill>
                  <a:srgbClr val="081d58"/>
                </a:solidFill>
                <a:latin typeface="Arial Narrow"/>
                <a:ea typeface="Arial Narrow"/>
              </a:rPr>
              <a:t>(6.25)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Mbit/sec full duplex transfer rate, SPI compa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I/O Ports:  7 Ports provide 77 I/O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Watchdog:  16-Bit Reload -timer causes reset on ove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 txBox="1"/>
          <p:nvPr/>
        </p:nvSpPr>
        <p:spPr>
          <a:xfrm>
            <a:off x="1752480" y="939960"/>
            <a:ext cx="7238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ipherals Set of the C1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1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812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5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816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8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GP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281160" y="164160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Three 16-bit up/down timers: </a:t>
            </a:r>
            <a:br>
              <a:rPr sz="1800"/>
            </a:b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2 auxiliary timers(T2,T4) and 1 core timer(T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Input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r mode: Internal clock input with prescaler up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2.5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(3.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Hz / 400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(32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s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Clock can be gated with external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er Mode: external clock up to 1.25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(1.7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cading of core timer and any aux. timer (32-Bit ti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Count direction (C166 T3 only) can be changed extern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Output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rupt possibility and toggle function at the core timer 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rupt possibility at auxiliary timers T2 and 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Reload: Core timer can be reloaded with the contents of any aux. 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Capture: Contents of the core timer can be latched into any aux. 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 txBox="1"/>
          <p:nvPr/>
        </p:nvSpPr>
        <p:spPr>
          <a:xfrm>
            <a:off x="1752480" y="863640"/>
            <a:ext cx="7238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Purpose Timer 1 (GPT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846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9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850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2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7040520" y="4446720"/>
            <a:ext cx="1030680" cy="640080"/>
            <a:chOff x="7040520" y="4446720"/>
            <a:chExt cx="1030680" cy="640080"/>
          </a:xfrm>
        </p:grpSpPr>
        <p:sp>
          <p:nvSpPr>
            <p:cNvPr id="104" name=""/>
            <p:cNvSpPr/>
            <p:nvPr/>
          </p:nvSpPr>
          <p:spPr>
            <a:xfrm>
              <a:off x="7040520" y="4446720"/>
              <a:ext cx="1030680" cy="640080"/>
            </a:xfrm>
            <a:custGeom>
              <a:avLst/>
              <a:gdLst/>
              <a:ahLst/>
              <a:rect l="0" t="0" r="r" b="b"/>
              <a:pathLst>
                <a:path w="2863" h="1778">
                  <a:moveTo>
                    <a:pt x="2863" y="0"/>
                  </a:moveTo>
                  <a:lnTo>
                    <a:pt x="2510" y="0"/>
                  </a:lnTo>
                  <a:lnTo>
                    <a:pt x="2510" y="604"/>
                  </a:lnTo>
                  <a:lnTo>
                    <a:pt x="0" y="604"/>
                  </a:lnTo>
                  <a:lnTo>
                    <a:pt x="0" y="1778"/>
                  </a:lnTo>
                  <a:lnTo>
                    <a:pt x="2863" y="1778"/>
                  </a:lnTo>
                  <a:lnTo>
                    <a:pt x="2863" y="41"/>
                  </a:lnTo>
                  <a:lnTo>
                    <a:pt x="2863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54920" y="4689360"/>
              <a:ext cx="1002240" cy="356040"/>
            </a:xfrm>
            <a:custGeom>
              <a:avLst/>
              <a:gdLst/>
              <a:ahLst/>
              <a:rect l="0" t="0" r="r" b="b"/>
              <a:pathLst>
                <a:path w="2784" h="989">
                  <a:moveTo>
                    <a:pt x="271" y="0"/>
                  </a:moveTo>
                  <a:lnTo>
                    <a:pt x="271" y="667"/>
                  </a:lnTo>
                  <a:lnTo>
                    <a:pt x="2513" y="667"/>
                  </a:lnTo>
                  <a:lnTo>
                    <a:pt x="2513" y="0"/>
                  </a:lnTo>
                  <a:lnTo>
                    <a:pt x="2784" y="0"/>
                  </a:lnTo>
                  <a:lnTo>
                    <a:pt x="2784" y="989"/>
                  </a:lnTo>
                  <a:lnTo>
                    <a:pt x="0" y="989"/>
                  </a:lnTo>
                  <a:lnTo>
                    <a:pt x="0" y="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54920" y="4689360"/>
              <a:ext cx="1011600" cy="365400"/>
            </a:xfrm>
            <a:custGeom>
              <a:avLst/>
              <a:gdLst/>
              <a:ahLst/>
              <a:rect l="0" t="0" r="r" b="b"/>
              <a:pathLst>
                <a:path fill="none" w="2810" h="1015">
                  <a:moveTo>
                    <a:pt x="273" y="0"/>
                  </a:moveTo>
                  <a:lnTo>
                    <a:pt x="273" y="685"/>
                  </a:lnTo>
                  <a:lnTo>
                    <a:pt x="2537" y="685"/>
                  </a:lnTo>
                  <a:lnTo>
                    <a:pt x="2537" y="0"/>
                  </a:lnTo>
                  <a:lnTo>
                    <a:pt x="2810" y="0"/>
                  </a:lnTo>
                  <a:lnTo>
                    <a:pt x="2810" y="1015"/>
                  </a:lnTo>
                  <a:lnTo>
                    <a:pt x="0" y="1015"/>
                  </a:lnTo>
                  <a:lnTo>
                    <a:pt x="0" y="0"/>
                  </a:lnTo>
                  <a:lnTo>
                    <a:pt x="273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84880" y="4694400"/>
              <a:ext cx="746640" cy="186120"/>
            </a:xfrm>
            <a:custGeom>
              <a:avLst/>
              <a:gdLst/>
              <a:ahLst/>
              <a:rect l="0" t="0" r="r" b="b"/>
              <a:pathLst>
                <a:path w="2074" h="517">
                  <a:moveTo>
                    <a:pt x="0" y="517"/>
                  </a:moveTo>
                  <a:lnTo>
                    <a:pt x="0" y="0"/>
                  </a:lnTo>
                  <a:lnTo>
                    <a:pt x="2074" y="0"/>
                  </a:lnTo>
                  <a:lnTo>
                    <a:pt x="2074" y="517"/>
                  </a:lnTo>
                  <a:lnTo>
                    <a:pt x="0" y="5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84880" y="4694400"/>
              <a:ext cx="756000" cy="195480"/>
            </a:xfrm>
            <a:custGeom>
              <a:avLst/>
              <a:gdLst/>
              <a:ahLst/>
              <a:rect l="0" t="0" r="r" b="b"/>
              <a:pathLst>
                <a:path fill="none" w="2100" h="543">
                  <a:moveTo>
                    <a:pt x="0" y="543"/>
                  </a:moveTo>
                  <a:lnTo>
                    <a:pt x="2100" y="543"/>
                  </a:lnTo>
                  <a:lnTo>
                    <a:pt x="2100" y="0"/>
                  </a:lnTo>
                  <a:lnTo>
                    <a:pt x="0" y="0"/>
                  </a:lnTo>
                  <a:lnTo>
                    <a:pt x="0" y="543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53320" y="4694400"/>
              <a:ext cx="0" cy="195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3000" y="4694400"/>
              <a:ext cx="0" cy="195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54880" y="4694400"/>
              <a:ext cx="0" cy="195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32840" y="4694400"/>
              <a:ext cx="0" cy="195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39120" y="4694400"/>
              <a:ext cx="0" cy="195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1360" y="4762440"/>
              <a:ext cx="146520" cy="71640"/>
            </a:xfrm>
            <a:custGeom>
              <a:avLst/>
              <a:gdLst/>
              <a:ahLst/>
              <a:rect l="0" t="0" r="r" b="b"/>
              <a:pathLst>
                <a:path w="407" h="199">
                  <a:moveTo>
                    <a:pt x="0" y="199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7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84920" y="4694400"/>
              <a:ext cx="0" cy="195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72560" y="4510080"/>
              <a:ext cx="79560" cy="109800"/>
            </a:xfrm>
            <a:custGeom>
              <a:avLst/>
              <a:gdLst/>
              <a:ahLst/>
              <a:rect l="0" t="0" r="r" b="b"/>
              <a:pathLst>
                <a:path w="221" h="305">
                  <a:moveTo>
                    <a:pt x="0" y="305"/>
                  </a:moveTo>
                  <a:lnTo>
                    <a:pt x="0" y="0"/>
                  </a:lnTo>
                  <a:lnTo>
                    <a:pt x="221" y="0"/>
                  </a:lnTo>
                  <a:lnTo>
                    <a:pt x="221" y="305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72560" y="4510080"/>
              <a:ext cx="89280" cy="119520"/>
            </a:xfrm>
            <a:custGeom>
              <a:avLst/>
              <a:gdLst/>
              <a:ahLst/>
              <a:rect l="0" t="0" r="r" b="b"/>
              <a:pathLst>
                <a:path fill="none" w="248" h="332">
                  <a:moveTo>
                    <a:pt x="0" y="332"/>
                  </a:moveTo>
                  <a:lnTo>
                    <a:pt x="248" y="332"/>
                  </a:lnTo>
                  <a:lnTo>
                    <a:pt x="248" y="0"/>
                  </a:lnTo>
                  <a:lnTo>
                    <a:pt x="0" y="0"/>
                  </a:lnTo>
                  <a:lnTo>
                    <a:pt x="0" y="332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78840" y="4740120"/>
              <a:ext cx="543240" cy="228960"/>
            </a:xfrm>
            <a:custGeom>
              <a:avLst/>
              <a:gdLst/>
              <a:ahLst/>
              <a:rect l="0" t="0" r="r" b="b"/>
              <a:pathLst>
                <a:path w="1509" h="636">
                  <a:moveTo>
                    <a:pt x="0" y="636"/>
                  </a:moveTo>
                  <a:lnTo>
                    <a:pt x="0" y="0"/>
                  </a:lnTo>
                  <a:lnTo>
                    <a:pt x="1509" y="0"/>
                  </a:lnTo>
                  <a:lnTo>
                    <a:pt x="1509" y="636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7232760" y="4773600"/>
              <a:ext cx="53352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C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53040" y="5141880"/>
            <a:ext cx="1032120" cy="640080"/>
            <a:chOff x="5153040" y="5141880"/>
            <a:chExt cx="1032120" cy="640080"/>
          </a:xfrm>
        </p:grpSpPr>
        <p:sp>
          <p:nvSpPr>
            <p:cNvPr id="121" name=""/>
            <p:cNvSpPr/>
            <p:nvPr/>
          </p:nvSpPr>
          <p:spPr>
            <a:xfrm>
              <a:off x="5153040" y="5141880"/>
              <a:ext cx="1032120" cy="640080"/>
            </a:xfrm>
            <a:custGeom>
              <a:avLst/>
              <a:gdLst/>
              <a:ahLst/>
              <a:rect l="0" t="0" r="r" b="b"/>
              <a:pathLst>
                <a:path w="2867" h="1778">
                  <a:moveTo>
                    <a:pt x="2867" y="0"/>
                  </a:moveTo>
                  <a:lnTo>
                    <a:pt x="2513" y="0"/>
                  </a:lnTo>
                  <a:lnTo>
                    <a:pt x="2513" y="609"/>
                  </a:lnTo>
                  <a:lnTo>
                    <a:pt x="0" y="609"/>
                  </a:lnTo>
                  <a:lnTo>
                    <a:pt x="0" y="1778"/>
                  </a:lnTo>
                  <a:lnTo>
                    <a:pt x="2867" y="1778"/>
                  </a:lnTo>
                  <a:lnTo>
                    <a:pt x="2867" y="46"/>
                  </a:lnTo>
                  <a:lnTo>
                    <a:pt x="2867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67440" y="5384880"/>
              <a:ext cx="1002240" cy="356040"/>
            </a:xfrm>
            <a:custGeom>
              <a:avLst/>
              <a:gdLst/>
              <a:ahLst/>
              <a:rect l="0" t="0" r="r" b="b"/>
              <a:pathLst>
                <a:path w="2784" h="989">
                  <a:moveTo>
                    <a:pt x="270" y="0"/>
                  </a:moveTo>
                  <a:lnTo>
                    <a:pt x="270" y="667"/>
                  </a:lnTo>
                  <a:lnTo>
                    <a:pt x="2513" y="667"/>
                  </a:lnTo>
                  <a:lnTo>
                    <a:pt x="2513" y="0"/>
                  </a:lnTo>
                  <a:lnTo>
                    <a:pt x="2784" y="0"/>
                  </a:lnTo>
                  <a:lnTo>
                    <a:pt x="2784" y="989"/>
                  </a:lnTo>
                  <a:lnTo>
                    <a:pt x="0" y="989"/>
                  </a:lnTo>
                  <a:lnTo>
                    <a:pt x="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67440" y="5384880"/>
              <a:ext cx="1013040" cy="367200"/>
            </a:xfrm>
            <a:custGeom>
              <a:avLst/>
              <a:gdLst/>
              <a:ahLst/>
              <a:rect l="0" t="0" r="r" b="b"/>
              <a:pathLst>
                <a:path fill="none" w="2814" h="1020">
                  <a:moveTo>
                    <a:pt x="273" y="0"/>
                  </a:moveTo>
                  <a:lnTo>
                    <a:pt x="273" y="687"/>
                  </a:lnTo>
                  <a:lnTo>
                    <a:pt x="2540" y="687"/>
                  </a:lnTo>
                  <a:lnTo>
                    <a:pt x="2540" y="0"/>
                  </a:lnTo>
                  <a:lnTo>
                    <a:pt x="2814" y="0"/>
                  </a:lnTo>
                  <a:lnTo>
                    <a:pt x="2814" y="1020"/>
                  </a:lnTo>
                  <a:lnTo>
                    <a:pt x="0" y="1020"/>
                  </a:lnTo>
                  <a:lnTo>
                    <a:pt x="0" y="0"/>
                  </a:lnTo>
                  <a:lnTo>
                    <a:pt x="273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97400" y="5391000"/>
              <a:ext cx="743400" cy="184680"/>
            </a:xfrm>
            <a:custGeom>
              <a:avLst/>
              <a:gdLst/>
              <a:ahLst/>
              <a:rect l="0" t="0" r="r" b="b"/>
              <a:pathLst>
                <a:path w="2065" h="513">
                  <a:moveTo>
                    <a:pt x="0" y="513"/>
                  </a:moveTo>
                  <a:lnTo>
                    <a:pt x="0" y="0"/>
                  </a:lnTo>
                  <a:lnTo>
                    <a:pt x="2065" y="0"/>
                  </a:lnTo>
                  <a:lnTo>
                    <a:pt x="2065" y="513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97400" y="5391000"/>
              <a:ext cx="754560" cy="195480"/>
            </a:xfrm>
            <a:custGeom>
              <a:avLst/>
              <a:gdLst/>
              <a:ahLst/>
              <a:rect l="0" t="0" r="r" b="b"/>
              <a:pathLst>
                <a:path fill="none" w="2096" h="543">
                  <a:moveTo>
                    <a:pt x="0" y="543"/>
                  </a:moveTo>
                  <a:lnTo>
                    <a:pt x="2096" y="543"/>
                  </a:lnTo>
                  <a:lnTo>
                    <a:pt x="2096" y="0"/>
                  </a:lnTo>
                  <a:lnTo>
                    <a:pt x="0" y="0"/>
                  </a:lnTo>
                  <a:lnTo>
                    <a:pt x="0" y="543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65840" y="5391000"/>
              <a:ext cx="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37320" y="5391000"/>
              <a:ext cx="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67400" y="5391000"/>
              <a:ext cx="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43560" y="5391000"/>
              <a:ext cx="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51640" y="5391000"/>
              <a:ext cx="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75320" y="5457960"/>
              <a:ext cx="143280" cy="71640"/>
            </a:xfrm>
            <a:custGeom>
              <a:avLst/>
              <a:gdLst/>
              <a:ahLst/>
              <a:rect l="0" t="0" r="r" b="b"/>
              <a:pathLst>
                <a:path w="398" h="199">
                  <a:moveTo>
                    <a:pt x="0" y="199"/>
                  </a:moveTo>
                  <a:lnTo>
                    <a:pt x="0" y="0"/>
                  </a:lnTo>
                  <a:lnTo>
                    <a:pt x="398" y="0"/>
                  </a:lnTo>
                  <a:lnTo>
                    <a:pt x="398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9240" y="5391000"/>
              <a:ext cx="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86520" y="5207040"/>
              <a:ext cx="78120" cy="108360"/>
            </a:xfrm>
            <a:custGeom>
              <a:avLst/>
              <a:gdLst/>
              <a:ahLst/>
              <a:rect l="0" t="0" r="r" b="b"/>
              <a:pathLst>
                <a:path w="217" h="301">
                  <a:moveTo>
                    <a:pt x="0" y="301"/>
                  </a:moveTo>
                  <a:lnTo>
                    <a:pt x="0" y="0"/>
                  </a:lnTo>
                  <a:lnTo>
                    <a:pt x="217" y="0"/>
                  </a:lnTo>
                  <a:lnTo>
                    <a:pt x="217" y="301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86520" y="5207040"/>
              <a:ext cx="87840" cy="119520"/>
            </a:xfrm>
            <a:custGeom>
              <a:avLst/>
              <a:gdLst/>
              <a:ahLst/>
              <a:rect l="0" t="0" r="r" b="b"/>
              <a:pathLst>
                <a:path fill="none" w="244" h="332">
                  <a:moveTo>
                    <a:pt x="0" y="332"/>
                  </a:moveTo>
                  <a:lnTo>
                    <a:pt x="244" y="332"/>
                  </a:lnTo>
                  <a:lnTo>
                    <a:pt x="244" y="0"/>
                  </a:lnTo>
                  <a:lnTo>
                    <a:pt x="0" y="0"/>
                  </a:lnTo>
                  <a:lnTo>
                    <a:pt x="0" y="332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27720" y="5484960"/>
              <a:ext cx="491040" cy="197280"/>
            </a:xfrm>
            <a:custGeom>
              <a:avLst/>
              <a:gdLst/>
              <a:ahLst/>
              <a:rect l="0" t="0" r="r" b="b"/>
              <a:pathLst>
                <a:path w="1364" h="548">
                  <a:moveTo>
                    <a:pt x="0" y="548"/>
                  </a:moveTo>
                  <a:lnTo>
                    <a:pt x="0" y="0"/>
                  </a:lnTo>
                  <a:lnTo>
                    <a:pt x="1364" y="0"/>
                  </a:lnTo>
                  <a:lnTo>
                    <a:pt x="1364" y="548"/>
                  </a:lnTo>
                  <a:lnTo>
                    <a:pt x="0" y="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5335560" y="5504040"/>
              <a:ext cx="57168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PW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16160" y="5103720"/>
            <a:ext cx="1030680" cy="643320"/>
            <a:chOff x="2216160" y="5103720"/>
            <a:chExt cx="1030680" cy="643320"/>
          </a:xfrm>
        </p:grpSpPr>
        <p:sp>
          <p:nvSpPr>
            <p:cNvPr id="138" name=""/>
            <p:cNvSpPr/>
            <p:nvPr/>
          </p:nvSpPr>
          <p:spPr>
            <a:xfrm>
              <a:off x="2216160" y="5103720"/>
              <a:ext cx="1030680" cy="643320"/>
            </a:xfrm>
            <a:custGeom>
              <a:avLst/>
              <a:gdLst/>
              <a:ahLst/>
              <a:rect l="0" t="0" r="r" b="b"/>
              <a:pathLst>
                <a:path w="2863" h="1787">
                  <a:moveTo>
                    <a:pt x="2863" y="0"/>
                  </a:moveTo>
                  <a:lnTo>
                    <a:pt x="2514" y="0"/>
                  </a:lnTo>
                  <a:lnTo>
                    <a:pt x="2514" y="614"/>
                  </a:lnTo>
                  <a:lnTo>
                    <a:pt x="0" y="614"/>
                  </a:lnTo>
                  <a:lnTo>
                    <a:pt x="0" y="1787"/>
                  </a:lnTo>
                  <a:lnTo>
                    <a:pt x="2863" y="1787"/>
                  </a:lnTo>
                  <a:lnTo>
                    <a:pt x="2863" y="51"/>
                  </a:lnTo>
                  <a:lnTo>
                    <a:pt x="2863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30560" y="5351400"/>
              <a:ext cx="1003680" cy="356040"/>
            </a:xfrm>
            <a:custGeom>
              <a:avLst/>
              <a:gdLst/>
              <a:ahLst/>
              <a:rect l="0" t="0" r="r" b="b"/>
              <a:pathLst>
                <a:path w="2788" h="989">
                  <a:moveTo>
                    <a:pt x="271" y="0"/>
                  </a:moveTo>
                  <a:lnTo>
                    <a:pt x="271" y="657"/>
                  </a:lnTo>
                  <a:lnTo>
                    <a:pt x="2517" y="657"/>
                  </a:lnTo>
                  <a:lnTo>
                    <a:pt x="2517" y="0"/>
                  </a:lnTo>
                  <a:lnTo>
                    <a:pt x="2788" y="0"/>
                  </a:lnTo>
                  <a:lnTo>
                    <a:pt x="2788" y="989"/>
                  </a:lnTo>
                  <a:lnTo>
                    <a:pt x="0" y="989"/>
                  </a:lnTo>
                  <a:lnTo>
                    <a:pt x="0" y="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30560" y="5351400"/>
              <a:ext cx="1013040" cy="365400"/>
            </a:xfrm>
            <a:custGeom>
              <a:avLst/>
              <a:gdLst/>
              <a:ahLst/>
              <a:rect l="0" t="0" r="r" b="b"/>
              <a:pathLst>
                <a:path fill="none" w="2814" h="1015">
                  <a:moveTo>
                    <a:pt x="273" y="0"/>
                  </a:moveTo>
                  <a:lnTo>
                    <a:pt x="273" y="675"/>
                  </a:lnTo>
                  <a:lnTo>
                    <a:pt x="2540" y="675"/>
                  </a:lnTo>
                  <a:lnTo>
                    <a:pt x="2540" y="0"/>
                  </a:lnTo>
                  <a:lnTo>
                    <a:pt x="2814" y="0"/>
                  </a:lnTo>
                  <a:lnTo>
                    <a:pt x="2814" y="1015"/>
                  </a:lnTo>
                  <a:lnTo>
                    <a:pt x="0" y="1015"/>
                  </a:lnTo>
                  <a:lnTo>
                    <a:pt x="0" y="0"/>
                  </a:lnTo>
                  <a:lnTo>
                    <a:pt x="273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60520" y="5356080"/>
              <a:ext cx="748080" cy="186120"/>
            </a:xfrm>
            <a:custGeom>
              <a:avLst/>
              <a:gdLst/>
              <a:ahLst/>
              <a:rect l="0" t="0" r="r" b="b"/>
              <a:pathLst>
                <a:path w="2078" h="517">
                  <a:moveTo>
                    <a:pt x="0" y="517"/>
                  </a:moveTo>
                  <a:lnTo>
                    <a:pt x="0" y="0"/>
                  </a:lnTo>
                  <a:lnTo>
                    <a:pt x="2078" y="0"/>
                  </a:lnTo>
                  <a:lnTo>
                    <a:pt x="2078" y="517"/>
                  </a:lnTo>
                  <a:lnTo>
                    <a:pt x="0" y="5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0520" y="5356080"/>
              <a:ext cx="757440" cy="195480"/>
            </a:xfrm>
            <a:custGeom>
              <a:avLst/>
              <a:gdLst/>
              <a:ahLst/>
              <a:rect l="0" t="0" r="r" b="b"/>
              <a:pathLst>
                <a:path fill="none" w="2104" h="543">
                  <a:moveTo>
                    <a:pt x="0" y="543"/>
                  </a:moveTo>
                  <a:lnTo>
                    <a:pt x="2104" y="543"/>
                  </a:lnTo>
                  <a:lnTo>
                    <a:pt x="2104" y="0"/>
                  </a:lnTo>
                  <a:lnTo>
                    <a:pt x="0" y="0"/>
                  </a:lnTo>
                  <a:lnTo>
                    <a:pt x="0" y="543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28960" y="5356080"/>
              <a:ext cx="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98640" y="5356080"/>
              <a:ext cx="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30520" y="5356080"/>
              <a:ext cx="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08120" y="5356080"/>
              <a:ext cx="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6200" y="5356080"/>
              <a:ext cx="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38440" y="5424480"/>
              <a:ext cx="144720" cy="71640"/>
            </a:xfrm>
            <a:custGeom>
              <a:avLst/>
              <a:gdLst/>
              <a:ahLst/>
              <a:rect l="0" t="0" r="r" b="b"/>
              <a:pathLst>
                <a:path w="402" h="199">
                  <a:moveTo>
                    <a:pt x="0" y="199"/>
                  </a:moveTo>
                  <a:lnTo>
                    <a:pt x="0" y="0"/>
                  </a:lnTo>
                  <a:lnTo>
                    <a:pt x="402" y="0"/>
                  </a:lnTo>
                  <a:lnTo>
                    <a:pt x="40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62360" y="5356080"/>
              <a:ext cx="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47840" y="5168880"/>
              <a:ext cx="81360" cy="113040"/>
            </a:xfrm>
            <a:custGeom>
              <a:avLst/>
              <a:gdLst/>
              <a:ahLst/>
              <a:rect l="0" t="0" r="r" b="b"/>
              <a:pathLst>
                <a:path w="226" h="314">
                  <a:moveTo>
                    <a:pt x="0" y="314"/>
                  </a:moveTo>
                  <a:lnTo>
                    <a:pt x="0" y="0"/>
                  </a:lnTo>
                  <a:lnTo>
                    <a:pt x="226" y="0"/>
                  </a:lnTo>
                  <a:lnTo>
                    <a:pt x="226" y="314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47840" y="5168880"/>
              <a:ext cx="90720" cy="122760"/>
            </a:xfrm>
            <a:custGeom>
              <a:avLst/>
              <a:gdLst/>
              <a:ahLst/>
              <a:rect l="0" t="0" r="r" b="b"/>
              <a:pathLst>
                <a:path fill="none" w="252" h="341">
                  <a:moveTo>
                    <a:pt x="0" y="341"/>
                  </a:moveTo>
                  <a:lnTo>
                    <a:pt x="252" y="341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341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6520" y="5419800"/>
              <a:ext cx="835560" cy="255960"/>
            </a:xfrm>
            <a:custGeom>
              <a:avLst/>
              <a:gdLst/>
              <a:ahLst/>
              <a:rect l="0" t="0" r="r" b="b"/>
              <a:pathLst>
                <a:path w="2321" h="711">
                  <a:moveTo>
                    <a:pt x="0" y="711"/>
                  </a:moveTo>
                  <a:lnTo>
                    <a:pt x="0" y="0"/>
                  </a:lnTo>
                  <a:lnTo>
                    <a:pt x="2321" y="0"/>
                  </a:lnTo>
                  <a:lnTo>
                    <a:pt x="2321" y="711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235240" y="5518080"/>
              <a:ext cx="63828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I/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2241720" y="5398920"/>
              <a:ext cx="86040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AD-Ch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33480" y="4259160"/>
            <a:ext cx="1176840" cy="702000"/>
            <a:chOff x="933480" y="4259160"/>
            <a:chExt cx="1176840" cy="702000"/>
          </a:xfrm>
        </p:grpSpPr>
        <p:sp>
          <p:nvSpPr>
            <p:cNvPr id="156" name=""/>
            <p:cNvSpPr/>
            <p:nvPr/>
          </p:nvSpPr>
          <p:spPr>
            <a:xfrm>
              <a:off x="933480" y="4259160"/>
              <a:ext cx="1176840" cy="702000"/>
            </a:xfrm>
            <a:custGeom>
              <a:avLst/>
              <a:gdLst/>
              <a:ahLst/>
              <a:rect l="0" t="0" r="r" b="b"/>
              <a:pathLst>
                <a:path w="3269" h="1950">
                  <a:moveTo>
                    <a:pt x="3269" y="0"/>
                  </a:moveTo>
                  <a:lnTo>
                    <a:pt x="2869" y="0"/>
                  </a:lnTo>
                  <a:lnTo>
                    <a:pt x="2869" y="665"/>
                  </a:lnTo>
                  <a:lnTo>
                    <a:pt x="0" y="665"/>
                  </a:lnTo>
                  <a:lnTo>
                    <a:pt x="0" y="1950"/>
                  </a:lnTo>
                  <a:lnTo>
                    <a:pt x="3269" y="1950"/>
                  </a:lnTo>
                  <a:lnTo>
                    <a:pt x="3269" y="51"/>
                  </a:lnTo>
                  <a:lnTo>
                    <a:pt x="3269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52560" y="4527720"/>
              <a:ext cx="1141920" cy="387720"/>
            </a:xfrm>
            <a:custGeom>
              <a:avLst/>
              <a:gdLst/>
              <a:ahLst/>
              <a:rect l="0" t="0" r="r" b="b"/>
              <a:pathLst>
                <a:path w="3172" h="1077">
                  <a:moveTo>
                    <a:pt x="308" y="0"/>
                  </a:moveTo>
                  <a:lnTo>
                    <a:pt x="308" y="718"/>
                  </a:lnTo>
                  <a:lnTo>
                    <a:pt x="2864" y="718"/>
                  </a:lnTo>
                  <a:lnTo>
                    <a:pt x="2864" y="0"/>
                  </a:lnTo>
                  <a:lnTo>
                    <a:pt x="3172" y="0"/>
                  </a:lnTo>
                  <a:lnTo>
                    <a:pt x="3172" y="1077"/>
                  </a:lnTo>
                  <a:lnTo>
                    <a:pt x="0" y="1077"/>
                  </a:lnTo>
                  <a:lnTo>
                    <a:pt x="0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52560" y="4527720"/>
              <a:ext cx="1151280" cy="398880"/>
            </a:xfrm>
            <a:custGeom>
              <a:avLst/>
              <a:gdLst/>
              <a:ahLst/>
              <a:rect l="0" t="0" r="r" b="b"/>
              <a:pathLst>
                <a:path fill="none" w="3198" h="1108">
                  <a:moveTo>
                    <a:pt x="310" y="0"/>
                  </a:moveTo>
                  <a:lnTo>
                    <a:pt x="310" y="738"/>
                  </a:lnTo>
                  <a:lnTo>
                    <a:pt x="2887" y="738"/>
                  </a:lnTo>
                  <a:lnTo>
                    <a:pt x="2887" y="0"/>
                  </a:lnTo>
                  <a:lnTo>
                    <a:pt x="3198" y="0"/>
                  </a:lnTo>
                  <a:lnTo>
                    <a:pt x="3198" y="1108"/>
                  </a:lnTo>
                  <a:lnTo>
                    <a:pt x="0" y="1108"/>
                  </a:lnTo>
                  <a:lnTo>
                    <a:pt x="0" y="0"/>
                  </a:lnTo>
                  <a:lnTo>
                    <a:pt x="31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00160" y="4529160"/>
              <a:ext cx="849600" cy="205200"/>
            </a:xfrm>
            <a:custGeom>
              <a:avLst/>
              <a:gdLst/>
              <a:ahLst/>
              <a:rect l="0" t="0" r="r" b="b"/>
              <a:pathLst>
                <a:path w="2360" h="570">
                  <a:moveTo>
                    <a:pt x="0" y="570"/>
                  </a:moveTo>
                  <a:lnTo>
                    <a:pt x="0" y="0"/>
                  </a:lnTo>
                  <a:lnTo>
                    <a:pt x="2360" y="0"/>
                  </a:lnTo>
                  <a:lnTo>
                    <a:pt x="2360" y="570"/>
                  </a:lnTo>
                  <a:lnTo>
                    <a:pt x="0" y="5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00160" y="4529160"/>
              <a:ext cx="860760" cy="214560"/>
            </a:xfrm>
            <a:custGeom>
              <a:avLst/>
              <a:gdLst/>
              <a:ahLst/>
              <a:rect l="0" t="0" r="r" b="b"/>
              <a:pathLst>
                <a:path fill="none" w="2391" h="596">
                  <a:moveTo>
                    <a:pt x="0" y="596"/>
                  </a:moveTo>
                  <a:lnTo>
                    <a:pt x="2391" y="596"/>
                  </a:lnTo>
                  <a:lnTo>
                    <a:pt x="2391" y="0"/>
                  </a:lnTo>
                  <a:lnTo>
                    <a:pt x="0" y="0"/>
                  </a:lnTo>
                  <a:lnTo>
                    <a:pt x="0" y="596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47800" y="45291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98760" y="45291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07960" y="45291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8280" y="45291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03360" y="45291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5880" y="4605480"/>
              <a:ext cx="165600" cy="78120"/>
            </a:xfrm>
            <a:custGeom>
              <a:avLst/>
              <a:gdLst/>
              <a:ahLst/>
              <a:rect l="0" t="0" r="r" b="b"/>
              <a:pathLst>
                <a:path w="460" h="217">
                  <a:moveTo>
                    <a:pt x="0" y="217"/>
                  </a:moveTo>
                  <a:lnTo>
                    <a:pt x="0" y="0"/>
                  </a:lnTo>
                  <a:lnTo>
                    <a:pt x="460" y="0"/>
                  </a:lnTo>
                  <a:lnTo>
                    <a:pt x="46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71480" y="45291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90800" y="4334040"/>
              <a:ext cx="93960" cy="152640"/>
            </a:xfrm>
            <a:custGeom>
              <a:avLst/>
              <a:gdLst/>
              <a:ahLst/>
              <a:rect l="0" t="0" r="r" b="b"/>
              <a:pathLst>
                <a:path w="261" h="424">
                  <a:moveTo>
                    <a:pt x="0" y="424"/>
                  </a:moveTo>
                  <a:lnTo>
                    <a:pt x="0" y="0"/>
                  </a:lnTo>
                  <a:lnTo>
                    <a:pt x="261" y="0"/>
                  </a:lnTo>
                  <a:lnTo>
                    <a:pt x="261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90800" y="4334040"/>
              <a:ext cx="93960" cy="159120"/>
            </a:xfrm>
            <a:custGeom>
              <a:avLst/>
              <a:gdLst/>
              <a:ahLst/>
              <a:rect l="0" t="0" r="r" b="b"/>
              <a:pathLst>
                <a:path fill="none" w="261" h="442">
                  <a:moveTo>
                    <a:pt x="0" y="442"/>
                  </a:moveTo>
                  <a:lnTo>
                    <a:pt x="261" y="442"/>
                  </a:lnTo>
                  <a:lnTo>
                    <a:pt x="261" y="0"/>
                  </a:lnTo>
                  <a:lnTo>
                    <a:pt x="0" y="0"/>
                  </a:lnTo>
                  <a:lnTo>
                    <a:pt x="0" y="442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4613400"/>
              <a:ext cx="914760" cy="228960"/>
            </a:xfrm>
            <a:custGeom>
              <a:avLst/>
              <a:gdLst/>
              <a:ahLst/>
              <a:rect l="0" t="0" r="r" b="b"/>
              <a:pathLst>
                <a:path w="2541" h="636">
                  <a:moveTo>
                    <a:pt x="0" y="636"/>
                  </a:moveTo>
                  <a:lnTo>
                    <a:pt x="0" y="0"/>
                  </a:lnTo>
                  <a:lnTo>
                    <a:pt x="2541" y="0"/>
                  </a:lnTo>
                  <a:lnTo>
                    <a:pt x="2541" y="636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1023840" y="4646520"/>
              <a:ext cx="83520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fferent Mi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459080" y="884160"/>
            <a:ext cx="1282680" cy="673560"/>
            <a:chOff x="1459080" y="884160"/>
            <a:chExt cx="1282680" cy="673560"/>
          </a:xfrm>
        </p:grpSpPr>
        <p:sp>
          <p:nvSpPr>
            <p:cNvPr id="173" name=""/>
            <p:cNvSpPr/>
            <p:nvPr/>
          </p:nvSpPr>
          <p:spPr>
            <a:xfrm>
              <a:off x="1459080" y="884160"/>
              <a:ext cx="1265760" cy="673560"/>
            </a:xfrm>
            <a:custGeom>
              <a:avLst/>
              <a:gdLst/>
              <a:ahLst/>
              <a:rect l="0" t="0" r="r" b="b"/>
              <a:pathLst>
                <a:path w="3516" h="1871">
                  <a:moveTo>
                    <a:pt x="3369" y="1871"/>
                  </a:moveTo>
                  <a:lnTo>
                    <a:pt x="0" y="1871"/>
                  </a:lnTo>
                  <a:lnTo>
                    <a:pt x="0" y="1200"/>
                  </a:lnTo>
                  <a:lnTo>
                    <a:pt x="945" y="1200"/>
                  </a:lnTo>
                  <a:lnTo>
                    <a:pt x="945" y="0"/>
                  </a:lnTo>
                  <a:lnTo>
                    <a:pt x="3516" y="0"/>
                  </a:lnTo>
                  <a:lnTo>
                    <a:pt x="3516" y="1871"/>
                  </a:lnTo>
                  <a:lnTo>
                    <a:pt x="3369" y="1871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81040" y="1376280"/>
              <a:ext cx="114840" cy="151200"/>
            </a:xfrm>
            <a:custGeom>
              <a:avLst/>
              <a:gdLst/>
              <a:ahLst/>
              <a:rect l="0" t="0" r="r" b="b"/>
              <a:pathLst>
                <a:path w="319" h="420">
                  <a:moveTo>
                    <a:pt x="0" y="420"/>
                  </a:moveTo>
                  <a:lnTo>
                    <a:pt x="0" y="0"/>
                  </a:lnTo>
                  <a:lnTo>
                    <a:pt x="319" y="0"/>
                  </a:lnTo>
                  <a:lnTo>
                    <a:pt x="319" y="420"/>
                  </a:lnTo>
                  <a:lnTo>
                    <a:pt x="0" y="4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81040" y="1376280"/>
              <a:ext cx="125640" cy="162360"/>
            </a:xfrm>
            <a:custGeom>
              <a:avLst/>
              <a:gdLst/>
              <a:ahLst/>
              <a:rect l="0" t="0" r="r" b="b"/>
              <a:pathLst>
                <a:path fill="none" w="349" h="451">
                  <a:moveTo>
                    <a:pt x="0" y="451"/>
                  </a:moveTo>
                  <a:lnTo>
                    <a:pt x="349" y="451"/>
                  </a:lnTo>
                  <a:lnTo>
                    <a:pt x="349" y="0"/>
                  </a:lnTo>
                  <a:lnTo>
                    <a:pt x="0" y="0"/>
                  </a:lnTo>
                  <a:lnTo>
                    <a:pt x="0" y="451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51120" y="911160"/>
              <a:ext cx="687600" cy="348120"/>
            </a:xfrm>
            <a:custGeom>
              <a:avLst/>
              <a:gdLst/>
              <a:ahLst/>
              <a:rect l="0" t="0" r="r" b="b"/>
              <a:pathLst>
                <a:path w="1910" h="967">
                  <a:moveTo>
                    <a:pt x="0" y="967"/>
                  </a:moveTo>
                  <a:lnTo>
                    <a:pt x="0" y="0"/>
                  </a:lnTo>
                  <a:lnTo>
                    <a:pt x="1910" y="0"/>
                  </a:lnTo>
                  <a:lnTo>
                    <a:pt x="1910" y="967"/>
                  </a:lnTo>
                  <a:lnTo>
                    <a:pt x="0" y="9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51120" y="911160"/>
              <a:ext cx="697320" cy="357480"/>
            </a:xfrm>
            <a:custGeom>
              <a:avLst/>
              <a:gdLst/>
              <a:ahLst/>
              <a:rect l="0" t="0" r="r" b="b"/>
              <a:pathLst>
                <a:path fill="none" w="1937" h="993">
                  <a:moveTo>
                    <a:pt x="0" y="993"/>
                  </a:moveTo>
                  <a:lnTo>
                    <a:pt x="1937" y="993"/>
                  </a:lnTo>
                  <a:lnTo>
                    <a:pt x="1937" y="0"/>
                  </a:lnTo>
                  <a:lnTo>
                    <a:pt x="0" y="0"/>
                  </a:lnTo>
                  <a:lnTo>
                    <a:pt x="0" y="993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1720" y="1376280"/>
              <a:ext cx="983160" cy="151200"/>
            </a:xfrm>
            <a:custGeom>
              <a:avLst/>
              <a:gdLst/>
              <a:ahLst/>
              <a:rect l="0" t="0" r="r" b="b"/>
              <a:pathLst>
                <a:path w="2731" h="420">
                  <a:moveTo>
                    <a:pt x="0" y="420"/>
                  </a:moveTo>
                  <a:lnTo>
                    <a:pt x="0" y="0"/>
                  </a:lnTo>
                  <a:lnTo>
                    <a:pt x="2731" y="0"/>
                  </a:lnTo>
                  <a:lnTo>
                    <a:pt x="2731" y="420"/>
                  </a:lnTo>
                  <a:lnTo>
                    <a:pt x="0" y="4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01720" y="1376280"/>
              <a:ext cx="992520" cy="162360"/>
            </a:xfrm>
            <a:custGeom>
              <a:avLst/>
              <a:gdLst/>
              <a:ahLst/>
              <a:rect l="0" t="0" r="r" b="b"/>
              <a:pathLst>
                <a:path fill="none" w="2757" h="451">
                  <a:moveTo>
                    <a:pt x="0" y="451"/>
                  </a:moveTo>
                  <a:lnTo>
                    <a:pt x="2757" y="451"/>
                  </a:lnTo>
                  <a:lnTo>
                    <a:pt x="2757" y="0"/>
                  </a:lnTo>
                  <a:lnTo>
                    <a:pt x="0" y="0"/>
                  </a:lnTo>
                  <a:lnTo>
                    <a:pt x="0" y="451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52680" y="1378080"/>
              <a:ext cx="0" cy="153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85880" y="909720"/>
              <a:ext cx="146520" cy="356040"/>
            </a:xfrm>
            <a:custGeom>
              <a:avLst/>
              <a:gdLst/>
              <a:ahLst/>
              <a:rect l="0" t="0" r="r" b="b"/>
              <a:pathLst>
                <a:path w="407" h="989">
                  <a:moveTo>
                    <a:pt x="0" y="989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7" y="989"/>
                  </a:lnTo>
                  <a:lnTo>
                    <a:pt x="0" y="9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585880" y="909720"/>
              <a:ext cx="14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5880" y="909720"/>
              <a:ext cx="0" cy="366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85880" y="1276200"/>
              <a:ext cx="15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33560" y="1001880"/>
              <a:ext cx="703800" cy="376560"/>
            </a:xfrm>
            <a:custGeom>
              <a:avLst/>
              <a:gdLst/>
              <a:ahLst/>
              <a:rect l="0" t="0" r="r" b="b"/>
              <a:pathLst>
                <a:path w="1955" h="1046">
                  <a:moveTo>
                    <a:pt x="0" y="1046"/>
                  </a:moveTo>
                  <a:lnTo>
                    <a:pt x="0" y="0"/>
                  </a:lnTo>
                  <a:lnTo>
                    <a:pt x="1955" y="0"/>
                  </a:lnTo>
                  <a:lnTo>
                    <a:pt x="1955" y="1046"/>
                  </a:lnTo>
                  <a:lnTo>
                    <a:pt x="0" y="10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1901880" y="1003320"/>
              <a:ext cx="70812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2050920" y="1173240"/>
              <a:ext cx="44136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225440" y="2125800"/>
            <a:ext cx="730440" cy="554400"/>
            <a:chOff x="1225440" y="2125800"/>
            <a:chExt cx="730440" cy="554400"/>
          </a:xfrm>
        </p:grpSpPr>
        <p:sp>
          <p:nvSpPr>
            <p:cNvPr id="189" name=""/>
            <p:cNvSpPr/>
            <p:nvPr/>
          </p:nvSpPr>
          <p:spPr>
            <a:xfrm>
              <a:off x="1225440" y="2125800"/>
              <a:ext cx="730440" cy="554400"/>
            </a:xfrm>
            <a:custGeom>
              <a:avLst/>
              <a:gdLst/>
              <a:ahLst/>
              <a:rect l="0" t="0" r="r" b="b"/>
              <a:pathLst>
                <a:path w="2029" h="1540">
                  <a:moveTo>
                    <a:pt x="0" y="1540"/>
                  </a:moveTo>
                  <a:lnTo>
                    <a:pt x="0" y="0"/>
                  </a:lnTo>
                  <a:lnTo>
                    <a:pt x="2029" y="0"/>
                  </a:lnTo>
                  <a:lnTo>
                    <a:pt x="2029" y="1540"/>
                  </a:lnTo>
                  <a:lnTo>
                    <a:pt x="0" y="154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05000" y="2185920"/>
              <a:ext cx="597240" cy="433800"/>
            </a:xfrm>
            <a:custGeom>
              <a:avLst/>
              <a:gdLst/>
              <a:ahLst/>
              <a:rect l="0" t="0" r="r" b="b"/>
              <a:pathLst>
                <a:path w="1659" h="1205">
                  <a:moveTo>
                    <a:pt x="0" y="1205"/>
                  </a:moveTo>
                  <a:lnTo>
                    <a:pt x="0" y="0"/>
                  </a:lnTo>
                  <a:lnTo>
                    <a:pt x="1659" y="0"/>
                  </a:lnTo>
                  <a:lnTo>
                    <a:pt x="1659" y="1205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05000" y="2185920"/>
              <a:ext cx="606960" cy="443160"/>
            </a:xfrm>
            <a:custGeom>
              <a:avLst/>
              <a:gdLst/>
              <a:ahLst/>
              <a:rect l="0" t="0" r="r" b="b"/>
              <a:pathLst>
                <a:path fill="none" w="1686" h="1231">
                  <a:moveTo>
                    <a:pt x="0" y="1231"/>
                  </a:moveTo>
                  <a:lnTo>
                    <a:pt x="1686" y="1231"/>
                  </a:lnTo>
                  <a:lnTo>
                    <a:pt x="1686" y="0"/>
                  </a:lnTo>
                  <a:lnTo>
                    <a:pt x="0" y="0"/>
                  </a:lnTo>
                  <a:lnTo>
                    <a:pt x="0" y="1231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1268280" y="2232000"/>
              <a:ext cx="62532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x 4 K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362240" y="2400480"/>
              <a:ext cx="46044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102440" y="2166840"/>
            <a:ext cx="779760" cy="522720"/>
            <a:chOff x="7102440" y="2166840"/>
            <a:chExt cx="779760" cy="522720"/>
          </a:xfrm>
        </p:grpSpPr>
        <p:sp>
          <p:nvSpPr>
            <p:cNvPr id="195" name=""/>
            <p:cNvSpPr/>
            <p:nvPr/>
          </p:nvSpPr>
          <p:spPr>
            <a:xfrm>
              <a:off x="7102440" y="2166840"/>
              <a:ext cx="779760" cy="522720"/>
            </a:xfrm>
            <a:custGeom>
              <a:avLst/>
              <a:gdLst/>
              <a:ahLst/>
              <a:rect l="0" t="0" r="r" b="b"/>
              <a:pathLst>
                <a:path w="2166" h="1452">
                  <a:moveTo>
                    <a:pt x="0" y="1452"/>
                  </a:moveTo>
                  <a:lnTo>
                    <a:pt x="0" y="0"/>
                  </a:lnTo>
                  <a:lnTo>
                    <a:pt x="2166" y="0"/>
                  </a:lnTo>
                  <a:lnTo>
                    <a:pt x="2166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78760" y="2219400"/>
              <a:ext cx="624240" cy="405000"/>
            </a:xfrm>
            <a:custGeom>
              <a:avLst/>
              <a:gdLst/>
              <a:ahLst/>
              <a:rect l="0" t="0" r="r" b="b"/>
              <a:pathLst>
                <a:path w="1734" h="1125">
                  <a:moveTo>
                    <a:pt x="0" y="1125"/>
                  </a:moveTo>
                  <a:lnTo>
                    <a:pt x="0" y="0"/>
                  </a:lnTo>
                  <a:lnTo>
                    <a:pt x="1734" y="0"/>
                  </a:lnTo>
                  <a:lnTo>
                    <a:pt x="1734" y="1125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78760" y="2219400"/>
              <a:ext cx="633600" cy="416160"/>
            </a:xfrm>
            <a:custGeom>
              <a:avLst/>
              <a:gdLst/>
              <a:ahLst/>
              <a:rect l="0" t="0" r="r" b="b"/>
              <a:pathLst>
                <a:path fill="none" w="1760" h="1156">
                  <a:moveTo>
                    <a:pt x="0" y="1156"/>
                  </a:moveTo>
                  <a:lnTo>
                    <a:pt x="1760" y="1156"/>
                  </a:lnTo>
                  <a:lnTo>
                    <a:pt x="1760" y="0"/>
                  </a:lnTo>
                  <a:lnTo>
                    <a:pt x="0" y="0"/>
                  </a:lnTo>
                  <a:lnTo>
                    <a:pt x="0" y="1156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7124760" y="2259000"/>
              <a:ext cx="67644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x 512 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7261200" y="2427120"/>
              <a:ext cx="44784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43360" y="776160"/>
            <a:ext cx="1285920" cy="671760"/>
            <a:chOff x="3843360" y="776160"/>
            <a:chExt cx="1285920" cy="671760"/>
          </a:xfrm>
        </p:grpSpPr>
        <p:sp>
          <p:nvSpPr>
            <p:cNvPr id="201" name=""/>
            <p:cNvSpPr/>
            <p:nvPr/>
          </p:nvSpPr>
          <p:spPr>
            <a:xfrm>
              <a:off x="3843360" y="776160"/>
              <a:ext cx="1265760" cy="671760"/>
            </a:xfrm>
            <a:custGeom>
              <a:avLst/>
              <a:gdLst/>
              <a:ahLst/>
              <a:rect l="0" t="0" r="r" b="b"/>
              <a:pathLst>
                <a:path w="3516" h="1866">
                  <a:moveTo>
                    <a:pt x="3369" y="1866"/>
                  </a:moveTo>
                  <a:lnTo>
                    <a:pt x="0" y="1866"/>
                  </a:lnTo>
                  <a:lnTo>
                    <a:pt x="0" y="1201"/>
                  </a:lnTo>
                  <a:lnTo>
                    <a:pt x="945" y="1201"/>
                  </a:lnTo>
                  <a:lnTo>
                    <a:pt x="945" y="0"/>
                  </a:lnTo>
                  <a:lnTo>
                    <a:pt x="3516" y="0"/>
                  </a:lnTo>
                  <a:lnTo>
                    <a:pt x="3516" y="1866"/>
                  </a:lnTo>
                  <a:lnTo>
                    <a:pt x="3369" y="1866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65680" y="1268280"/>
              <a:ext cx="117720" cy="152640"/>
            </a:xfrm>
            <a:custGeom>
              <a:avLst/>
              <a:gdLst/>
              <a:ahLst/>
              <a:rect l="0" t="0" r="r" b="b"/>
              <a:pathLst>
                <a:path w="327" h="424">
                  <a:moveTo>
                    <a:pt x="0" y="424"/>
                  </a:moveTo>
                  <a:lnTo>
                    <a:pt x="0" y="0"/>
                  </a:lnTo>
                  <a:lnTo>
                    <a:pt x="327" y="0"/>
                  </a:lnTo>
                  <a:lnTo>
                    <a:pt x="327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65680" y="1268280"/>
              <a:ext cx="128880" cy="162360"/>
            </a:xfrm>
            <a:custGeom>
              <a:avLst/>
              <a:gdLst/>
              <a:ahLst/>
              <a:rect l="0" t="0" r="r" b="b"/>
              <a:pathLst>
                <a:path fill="none" w="358" h="451">
                  <a:moveTo>
                    <a:pt x="0" y="451"/>
                  </a:moveTo>
                  <a:lnTo>
                    <a:pt x="358" y="451"/>
                  </a:lnTo>
                  <a:lnTo>
                    <a:pt x="358" y="0"/>
                  </a:lnTo>
                  <a:lnTo>
                    <a:pt x="0" y="0"/>
                  </a:lnTo>
                  <a:lnTo>
                    <a:pt x="0" y="451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5400" y="806400"/>
              <a:ext cx="687600" cy="346320"/>
            </a:xfrm>
            <a:custGeom>
              <a:avLst/>
              <a:gdLst/>
              <a:ahLst/>
              <a:rect l="0" t="0" r="r" b="b"/>
              <a:pathLst>
                <a:path w="1910" h="962">
                  <a:moveTo>
                    <a:pt x="0" y="962"/>
                  </a:moveTo>
                  <a:lnTo>
                    <a:pt x="0" y="0"/>
                  </a:lnTo>
                  <a:lnTo>
                    <a:pt x="1910" y="0"/>
                  </a:lnTo>
                  <a:lnTo>
                    <a:pt x="1910" y="962"/>
                  </a:lnTo>
                  <a:lnTo>
                    <a:pt x="0" y="9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5400" y="806400"/>
              <a:ext cx="697320" cy="357480"/>
            </a:xfrm>
            <a:custGeom>
              <a:avLst/>
              <a:gdLst/>
              <a:ahLst/>
              <a:rect l="0" t="0" r="r" b="b"/>
              <a:pathLst>
                <a:path fill="none" w="1937" h="993">
                  <a:moveTo>
                    <a:pt x="0" y="993"/>
                  </a:moveTo>
                  <a:lnTo>
                    <a:pt x="1937" y="993"/>
                  </a:lnTo>
                  <a:lnTo>
                    <a:pt x="1937" y="0"/>
                  </a:lnTo>
                  <a:lnTo>
                    <a:pt x="0" y="0"/>
                  </a:lnTo>
                  <a:lnTo>
                    <a:pt x="0" y="993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81320" y="1268280"/>
              <a:ext cx="981360" cy="152640"/>
            </a:xfrm>
            <a:custGeom>
              <a:avLst/>
              <a:gdLst/>
              <a:ahLst/>
              <a:rect l="0" t="0" r="r" b="b"/>
              <a:pathLst>
                <a:path w="2726" h="424">
                  <a:moveTo>
                    <a:pt x="0" y="424"/>
                  </a:moveTo>
                  <a:lnTo>
                    <a:pt x="0" y="0"/>
                  </a:lnTo>
                  <a:lnTo>
                    <a:pt x="2726" y="0"/>
                  </a:lnTo>
                  <a:lnTo>
                    <a:pt x="2726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89240" y="1268280"/>
              <a:ext cx="992520" cy="162360"/>
            </a:xfrm>
            <a:custGeom>
              <a:avLst/>
              <a:gdLst/>
              <a:ahLst/>
              <a:rect l="0" t="0" r="r" b="b"/>
              <a:pathLst>
                <a:path fill="none" w="2757" h="451">
                  <a:moveTo>
                    <a:pt x="0" y="451"/>
                  </a:moveTo>
                  <a:lnTo>
                    <a:pt x="2757" y="451"/>
                  </a:lnTo>
                  <a:lnTo>
                    <a:pt x="2757" y="0"/>
                  </a:lnTo>
                  <a:lnTo>
                    <a:pt x="0" y="0"/>
                  </a:lnTo>
                  <a:lnTo>
                    <a:pt x="0" y="451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38760" y="1271520"/>
              <a:ext cx="0" cy="154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71960" y="801720"/>
              <a:ext cx="146520" cy="354240"/>
            </a:xfrm>
            <a:custGeom>
              <a:avLst/>
              <a:gdLst/>
              <a:ahLst/>
              <a:rect l="0" t="0" r="r" b="b"/>
              <a:pathLst>
                <a:path w="407" h="984">
                  <a:moveTo>
                    <a:pt x="0" y="984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7" y="984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971960" y="801720"/>
              <a:ext cx="146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71960" y="801720"/>
              <a:ext cx="0" cy="363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71960" y="1165320"/>
              <a:ext cx="157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27480" y="984240"/>
              <a:ext cx="700560" cy="375120"/>
            </a:xfrm>
            <a:custGeom>
              <a:avLst/>
              <a:gdLst/>
              <a:ahLst/>
              <a:rect l="0" t="0" r="r" b="b"/>
              <a:pathLst>
                <a:path w="1946" h="1042">
                  <a:moveTo>
                    <a:pt x="0" y="1042"/>
                  </a:moveTo>
                  <a:lnTo>
                    <a:pt x="0" y="0"/>
                  </a:lnTo>
                  <a:lnTo>
                    <a:pt x="1946" y="0"/>
                  </a:lnTo>
                  <a:lnTo>
                    <a:pt x="1946" y="104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133880" y="992160"/>
              <a:ext cx="84132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wngrad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341960" y="1152360"/>
              <a:ext cx="45396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889360" y="1719360"/>
            <a:ext cx="479160" cy="4856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491000" y="1576440"/>
            <a:ext cx="12600" cy="6285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5760" y="4346640"/>
            <a:ext cx="682560" cy="4348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387600" y="4491000"/>
            <a:ext cx="622440" cy="6825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5092560" y="4599000"/>
            <a:ext cx="441360" cy="6253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205680" y="4264200"/>
            <a:ext cx="666720" cy="555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0440" y="2492280"/>
            <a:ext cx="627120" cy="2016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138400" y="3021120"/>
            <a:ext cx="828720" cy="4492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57160" y="3152880"/>
            <a:ext cx="1045080" cy="554400"/>
            <a:chOff x="857160" y="3152880"/>
            <a:chExt cx="1045080" cy="554400"/>
          </a:xfrm>
        </p:grpSpPr>
        <p:sp>
          <p:nvSpPr>
            <p:cNvPr id="225" name=""/>
            <p:cNvSpPr/>
            <p:nvPr/>
          </p:nvSpPr>
          <p:spPr>
            <a:xfrm>
              <a:off x="857160" y="3152880"/>
              <a:ext cx="1045080" cy="554400"/>
            </a:xfrm>
            <a:custGeom>
              <a:avLst/>
              <a:gdLst/>
              <a:ahLst/>
              <a:rect l="0" t="0" r="r" b="b"/>
              <a:pathLst>
                <a:path w="2903" h="1540">
                  <a:moveTo>
                    <a:pt x="0" y="1540"/>
                  </a:moveTo>
                  <a:lnTo>
                    <a:pt x="0" y="0"/>
                  </a:lnTo>
                  <a:lnTo>
                    <a:pt x="2903" y="0"/>
                  </a:lnTo>
                  <a:lnTo>
                    <a:pt x="2903" y="1540"/>
                  </a:lnTo>
                  <a:lnTo>
                    <a:pt x="0" y="154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34920" y="3209760"/>
              <a:ext cx="887760" cy="437040"/>
            </a:xfrm>
            <a:custGeom>
              <a:avLst/>
              <a:gdLst/>
              <a:ahLst/>
              <a:rect l="0" t="0" r="r" b="b"/>
              <a:pathLst>
                <a:path w="2466" h="1214">
                  <a:moveTo>
                    <a:pt x="0" y="1214"/>
                  </a:moveTo>
                  <a:lnTo>
                    <a:pt x="0" y="0"/>
                  </a:lnTo>
                  <a:lnTo>
                    <a:pt x="2466" y="0"/>
                  </a:lnTo>
                  <a:lnTo>
                    <a:pt x="2466" y="1214"/>
                  </a:lnTo>
                  <a:lnTo>
                    <a:pt x="0" y="12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34920" y="3209760"/>
              <a:ext cx="898920" cy="448200"/>
            </a:xfrm>
            <a:custGeom>
              <a:avLst/>
              <a:gdLst/>
              <a:ahLst/>
              <a:rect l="0" t="0" r="r" b="b"/>
              <a:pathLst>
                <a:path fill="none" w="2497" h="1245">
                  <a:moveTo>
                    <a:pt x="0" y="1245"/>
                  </a:moveTo>
                  <a:lnTo>
                    <a:pt x="2497" y="1245"/>
                  </a:lnTo>
                  <a:lnTo>
                    <a:pt x="2497" y="0"/>
                  </a:lnTo>
                  <a:lnTo>
                    <a:pt x="0" y="0"/>
                  </a:lnTo>
                  <a:lnTo>
                    <a:pt x="0" y="1245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1044720" y="3262320"/>
              <a:ext cx="62532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x 8 K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880920" y="3433680"/>
              <a:ext cx="93024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Flash-EPRO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>
            <a:off x="6170760" y="2367000"/>
            <a:ext cx="726840" cy="226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70640" y="2394000"/>
            <a:ext cx="336960" cy="621000"/>
          </a:xfrm>
          <a:custGeom>
            <a:avLst/>
            <a:gdLst/>
            <a:ahLst/>
            <a:rect l="0" t="0" r="r" b="b"/>
            <a:pathLst>
              <a:path w="936" h="1725">
                <a:moveTo>
                  <a:pt x="0" y="1725"/>
                </a:moveTo>
                <a:lnTo>
                  <a:pt x="0" y="0"/>
                </a:lnTo>
                <a:lnTo>
                  <a:pt x="936" y="0"/>
                </a:lnTo>
                <a:lnTo>
                  <a:pt x="936" y="1725"/>
                </a:lnTo>
                <a:lnTo>
                  <a:pt x="0" y="1725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0" y="2394000"/>
            <a:ext cx="551160" cy="621000"/>
          </a:xfrm>
          <a:custGeom>
            <a:avLst/>
            <a:gdLst/>
            <a:ahLst/>
            <a:rect l="0" t="0" r="r" b="b"/>
            <a:pathLst>
              <a:path w="1531" h="1725">
                <a:moveTo>
                  <a:pt x="0" y="1725"/>
                </a:moveTo>
                <a:lnTo>
                  <a:pt x="0" y="0"/>
                </a:lnTo>
                <a:lnTo>
                  <a:pt x="1531" y="0"/>
                </a:lnTo>
                <a:lnTo>
                  <a:pt x="1531" y="1725"/>
                </a:lnTo>
                <a:lnTo>
                  <a:pt x="0" y="1725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0" y="3062160"/>
            <a:ext cx="2667240" cy="1290960"/>
          </a:xfrm>
          <a:custGeom>
            <a:avLst/>
            <a:gdLst/>
            <a:ahLst/>
            <a:rect l="0" t="0" r="r" b="b"/>
            <a:pathLst>
              <a:path w="7409" h="3586">
                <a:moveTo>
                  <a:pt x="7409" y="0"/>
                </a:moveTo>
                <a:lnTo>
                  <a:pt x="6498" y="0"/>
                </a:lnTo>
                <a:lnTo>
                  <a:pt x="6498" y="1232"/>
                </a:lnTo>
                <a:lnTo>
                  <a:pt x="0" y="1232"/>
                </a:lnTo>
                <a:lnTo>
                  <a:pt x="0" y="3586"/>
                </a:lnTo>
                <a:lnTo>
                  <a:pt x="7409" y="3586"/>
                </a:lnTo>
                <a:lnTo>
                  <a:pt x="7409" y="103"/>
                </a:lnTo>
                <a:lnTo>
                  <a:pt x="7409" y="0"/>
                </a:lnTo>
                <a:close/>
              </a:path>
            </a:pathLst>
          </a:custGeom>
          <a:solidFill>
            <a:srgbClr val="21212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0" y="2394000"/>
            <a:ext cx="2271960" cy="1030680"/>
          </a:xfrm>
          <a:custGeom>
            <a:avLst/>
            <a:gdLst/>
            <a:ahLst/>
            <a:rect l="0" t="0" r="r" b="b"/>
            <a:pathLst>
              <a:path w="6311" h="2863">
                <a:moveTo>
                  <a:pt x="6047" y="2863"/>
                </a:moveTo>
                <a:lnTo>
                  <a:pt x="0" y="2863"/>
                </a:lnTo>
                <a:lnTo>
                  <a:pt x="0" y="1838"/>
                </a:lnTo>
                <a:lnTo>
                  <a:pt x="1687" y="1838"/>
                </a:lnTo>
                <a:lnTo>
                  <a:pt x="1687" y="0"/>
                </a:lnTo>
                <a:lnTo>
                  <a:pt x="6311" y="0"/>
                </a:lnTo>
                <a:lnTo>
                  <a:pt x="6311" y="2863"/>
                </a:lnTo>
                <a:lnTo>
                  <a:pt x="6047" y="2863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8160" y="2436840"/>
            <a:ext cx="473400" cy="533880"/>
          </a:xfrm>
          <a:custGeom>
            <a:avLst/>
            <a:gdLst/>
            <a:ahLst/>
            <a:rect l="0" t="0" r="r" b="b"/>
            <a:pathLst>
              <a:path w="1315" h="1483">
                <a:moveTo>
                  <a:pt x="0" y="1483"/>
                </a:moveTo>
                <a:lnTo>
                  <a:pt x="0" y="0"/>
                </a:lnTo>
                <a:lnTo>
                  <a:pt x="1315" y="0"/>
                </a:lnTo>
                <a:lnTo>
                  <a:pt x="1315" y="1483"/>
                </a:lnTo>
                <a:lnTo>
                  <a:pt x="0" y="14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160" y="2436840"/>
            <a:ext cx="483120" cy="543240"/>
          </a:xfrm>
          <a:custGeom>
            <a:avLst/>
            <a:gdLst/>
            <a:ahLst/>
            <a:rect l="0" t="0" r="r" b="b"/>
            <a:pathLst>
              <a:path fill="none" w="1342" h="1509">
                <a:moveTo>
                  <a:pt x="0" y="1509"/>
                </a:moveTo>
                <a:lnTo>
                  <a:pt x="1342" y="1509"/>
                </a:lnTo>
                <a:lnTo>
                  <a:pt x="1342" y="0"/>
                </a:lnTo>
                <a:lnTo>
                  <a:pt x="0" y="0"/>
                </a:lnTo>
                <a:lnTo>
                  <a:pt x="0" y="150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73480" y="2600280"/>
            <a:ext cx="4478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306600" y="2749680"/>
            <a:ext cx="37152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RO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8160" y="3143160"/>
            <a:ext cx="216360" cy="236880"/>
          </a:xfrm>
          <a:custGeom>
            <a:avLst/>
            <a:gdLst/>
            <a:ahLst/>
            <a:rect l="0" t="0" r="r" b="b"/>
            <a:pathLst>
              <a:path w="601" h="658">
                <a:moveTo>
                  <a:pt x="0" y="658"/>
                </a:moveTo>
                <a:lnTo>
                  <a:pt x="0" y="0"/>
                </a:lnTo>
                <a:lnTo>
                  <a:pt x="601" y="0"/>
                </a:lnTo>
                <a:lnTo>
                  <a:pt x="601" y="658"/>
                </a:lnTo>
                <a:lnTo>
                  <a:pt x="0" y="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8160" y="3143160"/>
            <a:ext cx="225720" cy="246600"/>
          </a:xfrm>
          <a:custGeom>
            <a:avLst/>
            <a:gdLst/>
            <a:ahLst/>
            <a:rect l="0" t="0" r="r" b="b"/>
            <a:pathLst>
              <a:path fill="none" w="627" h="685">
                <a:moveTo>
                  <a:pt x="0" y="685"/>
                </a:moveTo>
                <a:lnTo>
                  <a:pt x="627" y="685"/>
                </a:lnTo>
                <a:lnTo>
                  <a:pt x="627" y="0"/>
                </a:lnTo>
                <a:lnTo>
                  <a:pt x="0" y="0"/>
                </a:lnTo>
                <a:lnTo>
                  <a:pt x="0" y="68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198960" y="3195720"/>
            <a:ext cx="3794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OS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62560" y="2436840"/>
            <a:ext cx="506880" cy="533880"/>
          </a:xfrm>
          <a:custGeom>
            <a:avLst/>
            <a:gdLst/>
            <a:ahLst/>
            <a:rect l="0" t="0" r="r" b="b"/>
            <a:pathLst>
              <a:path w="1408" h="1483">
                <a:moveTo>
                  <a:pt x="0" y="1483"/>
                </a:moveTo>
                <a:lnTo>
                  <a:pt x="0" y="0"/>
                </a:lnTo>
                <a:lnTo>
                  <a:pt x="1408" y="0"/>
                </a:lnTo>
                <a:lnTo>
                  <a:pt x="1408" y="1483"/>
                </a:lnTo>
                <a:lnTo>
                  <a:pt x="0" y="14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62560" y="2436840"/>
            <a:ext cx="516240" cy="543240"/>
          </a:xfrm>
          <a:custGeom>
            <a:avLst/>
            <a:gdLst/>
            <a:ahLst/>
            <a:rect l="0" t="0" r="r" b="b"/>
            <a:pathLst>
              <a:path fill="none" w="1434" h="1509">
                <a:moveTo>
                  <a:pt x="0" y="1509"/>
                </a:moveTo>
                <a:lnTo>
                  <a:pt x="1434" y="1509"/>
                </a:lnTo>
                <a:lnTo>
                  <a:pt x="1434" y="0"/>
                </a:lnTo>
                <a:lnTo>
                  <a:pt x="0" y="0"/>
                </a:lnTo>
                <a:lnTo>
                  <a:pt x="0" y="150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59320" y="2562120"/>
            <a:ext cx="4478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425920" y="2749680"/>
            <a:ext cx="36360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R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76680" y="3141720"/>
            <a:ext cx="1767240" cy="238320"/>
          </a:xfrm>
          <a:custGeom>
            <a:avLst/>
            <a:gdLst/>
            <a:ahLst/>
            <a:rect l="0" t="0" r="r" b="b"/>
            <a:pathLst>
              <a:path w="4909" h="662">
                <a:moveTo>
                  <a:pt x="0" y="662"/>
                </a:moveTo>
                <a:lnTo>
                  <a:pt x="0" y="0"/>
                </a:lnTo>
                <a:lnTo>
                  <a:pt x="4909" y="0"/>
                </a:lnTo>
                <a:lnTo>
                  <a:pt x="4909" y="662"/>
                </a:lnTo>
                <a:lnTo>
                  <a:pt x="0" y="6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76680" y="3141720"/>
            <a:ext cx="1778400" cy="248040"/>
          </a:xfrm>
          <a:custGeom>
            <a:avLst/>
            <a:gdLst/>
            <a:ahLst/>
            <a:rect l="0" t="0" r="r" b="b"/>
            <a:pathLst>
              <a:path fill="none" w="4940" h="689">
                <a:moveTo>
                  <a:pt x="0" y="689"/>
                </a:moveTo>
                <a:lnTo>
                  <a:pt x="4940" y="689"/>
                </a:lnTo>
                <a:lnTo>
                  <a:pt x="4940" y="0"/>
                </a:lnTo>
                <a:lnTo>
                  <a:pt x="0" y="0"/>
                </a:lnTo>
                <a:lnTo>
                  <a:pt x="0" y="68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21280" y="314784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67360" y="3193920"/>
            <a:ext cx="35100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75040" y="3193920"/>
            <a:ext cx="82872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Interrupt Controll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27520" y="3143160"/>
            <a:ext cx="241560" cy="236880"/>
          </a:xfrm>
          <a:custGeom>
            <a:avLst/>
            <a:gdLst/>
            <a:ahLst/>
            <a:rect l="0" t="0" r="r" b="b"/>
            <a:pathLst>
              <a:path w="671" h="658">
                <a:moveTo>
                  <a:pt x="0" y="658"/>
                </a:moveTo>
                <a:lnTo>
                  <a:pt x="0" y="0"/>
                </a:lnTo>
                <a:lnTo>
                  <a:pt x="671" y="0"/>
                </a:lnTo>
                <a:lnTo>
                  <a:pt x="671" y="658"/>
                </a:lnTo>
                <a:lnTo>
                  <a:pt x="0" y="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27520" y="3143160"/>
            <a:ext cx="251280" cy="246600"/>
          </a:xfrm>
          <a:custGeom>
            <a:avLst/>
            <a:gdLst/>
            <a:ahLst/>
            <a:rect l="0" t="0" r="r" b="b"/>
            <a:pathLst>
              <a:path fill="none" w="698" h="685">
                <a:moveTo>
                  <a:pt x="0" y="685"/>
                </a:moveTo>
                <a:lnTo>
                  <a:pt x="698" y="685"/>
                </a:lnTo>
                <a:lnTo>
                  <a:pt x="698" y="0"/>
                </a:lnTo>
                <a:lnTo>
                  <a:pt x="0" y="0"/>
                </a:lnTo>
                <a:lnTo>
                  <a:pt x="0" y="68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567400" y="3186000"/>
            <a:ext cx="3668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WD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8160" y="3552840"/>
            <a:ext cx="2591280" cy="717840"/>
          </a:xfrm>
          <a:custGeom>
            <a:avLst/>
            <a:gdLst/>
            <a:ahLst/>
            <a:rect l="0" t="0" r="r" b="b"/>
            <a:pathLst>
              <a:path w="7198" h="1994">
                <a:moveTo>
                  <a:pt x="698" y="0"/>
                </a:moveTo>
                <a:lnTo>
                  <a:pt x="698" y="1328"/>
                </a:lnTo>
                <a:lnTo>
                  <a:pt x="6500" y="1328"/>
                </a:lnTo>
                <a:lnTo>
                  <a:pt x="6500" y="0"/>
                </a:lnTo>
                <a:lnTo>
                  <a:pt x="7198" y="0"/>
                </a:lnTo>
                <a:lnTo>
                  <a:pt x="7198" y="1994"/>
                </a:lnTo>
                <a:lnTo>
                  <a:pt x="0" y="1994"/>
                </a:lnTo>
                <a:lnTo>
                  <a:pt x="0" y="0"/>
                </a:lnTo>
                <a:lnTo>
                  <a:pt x="6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8160" y="3552840"/>
            <a:ext cx="2600640" cy="729000"/>
          </a:xfrm>
          <a:custGeom>
            <a:avLst/>
            <a:gdLst/>
            <a:ahLst/>
            <a:rect l="0" t="0" r="r" b="b"/>
            <a:pathLst>
              <a:path fill="none" w="7224" h="2025">
                <a:moveTo>
                  <a:pt x="700" y="0"/>
                </a:moveTo>
                <a:lnTo>
                  <a:pt x="700" y="1348"/>
                </a:lnTo>
                <a:lnTo>
                  <a:pt x="6523" y="1348"/>
                </a:lnTo>
                <a:lnTo>
                  <a:pt x="6523" y="0"/>
                </a:lnTo>
                <a:lnTo>
                  <a:pt x="7224" y="0"/>
                </a:lnTo>
                <a:lnTo>
                  <a:pt x="7224" y="2025"/>
                </a:lnTo>
                <a:lnTo>
                  <a:pt x="0" y="2025"/>
                </a:lnTo>
                <a:lnTo>
                  <a:pt x="0" y="0"/>
                </a:lnTo>
                <a:lnTo>
                  <a:pt x="70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64200" y="4071960"/>
            <a:ext cx="45576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OR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10080" y="3560760"/>
            <a:ext cx="1935360" cy="378360"/>
          </a:xfrm>
          <a:custGeom>
            <a:avLst/>
            <a:gdLst/>
            <a:ahLst/>
            <a:rect l="0" t="0" r="r" b="b"/>
            <a:pathLst>
              <a:path w="5376" h="1051">
                <a:moveTo>
                  <a:pt x="0" y="1051"/>
                </a:moveTo>
                <a:lnTo>
                  <a:pt x="0" y="0"/>
                </a:lnTo>
                <a:lnTo>
                  <a:pt x="5376" y="0"/>
                </a:lnTo>
                <a:lnTo>
                  <a:pt x="5376" y="1051"/>
                </a:lnTo>
                <a:lnTo>
                  <a:pt x="0" y="10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10080" y="3560760"/>
            <a:ext cx="1945080" cy="389160"/>
          </a:xfrm>
          <a:custGeom>
            <a:avLst/>
            <a:gdLst/>
            <a:ahLst/>
            <a:rect l="0" t="0" r="r" b="b"/>
            <a:pathLst>
              <a:path fill="none" w="5403" h="1081">
                <a:moveTo>
                  <a:pt x="0" y="1081"/>
                </a:moveTo>
                <a:lnTo>
                  <a:pt x="5403" y="1081"/>
                </a:lnTo>
                <a:lnTo>
                  <a:pt x="5403" y="0"/>
                </a:lnTo>
                <a:lnTo>
                  <a:pt x="0" y="0"/>
                </a:lnTo>
                <a:lnTo>
                  <a:pt x="0" y="108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16600" y="3693960"/>
            <a:ext cx="52848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CAPCO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29040" y="3597120"/>
            <a:ext cx="38412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10-bi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5400" y="3738600"/>
            <a:ext cx="35388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AD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2040" y="3560760"/>
            <a:ext cx="0" cy="38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40120" y="3560760"/>
            <a:ext cx="0" cy="38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07040" y="3560760"/>
            <a:ext cx="0" cy="38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90960" y="3560760"/>
            <a:ext cx="0" cy="38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543120" y="3693960"/>
            <a:ext cx="3254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Bu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543120" y="3808440"/>
            <a:ext cx="43956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43120" y="3576600"/>
            <a:ext cx="34596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Ext.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25920" y="3560760"/>
            <a:ext cx="0" cy="38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24320" y="3693960"/>
            <a:ext cx="387720" cy="152640"/>
          </a:xfrm>
          <a:custGeom>
            <a:avLst/>
            <a:gdLst/>
            <a:ahLst/>
            <a:rect l="0" t="0" r="r" b="b"/>
            <a:pathLst>
              <a:path w="1077" h="424">
                <a:moveTo>
                  <a:pt x="0" y="424"/>
                </a:moveTo>
                <a:lnTo>
                  <a:pt x="0" y="0"/>
                </a:lnTo>
                <a:lnTo>
                  <a:pt x="1077" y="0"/>
                </a:lnTo>
                <a:lnTo>
                  <a:pt x="1077" y="424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41880" y="3693960"/>
            <a:ext cx="49068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USAR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02120" y="3560760"/>
            <a:ext cx="0" cy="38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75040" y="3693960"/>
            <a:ext cx="227520" cy="152640"/>
          </a:xfrm>
          <a:custGeom>
            <a:avLst/>
            <a:gdLst/>
            <a:ahLst/>
            <a:rect l="0" t="0" r="r" b="b"/>
            <a:pathLst>
              <a:path w="632" h="424">
                <a:moveTo>
                  <a:pt x="0" y="424"/>
                </a:moveTo>
                <a:lnTo>
                  <a:pt x="0" y="0"/>
                </a:lnTo>
                <a:lnTo>
                  <a:pt x="632" y="0"/>
                </a:lnTo>
                <a:lnTo>
                  <a:pt x="632" y="424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78200" y="3700440"/>
            <a:ext cx="38880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GP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40200" y="2436840"/>
            <a:ext cx="1241640" cy="533880"/>
          </a:xfrm>
          <a:custGeom>
            <a:avLst/>
            <a:gdLst/>
            <a:ahLst/>
            <a:rect l="0" t="0" r="r" b="b"/>
            <a:pathLst>
              <a:path w="3449" h="1483">
                <a:moveTo>
                  <a:pt x="0" y="1483"/>
                </a:moveTo>
                <a:lnTo>
                  <a:pt x="0" y="0"/>
                </a:lnTo>
                <a:lnTo>
                  <a:pt x="3449" y="0"/>
                </a:lnTo>
                <a:lnTo>
                  <a:pt x="3449" y="1483"/>
                </a:lnTo>
                <a:lnTo>
                  <a:pt x="0" y="14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40200" y="2436840"/>
            <a:ext cx="1252800" cy="543240"/>
          </a:xfrm>
          <a:custGeom>
            <a:avLst/>
            <a:gdLst/>
            <a:ahLst/>
            <a:rect l="0" t="0" r="r" b="b"/>
            <a:pathLst>
              <a:path fill="none" w="3480" h="1509">
                <a:moveTo>
                  <a:pt x="0" y="1509"/>
                </a:moveTo>
                <a:lnTo>
                  <a:pt x="3480" y="1509"/>
                </a:lnTo>
                <a:lnTo>
                  <a:pt x="3480" y="0"/>
                </a:lnTo>
                <a:lnTo>
                  <a:pt x="0" y="0"/>
                </a:lnTo>
                <a:lnTo>
                  <a:pt x="0" y="150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336920" y="2628720"/>
            <a:ext cx="40788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P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36640" y="6095880"/>
            <a:ext cx="29224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The Modular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/>
          <p:nvPr/>
        </p:nvSpPr>
        <p:spPr>
          <a:xfrm>
            <a:off x="3886200" y="54864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886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GP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1752480" y="863640"/>
            <a:ext cx="7238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PT1 Functio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0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794720" cy="3863880"/>
          </a:xfrm>
          <a:prstGeom prst="rect">
            <a:avLst/>
          </a:prstGeom>
          <a:ln w="0">
            <a:noFill/>
          </a:ln>
        </p:spPr>
      </p:pic>
      <p:sp>
        <p:nvSpPr>
          <p:cNvPr id="1881" name=""/>
          <p:cNvSpPr txBox="1"/>
          <p:nvPr/>
        </p:nvSpPr>
        <p:spPr>
          <a:xfrm>
            <a:off x="1584360" y="2039760"/>
            <a:ext cx="750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k 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5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 txBox="1"/>
          <p:nvPr/>
        </p:nvSpPr>
        <p:spPr>
          <a:xfrm>
            <a:off x="2367000" y="1887480"/>
            <a:ext cx="514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2811600" y="2203560"/>
            <a:ext cx="5936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2811600" y="3452760"/>
            <a:ext cx="5936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2811600" y="4946760"/>
            <a:ext cx="5936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 txBox="1"/>
          <p:nvPr/>
        </p:nvSpPr>
        <p:spPr>
          <a:xfrm>
            <a:off x="1555920" y="3341520"/>
            <a:ext cx="750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k 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5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 txBox="1"/>
          <p:nvPr/>
        </p:nvSpPr>
        <p:spPr>
          <a:xfrm>
            <a:off x="2327400" y="3170160"/>
            <a:ext cx="514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 txBox="1"/>
          <p:nvPr/>
        </p:nvSpPr>
        <p:spPr>
          <a:xfrm>
            <a:off x="1584360" y="4751280"/>
            <a:ext cx="750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k 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5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2406600" y="4600440"/>
            <a:ext cx="514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3759120" y="1859040"/>
            <a:ext cx="579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3759120" y="3170160"/>
            <a:ext cx="579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 txBox="1"/>
          <p:nvPr/>
        </p:nvSpPr>
        <p:spPr>
          <a:xfrm>
            <a:off x="3759120" y="4581360"/>
            <a:ext cx="579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 txBox="1"/>
          <p:nvPr/>
        </p:nvSpPr>
        <p:spPr>
          <a:xfrm>
            <a:off x="4440240" y="2608200"/>
            <a:ext cx="663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p/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 txBox="1"/>
          <p:nvPr/>
        </p:nvSpPr>
        <p:spPr>
          <a:xfrm>
            <a:off x="4440240" y="3836880"/>
            <a:ext cx="663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p/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4440240" y="5319720"/>
            <a:ext cx="663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p/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5668920" y="4881600"/>
            <a:ext cx="38592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5594400" y="210348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 txBox="1"/>
          <p:nvPr/>
        </p:nvSpPr>
        <p:spPr>
          <a:xfrm>
            <a:off x="5621400" y="4815000"/>
            <a:ext cx="636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ap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 txBox="1"/>
          <p:nvPr/>
        </p:nvSpPr>
        <p:spPr>
          <a:xfrm>
            <a:off x="7253280" y="2292480"/>
            <a:ext cx="539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 txBox="1"/>
          <p:nvPr/>
        </p:nvSpPr>
        <p:spPr>
          <a:xfrm>
            <a:off x="7242120" y="3533760"/>
            <a:ext cx="539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7243920" y="5016600"/>
            <a:ext cx="539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7243920" y="3179880"/>
            <a:ext cx="573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g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a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8118360" y="2860560"/>
            <a:ext cx="517680" cy="27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 txBox="1"/>
          <p:nvPr/>
        </p:nvSpPr>
        <p:spPr>
          <a:xfrm>
            <a:off x="8067600" y="2801880"/>
            <a:ext cx="6415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ut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 txBox="1"/>
          <p:nvPr/>
        </p:nvSpPr>
        <p:spPr>
          <a:xfrm>
            <a:off x="4595760" y="2335320"/>
            <a:ext cx="14540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x Timer T2 / 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 txBox="1"/>
          <p:nvPr/>
        </p:nvSpPr>
        <p:spPr>
          <a:xfrm>
            <a:off x="4595760" y="5048280"/>
            <a:ext cx="14540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x Timer T2 / 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 txBox="1"/>
          <p:nvPr/>
        </p:nvSpPr>
        <p:spPr>
          <a:xfrm>
            <a:off x="4726080" y="3564000"/>
            <a:ext cx="1209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Timer 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4022640" y="5586480"/>
            <a:ext cx="1844640" cy="228600"/>
            <a:chOff x="4022640" y="5586480"/>
            <a:chExt cx="1844640" cy="228600"/>
          </a:xfrm>
        </p:grpSpPr>
        <p:sp>
          <p:nvSpPr>
            <p:cNvPr id="1909" name=""/>
            <p:cNvSpPr/>
            <p:nvPr/>
          </p:nvSpPr>
          <p:spPr>
            <a:xfrm>
              <a:off x="4022640" y="56754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 txBox="1"/>
            <p:nvPr/>
          </p:nvSpPr>
          <p:spPr>
            <a:xfrm>
              <a:off x="4433760" y="5586480"/>
              <a:ext cx="1433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emented on C16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912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5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916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8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GP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 txBox="1"/>
          <p:nvPr/>
        </p:nvSpPr>
        <p:spPr>
          <a:xfrm>
            <a:off x="282600" y="167652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Two 16-Bit up/down timers (T5, T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Input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r mode:  Internal clock input with prescaler up to 5MHz (200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(16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er mode:  External clock up to 2.5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(3.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Hz (C1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5 can also be clocked  with the toggle bit of T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Output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rupt possibility and toggle function of a port line (via a toggle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 of T6 can be used to clock CAPCOM ti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Count direction of all timers can be dynamically changed (C16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Cascading of timer T6 with timer T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One 16-Bit Capture(for T5) / Reload(for T6) regi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oad register for T6, Capture register for T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 txBox="1"/>
          <p:nvPr/>
        </p:nvSpPr>
        <p:spPr>
          <a:xfrm>
            <a:off x="1752480" y="863640"/>
            <a:ext cx="7238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Purpose Timer 2 (GPT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1946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9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1950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2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"/>
          <p:cNvSpPr/>
          <p:nvPr/>
        </p:nvSpPr>
        <p:spPr>
          <a:xfrm>
            <a:off x="4165560" y="2494080"/>
            <a:ext cx="5176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4191120" y="5181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GP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 txBox="1"/>
          <p:nvPr/>
        </p:nvSpPr>
        <p:spPr>
          <a:xfrm>
            <a:off x="1752480" y="863640"/>
            <a:ext cx="7238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PT2 Functio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0" name="" descr=""/>
          <p:cNvPicPr/>
          <p:nvPr/>
        </p:nvPicPr>
        <p:blipFill>
          <a:blip r:embed="rId1"/>
          <a:stretch/>
        </p:blipFill>
        <p:spPr>
          <a:xfrm>
            <a:off x="1441440" y="1695600"/>
            <a:ext cx="7130880" cy="3859200"/>
          </a:xfrm>
          <a:prstGeom prst="rect">
            <a:avLst/>
          </a:prstGeom>
          <a:ln w="0">
            <a:noFill/>
          </a:ln>
        </p:spPr>
      </p:pic>
      <p:sp>
        <p:nvSpPr>
          <p:cNvPr id="1981" name=""/>
          <p:cNvSpPr txBox="1"/>
          <p:nvPr/>
        </p:nvSpPr>
        <p:spPr>
          <a:xfrm>
            <a:off x="4886280" y="21114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r 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 txBox="1"/>
          <p:nvPr/>
        </p:nvSpPr>
        <p:spPr>
          <a:xfrm>
            <a:off x="4886280" y="476244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r T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4641840" y="3321000"/>
            <a:ext cx="15289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pture / Re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3117960" y="1949400"/>
            <a:ext cx="5936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3949560" y="1657440"/>
            <a:ext cx="579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 txBox="1"/>
          <p:nvPr/>
        </p:nvSpPr>
        <p:spPr>
          <a:xfrm>
            <a:off x="4573440" y="2405160"/>
            <a:ext cx="663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p/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 txBox="1"/>
          <p:nvPr/>
        </p:nvSpPr>
        <p:spPr>
          <a:xfrm>
            <a:off x="2992320" y="4754520"/>
            <a:ext cx="5936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 txBox="1"/>
          <p:nvPr/>
        </p:nvSpPr>
        <p:spPr>
          <a:xfrm>
            <a:off x="3960720" y="4332240"/>
            <a:ext cx="579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4570560" y="5086440"/>
            <a:ext cx="663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p/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 txBox="1"/>
          <p:nvPr/>
        </p:nvSpPr>
        <p:spPr>
          <a:xfrm>
            <a:off x="1981080" y="1716120"/>
            <a:ext cx="750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k 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5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 txBox="1"/>
          <p:nvPr/>
        </p:nvSpPr>
        <p:spPr>
          <a:xfrm>
            <a:off x="1990800" y="4630680"/>
            <a:ext cx="750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k 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5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 txBox="1"/>
          <p:nvPr/>
        </p:nvSpPr>
        <p:spPr>
          <a:xfrm>
            <a:off x="7294680" y="2084400"/>
            <a:ext cx="539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7304040" y="2532240"/>
            <a:ext cx="539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7112160" y="4784760"/>
            <a:ext cx="539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7112160" y="4440240"/>
            <a:ext cx="573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g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a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 txBox="1"/>
          <p:nvPr/>
        </p:nvSpPr>
        <p:spPr>
          <a:xfrm>
            <a:off x="7867800" y="4087800"/>
            <a:ext cx="565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ut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 txBox="1"/>
          <p:nvPr/>
        </p:nvSpPr>
        <p:spPr>
          <a:xfrm>
            <a:off x="4633920" y="2973240"/>
            <a:ext cx="579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5797440" y="3692520"/>
            <a:ext cx="5875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6605640" y="2440080"/>
            <a:ext cx="579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4191120" y="5715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 txBox="1"/>
          <p:nvPr/>
        </p:nvSpPr>
        <p:spPr>
          <a:xfrm>
            <a:off x="4622760" y="5621400"/>
            <a:ext cx="1461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plemented on ‘C16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7729560" y="3635280"/>
            <a:ext cx="10555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CAP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mer T0, 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004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7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008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0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AP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Four 16-bit timers </a:t>
            </a:r>
            <a:r>
              <a:rPr b="1" lang="en-US" sz="2000" spc="-1" strike="noStrike">
                <a:solidFill>
                  <a:srgbClr val="081d58"/>
                </a:solidFill>
                <a:latin typeface="Arial Narrow"/>
                <a:ea typeface="Arial Narrow"/>
              </a:rPr>
              <a:t>(T0, T1 &amp; T7,T8)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each with 16-bit Reload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r mode: Internal clock input with prescaler up to 2.5 MHz (400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nter mode: External clock input to T0/T7 up to 1.25 MHz, Output from T6 can be used as clock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COM 2 can be synchronized via T0 to CAPCOM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Two units with sixteen 16-Bit Capture/Compare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vidually programmable for Capture or any Compar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vidually allocatable to timer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T0/T1 or T7/T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Various Compare modes for flex. Pulse Width Modulation(PW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utput-Pin toggles if Compare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or 2 Compare registers can operate to one Output-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or more Compare events can be detected in one timer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rupt only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1752480" y="787320"/>
            <a:ext cx="7162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pture / Compare Unit1/2 (CAPCOM 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7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038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1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042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4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AP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1676520" y="863640"/>
            <a:ext cx="7238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ction Diagram of the CAPCOM 1 Un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0" name="" descr=""/>
          <p:cNvPicPr/>
          <p:nvPr/>
        </p:nvPicPr>
        <p:blipFill>
          <a:blip r:embed="rId1"/>
          <a:stretch/>
        </p:blipFill>
        <p:spPr>
          <a:xfrm>
            <a:off x="976320" y="1612800"/>
            <a:ext cx="7176960" cy="4118040"/>
          </a:xfrm>
          <a:prstGeom prst="rect">
            <a:avLst/>
          </a:prstGeom>
          <a:ln w="0">
            <a:noFill/>
          </a:ln>
        </p:spPr>
      </p:pic>
      <p:sp>
        <p:nvSpPr>
          <p:cNvPr id="2071" name=""/>
          <p:cNvSpPr txBox="1"/>
          <p:nvPr/>
        </p:nvSpPr>
        <p:spPr>
          <a:xfrm>
            <a:off x="4394160" y="1639800"/>
            <a:ext cx="1122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0 Re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4456080" y="477504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r 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4394160" y="5416560"/>
            <a:ext cx="1122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1 Re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4402080" y="2943360"/>
            <a:ext cx="1103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xtee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6 B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Capture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a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CC0-CC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5067360" y="2655720"/>
            <a:ext cx="1166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 txBox="1"/>
          <p:nvPr/>
        </p:nvSpPr>
        <p:spPr>
          <a:xfrm>
            <a:off x="4433760" y="22845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r T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1936800" y="3228840"/>
            <a:ext cx="103032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dge Select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or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pture Inp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5680080" y="2959200"/>
            <a:ext cx="124308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Capture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Compare Mode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Compare Mod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Compare Mod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Compare Mod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Double Regi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are Mode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2217600" y="2116080"/>
            <a:ext cx="5936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 txBox="1"/>
          <p:nvPr/>
        </p:nvSpPr>
        <p:spPr>
          <a:xfrm>
            <a:off x="3362400" y="1878120"/>
            <a:ext cx="579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 txBox="1"/>
          <p:nvPr/>
        </p:nvSpPr>
        <p:spPr>
          <a:xfrm>
            <a:off x="2208240" y="4624560"/>
            <a:ext cx="5936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 txBox="1"/>
          <p:nvPr/>
        </p:nvSpPr>
        <p:spPr>
          <a:xfrm>
            <a:off x="3357720" y="4352760"/>
            <a:ext cx="579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 txBox="1"/>
          <p:nvPr/>
        </p:nvSpPr>
        <p:spPr>
          <a:xfrm>
            <a:off x="936720" y="1944720"/>
            <a:ext cx="7048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lk ma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.5 MH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7537320" y="2252520"/>
            <a:ext cx="539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 txBox="1"/>
          <p:nvPr/>
        </p:nvSpPr>
        <p:spPr>
          <a:xfrm>
            <a:off x="936720" y="4465800"/>
            <a:ext cx="7048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lk ma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.5 MH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 txBox="1"/>
          <p:nvPr/>
        </p:nvSpPr>
        <p:spPr>
          <a:xfrm>
            <a:off x="7529400" y="2732040"/>
            <a:ext cx="539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7531200" y="4027320"/>
            <a:ext cx="539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7537320" y="4713120"/>
            <a:ext cx="539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903240" y="2549520"/>
            <a:ext cx="665280" cy="2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rom T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 txBox="1"/>
          <p:nvPr/>
        </p:nvSpPr>
        <p:spPr>
          <a:xfrm>
            <a:off x="906480" y="4943520"/>
            <a:ext cx="665280" cy="2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rom T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1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092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5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096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8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2" name="" descr=""/>
          <p:cNvPicPr/>
          <p:nvPr/>
        </p:nvPicPr>
        <p:blipFill>
          <a:blip r:embed="rId1"/>
          <a:stretch/>
        </p:blipFill>
        <p:spPr>
          <a:xfrm>
            <a:off x="952560" y="1603440"/>
            <a:ext cx="7176960" cy="4118040"/>
          </a:xfrm>
          <a:prstGeom prst="rect">
            <a:avLst/>
          </a:prstGeom>
          <a:ln w="0">
            <a:noFill/>
          </a:ln>
        </p:spPr>
      </p:pic>
      <p:sp>
        <p:nvSpPr>
          <p:cNvPr id="2123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AP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 txBox="1"/>
          <p:nvPr/>
        </p:nvSpPr>
        <p:spPr>
          <a:xfrm>
            <a:off x="1752480" y="863640"/>
            <a:ext cx="7238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ction Diagram of the CAPCOM 2 Un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 txBox="1"/>
          <p:nvPr/>
        </p:nvSpPr>
        <p:spPr>
          <a:xfrm>
            <a:off x="4394160" y="1639800"/>
            <a:ext cx="1122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7 Re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 txBox="1"/>
          <p:nvPr/>
        </p:nvSpPr>
        <p:spPr>
          <a:xfrm>
            <a:off x="4456080" y="477504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r T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4394160" y="5438880"/>
            <a:ext cx="1122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8 Re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4330800" y="2943360"/>
            <a:ext cx="1201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xtee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6 B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Capture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a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CC16-CC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5067360" y="2655720"/>
            <a:ext cx="1166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 txBox="1"/>
          <p:nvPr/>
        </p:nvSpPr>
        <p:spPr>
          <a:xfrm>
            <a:off x="4433760" y="22845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r T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 txBox="1"/>
          <p:nvPr/>
        </p:nvSpPr>
        <p:spPr>
          <a:xfrm>
            <a:off x="1936800" y="3228840"/>
            <a:ext cx="103032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dge Select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or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pture Inp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 txBox="1"/>
          <p:nvPr/>
        </p:nvSpPr>
        <p:spPr>
          <a:xfrm>
            <a:off x="5680080" y="2959200"/>
            <a:ext cx="124308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Capture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Compare Mode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Compare Mod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Compare Mod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Compare Mod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Double Regi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are Mode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 txBox="1"/>
          <p:nvPr/>
        </p:nvSpPr>
        <p:spPr>
          <a:xfrm>
            <a:off x="2217600" y="2116080"/>
            <a:ext cx="5936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 txBox="1"/>
          <p:nvPr/>
        </p:nvSpPr>
        <p:spPr>
          <a:xfrm>
            <a:off x="3362400" y="1878120"/>
            <a:ext cx="579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 txBox="1"/>
          <p:nvPr/>
        </p:nvSpPr>
        <p:spPr>
          <a:xfrm>
            <a:off x="2208240" y="4624560"/>
            <a:ext cx="5936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 txBox="1"/>
          <p:nvPr/>
        </p:nvSpPr>
        <p:spPr>
          <a:xfrm>
            <a:off x="3357720" y="4352760"/>
            <a:ext cx="579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936720" y="1944720"/>
            <a:ext cx="7048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lk ma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.5 MH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7513560" y="2252520"/>
            <a:ext cx="539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936720" y="4465800"/>
            <a:ext cx="7048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lk ma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.5 MH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7505640" y="2732040"/>
            <a:ext cx="539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 txBox="1"/>
          <p:nvPr/>
        </p:nvSpPr>
        <p:spPr>
          <a:xfrm>
            <a:off x="7507440" y="4027320"/>
            <a:ext cx="539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 txBox="1"/>
          <p:nvPr/>
        </p:nvSpPr>
        <p:spPr>
          <a:xfrm>
            <a:off x="7513560" y="4713120"/>
            <a:ext cx="539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892080" y="2527200"/>
            <a:ext cx="665280" cy="2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rom T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895320" y="4943520"/>
            <a:ext cx="665280" cy="2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rom T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1838160" y="1647720"/>
            <a:ext cx="12841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put CC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m CAP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 txBox="1"/>
          <p:nvPr/>
        </p:nvSpPr>
        <p:spPr>
          <a:xfrm>
            <a:off x="1028880" y="3430440"/>
            <a:ext cx="11239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4 to 2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Capt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p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6013440" y="4300560"/>
            <a:ext cx="20908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31 is able to tri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 ADC Channel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149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2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153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5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9" name=""/>
          <p:cNvGrpSpPr/>
          <p:nvPr/>
        </p:nvGrpSpPr>
        <p:grpSpPr>
          <a:xfrm>
            <a:off x="2865600" y="5530680"/>
            <a:ext cx="198360" cy="217440"/>
            <a:chOff x="2865600" y="5530680"/>
            <a:chExt cx="198360" cy="217440"/>
          </a:xfrm>
        </p:grpSpPr>
        <p:sp>
          <p:nvSpPr>
            <p:cNvPr id="2180" name=""/>
            <p:cNvSpPr/>
            <p:nvPr/>
          </p:nvSpPr>
          <p:spPr>
            <a:xfrm>
              <a:off x="2865600" y="5530680"/>
              <a:ext cx="198360" cy="21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884320" y="5557680"/>
              <a:ext cx="157320" cy="16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2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AP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 txBox="1"/>
          <p:nvPr/>
        </p:nvSpPr>
        <p:spPr>
          <a:xfrm>
            <a:off x="1752480" y="1015920"/>
            <a:ext cx="7238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are Mode 0 and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4" name=""/>
          <p:cNvGrpSpPr/>
          <p:nvPr/>
        </p:nvGrpSpPr>
        <p:grpSpPr>
          <a:xfrm>
            <a:off x="2286000" y="2286000"/>
            <a:ext cx="5334120" cy="1676520"/>
            <a:chOff x="2286000" y="2286000"/>
            <a:chExt cx="5334120" cy="1676520"/>
          </a:xfrm>
        </p:grpSpPr>
        <p:sp>
          <p:nvSpPr>
            <p:cNvPr id="2185" name=""/>
            <p:cNvSpPr/>
            <p:nvPr/>
          </p:nvSpPr>
          <p:spPr>
            <a:xfrm flipV="1">
              <a:off x="2286000" y="2286000"/>
              <a:ext cx="1143000" cy="4064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429000" y="2286000"/>
              <a:ext cx="0" cy="121932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V="1">
              <a:off x="3429000" y="2286000"/>
              <a:ext cx="3809880" cy="121932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238880" y="2286000"/>
              <a:ext cx="0" cy="167652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V="1">
              <a:off x="7238880" y="3730680"/>
              <a:ext cx="381240" cy="2318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0" name=""/>
          <p:cNvSpPr/>
          <p:nvPr/>
        </p:nvSpPr>
        <p:spPr>
          <a:xfrm flipH="1">
            <a:off x="1143000" y="2286000"/>
            <a:ext cx="60958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  <a:ds d="100000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 flipH="1">
            <a:off x="1143000" y="35053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  <a:ds d="100000" sp="202857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 flipH="1">
            <a:off x="7238880" y="3962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  <a:ds d="100000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 txBox="1"/>
          <p:nvPr/>
        </p:nvSpPr>
        <p:spPr>
          <a:xfrm>
            <a:off x="441360" y="2192400"/>
            <a:ext cx="55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F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 txBox="1"/>
          <p:nvPr/>
        </p:nvSpPr>
        <p:spPr>
          <a:xfrm>
            <a:off x="1050840" y="3259080"/>
            <a:ext cx="10987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oa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 txBox="1"/>
          <p:nvPr/>
        </p:nvSpPr>
        <p:spPr>
          <a:xfrm>
            <a:off x="7832880" y="3868560"/>
            <a:ext cx="10987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oa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4114800" y="327672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4114800" y="38098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019920" y="26668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6019920" y="3809880"/>
            <a:ext cx="0" cy="153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4114800" y="32767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2971800" y="5334120"/>
            <a:ext cx="5105520" cy="304560"/>
            <a:chOff x="2971800" y="5334120"/>
            <a:chExt cx="5105520" cy="304560"/>
          </a:xfrm>
        </p:grpSpPr>
        <p:sp>
          <p:nvSpPr>
            <p:cNvPr id="2202" name=""/>
            <p:cNvSpPr/>
            <p:nvPr/>
          </p:nvSpPr>
          <p:spPr>
            <a:xfrm flipH="1">
              <a:off x="2971800" y="5638680"/>
              <a:ext cx="114300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V="1">
              <a:off x="4114800" y="5334120"/>
              <a:ext cx="0" cy="30456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114800" y="5334120"/>
              <a:ext cx="19051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019920" y="5334120"/>
              <a:ext cx="0" cy="30456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019920" y="5638680"/>
              <a:ext cx="205740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"/>
          <p:cNvSpPr txBox="1"/>
          <p:nvPr/>
        </p:nvSpPr>
        <p:spPr>
          <a:xfrm>
            <a:off x="2392200" y="5315040"/>
            <a:ext cx="8701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r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2.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 txBox="1"/>
          <p:nvPr/>
        </p:nvSpPr>
        <p:spPr>
          <a:xfrm>
            <a:off x="272880" y="4076640"/>
            <a:ext cx="2151000" cy="16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e 0: on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 Flag is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e 1: INTR Flag is 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 Pin is toggl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 txBox="1"/>
          <p:nvPr/>
        </p:nvSpPr>
        <p:spPr>
          <a:xfrm>
            <a:off x="3794040" y="3564000"/>
            <a:ext cx="7016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alue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 txBox="1"/>
          <p:nvPr/>
        </p:nvSpPr>
        <p:spPr>
          <a:xfrm>
            <a:off x="5699160" y="3564000"/>
            <a:ext cx="7016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alue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4556160" y="3335400"/>
            <a:ext cx="1090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chang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4343400" y="35053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5562720" y="35053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7238880" y="3962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 txBox="1"/>
          <p:nvPr/>
        </p:nvSpPr>
        <p:spPr>
          <a:xfrm>
            <a:off x="3413160" y="4325760"/>
            <a:ext cx="12081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IN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 txBox="1"/>
          <p:nvPr/>
        </p:nvSpPr>
        <p:spPr>
          <a:xfrm>
            <a:off x="5318280" y="4325760"/>
            <a:ext cx="12081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IN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 txBox="1"/>
          <p:nvPr/>
        </p:nvSpPr>
        <p:spPr>
          <a:xfrm>
            <a:off x="6765840" y="4782960"/>
            <a:ext cx="9716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mer IN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 txBox="1"/>
          <p:nvPr/>
        </p:nvSpPr>
        <p:spPr>
          <a:xfrm>
            <a:off x="7223040" y="2421000"/>
            <a:ext cx="13701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Valu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7223040" y="3030480"/>
            <a:ext cx="13701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Valu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411480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6019920" y="2666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 txBox="1"/>
          <p:nvPr/>
        </p:nvSpPr>
        <p:spPr>
          <a:xfrm>
            <a:off x="2041560" y="1770120"/>
            <a:ext cx="6102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veral Compare events are possible within a single Timer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2270160" y="3564000"/>
            <a:ext cx="1606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Register 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4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225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8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229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1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5" name=""/>
          <p:cNvGrpSpPr/>
          <p:nvPr/>
        </p:nvGrpSpPr>
        <p:grpSpPr>
          <a:xfrm>
            <a:off x="2865600" y="5530680"/>
            <a:ext cx="198360" cy="217440"/>
            <a:chOff x="2865600" y="5530680"/>
            <a:chExt cx="198360" cy="217440"/>
          </a:xfrm>
        </p:grpSpPr>
        <p:sp>
          <p:nvSpPr>
            <p:cNvPr id="2256" name=""/>
            <p:cNvSpPr/>
            <p:nvPr/>
          </p:nvSpPr>
          <p:spPr>
            <a:xfrm>
              <a:off x="2865600" y="5530680"/>
              <a:ext cx="198360" cy="21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884320" y="5557680"/>
              <a:ext cx="157320" cy="16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8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AP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1752480" y="939960"/>
            <a:ext cx="7238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are Mode 2 and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0" name=""/>
          <p:cNvGrpSpPr/>
          <p:nvPr/>
        </p:nvGrpSpPr>
        <p:grpSpPr>
          <a:xfrm>
            <a:off x="2286000" y="2286000"/>
            <a:ext cx="5334120" cy="1676520"/>
            <a:chOff x="2286000" y="2286000"/>
            <a:chExt cx="5334120" cy="1676520"/>
          </a:xfrm>
        </p:grpSpPr>
        <p:sp>
          <p:nvSpPr>
            <p:cNvPr id="2261" name=""/>
            <p:cNvSpPr/>
            <p:nvPr/>
          </p:nvSpPr>
          <p:spPr>
            <a:xfrm flipV="1">
              <a:off x="2286000" y="2286000"/>
              <a:ext cx="1143000" cy="4064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429000" y="2286000"/>
              <a:ext cx="0" cy="121932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3429000" y="2286000"/>
              <a:ext cx="3809880" cy="121932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238880" y="2286000"/>
              <a:ext cx="0" cy="167652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V="1">
              <a:off x="7238880" y="3730680"/>
              <a:ext cx="381240" cy="2318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6" name=""/>
          <p:cNvSpPr/>
          <p:nvPr/>
        </p:nvSpPr>
        <p:spPr>
          <a:xfrm flipH="1">
            <a:off x="1143000" y="2286000"/>
            <a:ext cx="60958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  <a:ds d="100000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143000" y="35053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  <a:ds d="100000" sp="202857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 flipH="1">
            <a:off x="7238880" y="3962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  <a:ds d="100000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441360" y="2192400"/>
            <a:ext cx="55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F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 txBox="1"/>
          <p:nvPr/>
        </p:nvSpPr>
        <p:spPr>
          <a:xfrm>
            <a:off x="1050840" y="3259080"/>
            <a:ext cx="10987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oa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7832880" y="3868560"/>
            <a:ext cx="10987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oa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4114800" y="327672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4114800" y="38098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6019920" y="26668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4114800" y="32767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2971800" y="5638680"/>
            <a:ext cx="114300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4114800" y="5334120"/>
            <a:ext cx="0" cy="30456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5334120"/>
            <a:ext cx="312408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7238880" y="5334120"/>
            <a:ext cx="0" cy="30456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7238880" y="5638680"/>
            <a:ext cx="83844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 txBox="1"/>
          <p:nvPr/>
        </p:nvSpPr>
        <p:spPr>
          <a:xfrm>
            <a:off x="2392200" y="5315040"/>
            <a:ext cx="8701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r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2.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 txBox="1"/>
          <p:nvPr/>
        </p:nvSpPr>
        <p:spPr>
          <a:xfrm>
            <a:off x="196920" y="4000680"/>
            <a:ext cx="22590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e 2: on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 Flag is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e 3: INTR Flag is set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 Pin is set at the fir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are Event and res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Timer overflo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 txBox="1"/>
          <p:nvPr/>
        </p:nvSpPr>
        <p:spPr>
          <a:xfrm>
            <a:off x="3794040" y="3564000"/>
            <a:ext cx="7016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alue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 txBox="1"/>
          <p:nvPr/>
        </p:nvSpPr>
        <p:spPr>
          <a:xfrm>
            <a:off x="5699160" y="3564000"/>
            <a:ext cx="7016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alue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 txBox="1"/>
          <p:nvPr/>
        </p:nvSpPr>
        <p:spPr>
          <a:xfrm>
            <a:off x="4556160" y="3335400"/>
            <a:ext cx="1090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chang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V="1">
            <a:off x="4343400" y="35053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5562720" y="35053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3413160" y="4325760"/>
            <a:ext cx="12081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IN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5318280" y="4325760"/>
            <a:ext cx="1843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 txBox="1"/>
          <p:nvPr/>
        </p:nvSpPr>
        <p:spPr>
          <a:xfrm>
            <a:off x="6613560" y="4554360"/>
            <a:ext cx="9716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mer IN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 txBox="1"/>
          <p:nvPr/>
        </p:nvSpPr>
        <p:spPr>
          <a:xfrm>
            <a:off x="7223040" y="2421000"/>
            <a:ext cx="13701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Valu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 txBox="1"/>
          <p:nvPr/>
        </p:nvSpPr>
        <p:spPr>
          <a:xfrm>
            <a:off x="7223040" y="3030480"/>
            <a:ext cx="13701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Valu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411480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6019920" y="2666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 txBox="1"/>
          <p:nvPr/>
        </p:nvSpPr>
        <p:spPr>
          <a:xfrm>
            <a:off x="2041560" y="1770120"/>
            <a:ext cx="6080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y one Compare events is possible within a single Timer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 txBox="1"/>
          <p:nvPr/>
        </p:nvSpPr>
        <p:spPr>
          <a:xfrm>
            <a:off x="2270160" y="3564000"/>
            <a:ext cx="1606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Register 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7238880" y="3962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8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299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2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303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9" name=""/>
          <p:cNvGrpSpPr/>
          <p:nvPr/>
        </p:nvGrpSpPr>
        <p:grpSpPr>
          <a:xfrm>
            <a:off x="2865600" y="5530680"/>
            <a:ext cx="198360" cy="217440"/>
            <a:chOff x="2865600" y="5530680"/>
            <a:chExt cx="198360" cy="217440"/>
          </a:xfrm>
        </p:grpSpPr>
        <p:sp>
          <p:nvSpPr>
            <p:cNvPr id="2330" name=""/>
            <p:cNvSpPr/>
            <p:nvPr/>
          </p:nvSpPr>
          <p:spPr>
            <a:xfrm>
              <a:off x="2865600" y="5530680"/>
              <a:ext cx="198360" cy="21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884320" y="5557680"/>
              <a:ext cx="157320" cy="16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2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AP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 txBox="1"/>
          <p:nvPr/>
        </p:nvSpPr>
        <p:spPr>
          <a:xfrm>
            <a:off x="1752480" y="1015920"/>
            <a:ext cx="7238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ouble Register Compare M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4" name=""/>
          <p:cNvGrpSpPr/>
          <p:nvPr/>
        </p:nvGrpSpPr>
        <p:grpSpPr>
          <a:xfrm>
            <a:off x="2286000" y="2286000"/>
            <a:ext cx="5334120" cy="1676520"/>
            <a:chOff x="2286000" y="2286000"/>
            <a:chExt cx="5334120" cy="1676520"/>
          </a:xfrm>
        </p:grpSpPr>
        <p:sp>
          <p:nvSpPr>
            <p:cNvPr id="2335" name=""/>
            <p:cNvSpPr/>
            <p:nvPr/>
          </p:nvSpPr>
          <p:spPr>
            <a:xfrm flipV="1">
              <a:off x="2286000" y="2286000"/>
              <a:ext cx="1143000" cy="4064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429000" y="2286000"/>
              <a:ext cx="0" cy="121932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3429000" y="2286000"/>
              <a:ext cx="3809880" cy="121932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238880" y="2286000"/>
              <a:ext cx="0" cy="167652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V="1">
              <a:off x="7238880" y="3730680"/>
              <a:ext cx="381240" cy="2318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0" name=""/>
          <p:cNvSpPr/>
          <p:nvPr/>
        </p:nvSpPr>
        <p:spPr>
          <a:xfrm flipH="1">
            <a:off x="1143000" y="2286000"/>
            <a:ext cx="60958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  <a:ds d="100000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1143000" y="35053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  <a:ds d="100000" sp="202857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 flipH="1">
            <a:off x="7238880" y="3962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  <a:ds d="100000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 txBox="1"/>
          <p:nvPr/>
        </p:nvSpPr>
        <p:spPr>
          <a:xfrm>
            <a:off x="441360" y="2192400"/>
            <a:ext cx="55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F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 txBox="1"/>
          <p:nvPr/>
        </p:nvSpPr>
        <p:spPr>
          <a:xfrm>
            <a:off x="1050840" y="3259080"/>
            <a:ext cx="10987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oa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 txBox="1"/>
          <p:nvPr/>
        </p:nvSpPr>
        <p:spPr>
          <a:xfrm>
            <a:off x="7832880" y="3868560"/>
            <a:ext cx="10987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oa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4114800" y="327672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4114800" y="38098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5791320" y="2743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5791320" y="4952880"/>
            <a:ext cx="0" cy="389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4114800" y="32767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1" name=""/>
          <p:cNvGrpSpPr/>
          <p:nvPr/>
        </p:nvGrpSpPr>
        <p:grpSpPr>
          <a:xfrm>
            <a:off x="2971800" y="5334120"/>
            <a:ext cx="4724280" cy="304560"/>
            <a:chOff x="2971800" y="5334120"/>
            <a:chExt cx="4724280" cy="304560"/>
          </a:xfrm>
        </p:grpSpPr>
        <p:sp>
          <p:nvSpPr>
            <p:cNvPr id="2352" name=""/>
            <p:cNvSpPr/>
            <p:nvPr/>
          </p:nvSpPr>
          <p:spPr>
            <a:xfrm flipH="1">
              <a:off x="2971800" y="5638680"/>
              <a:ext cx="10573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V="1">
              <a:off x="4029120" y="5334120"/>
              <a:ext cx="0" cy="30456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029120" y="5334120"/>
              <a:ext cx="176364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792760" y="5334120"/>
              <a:ext cx="0" cy="30456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792760" y="5638680"/>
              <a:ext cx="19033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7" name=""/>
          <p:cNvSpPr txBox="1"/>
          <p:nvPr/>
        </p:nvSpPr>
        <p:spPr>
          <a:xfrm>
            <a:off x="2392200" y="5315040"/>
            <a:ext cx="8701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r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2.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 txBox="1"/>
          <p:nvPr/>
        </p:nvSpPr>
        <p:spPr>
          <a:xfrm>
            <a:off x="3794040" y="3543120"/>
            <a:ext cx="7873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  <a:ea typeface="Arial"/>
              </a:rPr>
              <a:t>Value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5470560" y="4724280"/>
            <a:ext cx="7873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Value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7238880" y="3962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718080" y="4325760"/>
            <a:ext cx="1208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IN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.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 txBox="1"/>
          <p:nvPr/>
        </p:nvSpPr>
        <p:spPr>
          <a:xfrm>
            <a:off x="5394240" y="3639960"/>
            <a:ext cx="1208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IN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.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6765840" y="4782960"/>
            <a:ext cx="9716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mer IN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7223040" y="2496960"/>
            <a:ext cx="13701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Compare Valu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7223040" y="3030480"/>
            <a:ext cx="13701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63de8"/>
                </a:solidFill>
                <a:latin typeface="Arial"/>
                <a:ea typeface="Arial"/>
              </a:rPr>
              <a:t>Compare Valu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411480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791320" y="2743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 txBox="1"/>
          <p:nvPr/>
        </p:nvSpPr>
        <p:spPr>
          <a:xfrm>
            <a:off x="2063880" y="1617840"/>
            <a:ext cx="6294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wo Compare Register work together to control one Port P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mode is selected by a special combination of the mode 0 a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1355760" y="3564000"/>
            <a:ext cx="24541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  <a:ea typeface="Arial"/>
              </a:rPr>
              <a:t>Bank1 Compare Register X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  <a:ea typeface="Arial"/>
              </a:rPr>
              <a:t>(programmed to mode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associ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Bank2 Compare Register 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(programmed to mode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0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371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375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7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P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 txBox="1"/>
          <p:nvPr/>
        </p:nvSpPr>
        <p:spPr>
          <a:xfrm>
            <a:off x="304920" y="1981080"/>
            <a:ext cx="85248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4 completely indep. PWM channels each with its own tim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0ns or 12.8µs timer-resolution provides a very wide frequency range to generate PWM sign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 to 78 KHz at 8-bit PWM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grammable output polar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Four operation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, edge-aligned PW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mmetrical, center-aligned PWM for asynchronous motor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rst-mode for modulated PWM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gle-sho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 txBox="1"/>
          <p:nvPr/>
        </p:nvSpPr>
        <p:spPr>
          <a:xfrm>
            <a:off x="1752480" y="1015920"/>
            <a:ext cx="71629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ulse Width Modulation (PWM) Un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4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405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8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409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1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757520" y="6118200"/>
            <a:ext cx="149868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Th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954160" y="2795760"/>
            <a:ext cx="3256200" cy="2247840"/>
            <a:chOff x="2954160" y="2795760"/>
            <a:chExt cx="3256200" cy="2247840"/>
          </a:xfrm>
        </p:grpSpPr>
        <p:sp>
          <p:nvSpPr>
            <p:cNvPr id="281" name=""/>
            <p:cNvSpPr/>
            <p:nvPr/>
          </p:nvSpPr>
          <p:spPr>
            <a:xfrm>
              <a:off x="2954160" y="3662280"/>
              <a:ext cx="3248280" cy="1375200"/>
            </a:xfrm>
            <a:custGeom>
              <a:avLst/>
              <a:gdLst/>
              <a:ahLst/>
              <a:rect l="0" t="0" r="r" b="b"/>
              <a:pathLst>
                <a:path w="9023" h="3820">
                  <a:moveTo>
                    <a:pt x="0" y="0"/>
                  </a:moveTo>
                  <a:lnTo>
                    <a:pt x="0" y="3820"/>
                  </a:lnTo>
                  <a:lnTo>
                    <a:pt x="9023" y="3820"/>
                  </a:lnTo>
                  <a:lnTo>
                    <a:pt x="9023" y="0"/>
                  </a:lnTo>
                  <a:lnTo>
                    <a:pt x="7925" y="0"/>
                  </a:lnTo>
                  <a:lnTo>
                    <a:pt x="7925" y="1161"/>
                  </a:lnTo>
                  <a:lnTo>
                    <a:pt x="1103" y="1161"/>
                  </a:lnTo>
                  <a:lnTo>
                    <a:pt x="110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54160" y="3662280"/>
              <a:ext cx="3256200" cy="1381320"/>
            </a:xfrm>
            <a:custGeom>
              <a:avLst/>
              <a:gdLst/>
              <a:ahLst/>
              <a:rect l="0" t="0" r="r" b="b"/>
              <a:pathLst>
                <a:path fill="none" w="9045" h="3837">
                  <a:moveTo>
                    <a:pt x="0" y="0"/>
                  </a:moveTo>
                  <a:lnTo>
                    <a:pt x="0" y="3837"/>
                  </a:lnTo>
                  <a:lnTo>
                    <a:pt x="9045" y="3837"/>
                  </a:lnTo>
                  <a:lnTo>
                    <a:pt x="9045" y="0"/>
                  </a:lnTo>
                  <a:lnTo>
                    <a:pt x="7944" y="0"/>
                  </a:lnTo>
                  <a:lnTo>
                    <a:pt x="7944" y="1165"/>
                  </a:lnTo>
                  <a:lnTo>
                    <a:pt x="1106" y="1165"/>
                  </a:lnTo>
                  <a:lnTo>
                    <a:pt x="11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54160" y="2795760"/>
              <a:ext cx="3248280" cy="837000"/>
            </a:xfrm>
            <a:custGeom>
              <a:avLst/>
              <a:gdLst/>
              <a:ahLst/>
              <a:rect l="0" t="0" r="r" b="b"/>
              <a:pathLst>
                <a:path w="9023" h="2325">
                  <a:moveTo>
                    <a:pt x="61" y="0"/>
                  </a:moveTo>
                  <a:lnTo>
                    <a:pt x="9023" y="0"/>
                  </a:lnTo>
                  <a:lnTo>
                    <a:pt x="9023" y="2325"/>
                  </a:lnTo>
                  <a:lnTo>
                    <a:pt x="0" y="2325"/>
                  </a:lnTo>
                  <a:lnTo>
                    <a:pt x="0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54160" y="2795760"/>
              <a:ext cx="3256200" cy="843480"/>
            </a:xfrm>
            <a:custGeom>
              <a:avLst/>
              <a:gdLst/>
              <a:ahLst/>
              <a:rect l="0" t="0" r="r" b="b"/>
              <a:pathLst>
                <a:path fill="none" w="9045" h="2343">
                  <a:moveTo>
                    <a:pt x="61" y="0"/>
                  </a:moveTo>
                  <a:lnTo>
                    <a:pt x="9045" y="0"/>
                  </a:lnTo>
                  <a:lnTo>
                    <a:pt x="9045" y="2343"/>
                  </a:lnTo>
                  <a:lnTo>
                    <a:pt x="0" y="234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98800" y="4105440"/>
              <a:ext cx="3161160" cy="884520"/>
            </a:xfrm>
            <a:custGeom>
              <a:avLst/>
              <a:gdLst/>
              <a:ahLst/>
              <a:rect l="0" t="0" r="r" b="b"/>
              <a:pathLst>
                <a:path w="8781" h="2457">
                  <a:moveTo>
                    <a:pt x="850" y="0"/>
                  </a:moveTo>
                  <a:lnTo>
                    <a:pt x="850" y="1641"/>
                  </a:lnTo>
                  <a:lnTo>
                    <a:pt x="7922" y="1641"/>
                  </a:lnTo>
                  <a:lnTo>
                    <a:pt x="7922" y="0"/>
                  </a:lnTo>
                  <a:lnTo>
                    <a:pt x="8781" y="0"/>
                  </a:lnTo>
                  <a:lnTo>
                    <a:pt x="8781" y="2457"/>
                  </a:lnTo>
                  <a:lnTo>
                    <a:pt x="0" y="2457"/>
                  </a:lnTo>
                  <a:lnTo>
                    <a:pt x="0" y="0"/>
                  </a:lnTo>
                  <a:lnTo>
                    <a:pt x="8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98800" y="4105440"/>
              <a:ext cx="3167280" cy="889200"/>
            </a:xfrm>
            <a:custGeom>
              <a:avLst/>
              <a:gdLst/>
              <a:ahLst/>
              <a:rect l="0" t="0" r="r" b="b"/>
              <a:pathLst>
                <a:path fill="none" w="8798" h="2470">
                  <a:moveTo>
                    <a:pt x="852" y="0"/>
                  </a:moveTo>
                  <a:lnTo>
                    <a:pt x="852" y="1650"/>
                  </a:lnTo>
                  <a:lnTo>
                    <a:pt x="7937" y="1650"/>
                  </a:lnTo>
                  <a:lnTo>
                    <a:pt x="7937" y="0"/>
                  </a:lnTo>
                  <a:lnTo>
                    <a:pt x="8798" y="0"/>
                  </a:lnTo>
                  <a:lnTo>
                    <a:pt x="8798" y="2470"/>
                  </a:lnTo>
                  <a:lnTo>
                    <a:pt x="0" y="2470"/>
                  </a:lnTo>
                  <a:lnTo>
                    <a:pt x="0" y="0"/>
                  </a:lnTo>
                  <a:lnTo>
                    <a:pt x="852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54680" y="3705120"/>
              <a:ext cx="297360" cy="321120"/>
            </a:xfrm>
            <a:custGeom>
              <a:avLst/>
              <a:gdLst/>
              <a:ahLst/>
              <a:rect l="0" t="0" r="r" b="b"/>
              <a:pathLst>
                <a:path w="826" h="892">
                  <a:moveTo>
                    <a:pt x="0" y="892"/>
                  </a:moveTo>
                  <a:lnTo>
                    <a:pt x="0" y="0"/>
                  </a:lnTo>
                  <a:lnTo>
                    <a:pt x="826" y="0"/>
                  </a:lnTo>
                  <a:lnTo>
                    <a:pt x="826" y="892"/>
                  </a:lnTo>
                  <a:lnTo>
                    <a:pt x="0" y="8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854680" y="3705120"/>
              <a:ext cx="303480" cy="325800"/>
            </a:xfrm>
            <a:custGeom>
              <a:avLst/>
              <a:gdLst/>
              <a:ahLst/>
              <a:rect l="0" t="0" r="r" b="b"/>
              <a:pathLst>
                <a:path fill="none" w="843" h="905">
                  <a:moveTo>
                    <a:pt x="0" y="905"/>
                  </a:moveTo>
                  <a:lnTo>
                    <a:pt x="843" y="905"/>
                  </a:lnTo>
                  <a:lnTo>
                    <a:pt x="843" y="0"/>
                  </a:lnTo>
                  <a:lnTo>
                    <a:pt x="0" y="0"/>
                  </a:lnTo>
                  <a:lnTo>
                    <a:pt x="0" y="905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11600" y="2855880"/>
              <a:ext cx="1654560" cy="716400"/>
            </a:xfrm>
            <a:custGeom>
              <a:avLst/>
              <a:gdLst/>
              <a:ahLst/>
              <a:rect l="0" t="0" r="r" b="b"/>
              <a:pathLst>
                <a:path w="4596" h="1990">
                  <a:moveTo>
                    <a:pt x="0" y="1990"/>
                  </a:moveTo>
                  <a:lnTo>
                    <a:pt x="0" y="0"/>
                  </a:lnTo>
                  <a:lnTo>
                    <a:pt x="4596" y="0"/>
                  </a:lnTo>
                  <a:lnTo>
                    <a:pt x="4596" y="1990"/>
                  </a:lnTo>
                  <a:lnTo>
                    <a:pt x="0" y="19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11600" y="2855880"/>
              <a:ext cx="1661040" cy="722520"/>
            </a:xfrm>
            <a:custGeom>
              <a:avLst/>
              <a:gdLst/>
              <a:ahLst/>
              <a:rect l="0" t="0" r="r" b="b"/>
              <a:pathLst>
                <a:path fill="none" w="4614" h="2007">
                  <a:moveTo>
                    <a:pt x="0" y="2007"/>
                  </a:moveTo>
                  <a:lnTo>
                    <a:pt x="4614" y="2007"/>
                  </a:lnTo>
                  <a:lnTo>
                    <a:pt x="4614" y="0"/>
                  </a:lnTo>
                  <a:lnTo>
                    <a:pt x="0" y="0"/>
                  </a:lnTo>
                  <a:lnTo>
                    <a:pt x="0" y="2007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97320" y="3693960"/>
              <a:ext cx="2356200" cy="322560"/>
            </a:xfrm>
            <a:custGeom>
              <a:avLst/>
              <a:gdLst/>
              <a:ahLst/>
              <a:rect l="0" t="0" r="r" b="b"/>
              <a:pathLst>
                <a:path w="6545" h="896">
                  <a:moveTo>
                    <a:pt x="0" y="896"/>
                  </a:moveTo>
                  <a:lnTo>
                    <a:pt x="0" y="0"/>
                  </a:lnTo>
                  <a:lnTo>
                    <a:pt x="6545" y="0"/>
                  </a:lnTo>
                  <a:lnTo>
                    <a:pt x="6545" y="896"/>
                  </a:lnTo>
                  <a:lnTo>
                    <a:pt x="0" y="8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97320" y="3693960"/>
              <a:ext cx="2362680" cy="329040"/>
            </a:xfrm>
            <a:custGeom>
              <a:avLst/>
              <a:gdLst/>
              <a:ahLst/>
              <a:rect l="0" t="0" r="r" b="b"/>
              <a:pathLst>
                <a:path fill="none" w="6563" h="914">
                  <a:moveTo>
                    <a:pt x="0" y="914"/>
                  </a:moveTo>
                  <a:lnTo>
                    <a:pt x="6563" y="914"/>
                  </a:lnTo>
                  <a:lnTo>
                    <a:pt x="6563" y="0"/>
                  </a:lnTo>
                  <a:lnTo>
                    <a:pt x="0" y="0"/>
                  </a:lnTo>
                  <a:lnTo>
                    <a:pt x="0" y="914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83280" y="3703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5865840" y="3900600"/>
              <a:ext cx="29052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98800" y="3695760"/>
              <a:ext cx="294120" cy="321120"/>
            </a:xfrm>
            <a:custGeom>
              <a:avLst/>
              <a:gdLst/>
              <a:ahLst/>
              <a:rect l="0" t="0" r="r" b="b"/>
              <a:pathLst>
                <a:path w="817" h="892">
                  <a:moveTo>
                    <a:pt x="0" y="892"/>
                  </a:moveTo>
                  <a:lnTo>
                    <a:pt x="0" y="0"/>
                  </a:lnTo>
                  <a:lnTo>
                    <a:pt x="817" y="0"/>
                  </a:lnTo>
                  <a:lnTo>
                    <a:pt x="817" y="892"/>
                  </a:lnTo>
                  <a:lnTo>
                    <a:pt x="0" y="8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98800" y="3695760"/>
              <a:ext cx="300240" cy="327240"/>
            </a:xfrm>
            <a:custGeom>
              <a:avLst/>
              <a:gdLst/>
              <a:ahLst/>
              <a:rect l="0" t="0" r="r" b="b"/>
              <a:pathLst>
                <a:path fill="none" w="834" h="909">
                  <a:moveTo>
                    <a:pt x="0" y="909"/>
                  </a:moveTo>
                  <a:lnTo>
                    <a:pt x="834" y="909"/>
                  </a:lnTo>
                  <a:lnTo>
                    <a:pt x="834" y="0"/>
                  </a:lnTo>
                  <a:lnTo>
                    <a:pt x="0" y="0"/>
                  </a:lnTo>
                  <a:lnTo>
                    <a:pt x="0" y="909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2987640" y="3894120"/>
              <a:ext cx="30312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SC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5346720" y="3828960"/>
              <a:ext cx="27468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4917960" y="3365640"/>
              <a:ext cx="466560" cy="23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08160" y="2840040"/>
              <a:ext cx="592560" cy="741600"/>
            </a:xfrm>
            <a:custGeom>
              <a:avLst/>
              <a:gdLst/>
              <a:ahLst/>
              <a:rect l="0" t="0" r="r" b="b"/>
              <a:pathLst>
                <a:path w="1646" h="2060">
                  <a:moveTo>
                    <a:pt x="0" y="2060"/>
                  </a:moveTo>
                  <a:lnTo>
                    <a:pt x="0" y="0"/>
                  </a:lnTo>
                  <a:lnTo>
                    <a:pt x="1646" y="0"/>
                  </a:lnTo>
                  <a:lnTo>
                    <a:pt x="1646" y="2060"/>
                  </a:lnTo>
                  <a:lnTo>
                    <a:pt x="0" y="2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08160" y="2840040"/>
              <a:ext cx="600480" cy="748080"/>
            </a:xfrm>
            <a:custGeom>
              <a:avLst/>
              <a:gdLst/>
              <a:ahLst/>
              <a:rect l="0" t="0" r="r" b="b"/>
              <a:pathLst>
                <a:path fill="none" w="1668" h="2078">
                  <a:moveTo>
                    <a:pt x="0" y="2078"/>
                  </a:moveTo>
                  <a:lnTo>
                    <a:pt x="1668" y="2078"/>
                  </a:lnTo>
                  <a:lnTo>
                    <a:pt x="1668" y="0"/>
                  </a:lnTo>
                  <a:lnTo>
                    <a:pt x="0" y="0"/>
                  </a:lnTo>
                  <a:lnTo>
                    <a:pt x="0" y="2078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2984400" y="3251160"/>
              <a:ext cx="411120" cy="1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 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60840" y="2855880"/>
              <a:ext cx="690840" cy="725760"/>
            </a:xfrm>
            <a:custGeom>
              <a:avLst/>
              <a:gdLst/>
              <a:ahLst/>
              <a:rect l="0" t="0" r="r" b="b"/>
              <a:pathLst>
                <a:path w="1919" h="2016">
                  <a:moveTo>
                    <a:pt x="0" y="2016"/>
                  </a:moveTo>
                  <a:lnTo>
                    <a:pt x="0" y="0"/>
                  </a:lnTo>
                  <a:lnTo>
                    <a:pt x="1919" y="0"/>
                  </a:lnTo>
                  <a:lnTo>
                    <a:pt x="1919" y="2016"/>
                  </a:lnTo>
                  <a:lnTo>
                    <a:pt x="0" y="20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60840" y="2855880"/>
              <a:ext cx="697320" cy="732240"/>
            </a:xfrm>
            <a:custGeom>
              <a:avLst/>
              <a:gdLst/>
              <a:ahLst/>
              <a:rect l="0" t="0" r="r" b="b"/>
              <a:pathLst>
                <a:path fill="none" w="1937" h="2034">
                  <a:moveTo>
                    <a:pt x="0" y="2034"/>
                  </a:moveTo>
                  <a:lnTo>
                    <a:pt x="1937" y="2034"/>
                  </a:lnTo>
                  <a:lnTo>
                    <a:pt x="1937" y="0"/>
                  </a:lnTo>
                  <a:lnTo>
                    <a:pt x="0" y="0"/>
                  </a:lnTo>
                  <a:lnTo>
                    <a:pt x="0" y="2034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5818320" y="3427560"/>
              <a:ext cx="349200" cy="1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2984400" y="4862520"/>
              <a:ext cx="379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03440" y="4140360"/>
              <a:ext cx="2360880" cy="470160"/>
            </a:xfrm>
            <a:custGeom>
              <a:avLst/>
              <a:gdLst/>
              <a:ahLst/>
              <a:rect l="0" t="0" r="r" b="b"/>
              <a:pathLst>
                <a:path w="6558" h="1306">
                  <a:moveTo>
                    <a:pt x="0" y="1306"/>
                  </a:moveTo>
                  <a:lnTo>
                    <a:pt x="0" y="0"/>
                  </a:lnTo>
                  <a:lnTo>
                    <a:pt x="6558" y="0"/>
                  </a:lnTo>
                  <a:lnTo>
                    <a:pt x="6558" y="1306"/>
                  </a:lnTo>
                  <a:lnTo>
                    <a:pt x="0" y="13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03440" y="4140360"/>
              <a:ext cx="2367360" cy="476640"/>
            </a:xfrm>
            <a:custGeom>
              <a:avLst/>
              <a:gdLst/>
              <a:ahLst/>
              <a:rect l="0" t="0" r="r" b="b"/>
              <a:pathLst>
                <a:path fill="none" w="6576" h="1324">
                  <a:moveTo>
                    <a:pt x="0" y="1324"/>
                  </a:moveTo>
                  <a:lnTo>
                    <a:pt x="6576" y="1324"/>
                  </a:lnTo>
                  <a:lnTo>
                    <a:pt x="6576" y="0"/>
                  </a:lnTo>
                  <a:lnTo>
                    <a:pt x="0" y="0"/>
                  </a:lnTo>
                  <a:lnTo>
                    <a:pt x="0" y="1324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5160960" y="4181400"/>
              <a:ext cx="399960" cy="12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CO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4260960" y="4325760"/>
              <a:ext cx="255600" cy="12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53040" y="4140360"/>
              <a:ext cx="0" cy="475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67120" y="4140360"/>
              <a:ext cx="0" cy="475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3468600" y="4276800"/>
              <a:ext cx="237960" cy="12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3468600" y="4178160"/>
              <a:ext cx="250920" cy="12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.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38360" y="2970360"/>
              <a:ext cx="2192760" cy="389160"/>
            </a:xfrm>
            <a:custGeom>
              <a:avLst/>
              <a:gdLst/>
              <a:ahLst/>
              <a:rect l="0" t="0" r="r" b="b"/>
              <a:pathLst>
                <a:path w="6091" h="1081">
                  <a:moveTo>
                    <a:pt x="0" y="1081"/>
                  </a:moveTo>
                  <a:lnTo>
                    <a:pt x="0" y="0"/>
                  </a:lnTo>
                  <a:lnTo>
                    <a:pt x="6091" y="0"/>
                  </a:lnTo>
                  <a:lnTo>
                    <a:pt x="6091" y="1081"/>
                  </a:lnTo>
                  <a:lnTo>
                    <a:pt x="0" y="10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3503520" y="3036960"/>
              <a:ext cx="20732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or -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36880" y="3735360"/>
              <a:ext cx="1356120" cy="241560"/>
            </a:xfrm>
            <a:custGeom>
              <a:avLst/>
              <a:gdLst/>
              <a:ahLst/>
              <a:rect l="0" t="0" r="r" b="b"/>
              <a:pathLst>
                <a:path w="3767" h="671">
                  <a:moveTo>
                    <a:pt x="0" y="671"/>
                  </a:moveTo>
                  <a:lnTo>
                    <a:pt x="0" y="0"/>
                  </a:lnTo>
                  <a:lnTo>
                    <a:pt x="3767" y="0"/>
                  </a:lnTo>
                  <a:lnTo>
                    <a:pt x="3767" y="671"/>
                  </a:lnTo>
                  <a:lnTo>
                    <a:pt x="0" y="6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3803760" y="3773520"/>
              <a:ext cx="133668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-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61040" y="4175280"/>
              <a:ext cx="370080" cy="93960"/>
            </a:xfrm>
            <a:custGeom>
              <a:avLst/>
              <a:gdLst/>
              <a:ahLst/>
              <a:rect l="0" t="0" r="r" b="b"/>
              <a:pathLst>
                <a:path w="1028" h="261">
                  <a:moveTo>
                    <a:pt x="0" y="261"/>
                  </a:moveTo>
                  <a:lnTo>
                    <a:pt x="0" y="0"/>
                  </a:lnTo>
                  <a:lnTo>
                    <a:pt x="1028" y="0"/>
                  </a:lnTo>
                  <a:lnTo>
                    <a:pt x="1028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4324320" y="4178160"/>
              <a:ext cx="336600" cy="12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AR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02040" y="4189320"/>
              <a:ext cx="279720" cy="81360"/>
            </a:xfrm>
            <a:custGeom>
              <a:avLst/>
              <a:gdLst/>
              <a:ahLst/>
              <a:rect l="0" t="0" r="r" b="b"/>
              <a:pathLst>
                <a:path w="777" h="226">
                  <a:moveTo>
                    <a:pt x="0" y="226"/>
                  </a:moveTo>
                  <a:lnTo>
                    <a:pt x="0" y="0"/>
                  </a:lnTo>
                  <a:lnTo>
                    <a:pt x="777" y="0"/>
                  </a:lnTo>
                  <a:lnTo>
                    <a:pt x="777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4743360" y="4173480"/>
              <a:ext cx="282600" cy="12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PT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83000" y="4425840"/>
              <a:ext cx="2169000" cy="437040"/>
            </a:xfrm>
            <a:custGeom>
              <a:avLst/>
              <a:gdLst/>
              <a:ahLst/>
              <a:rect l="0" t="0" r="r" b="b"/>
              <a:pathLst>
                <a:path w="6025" h="1214">
                  <a:moveTo>
                    <a:pt x="0" y="1214"/>
                  </a:moveTo>
                  <a:lnTo>
                    <a:pt x="0" y="0"/>
                  </a:lnTo>
                  <a:lnTo>
                    <a:pt x="6025" y="0"/>
                  </a:lnTo>
                  <a:lnTo>
                    <a:pt x="6025" y="1214"/>
                  </a:lnTo>
                  <a:lnTo>
                    <a:pt x="0" y="12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3629160" y="4575240"/>
              <a:ext cx="20131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-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54160" y="3662280"/>
              <a:ext cx="41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2987640" y="3392640"/>
              <a:ext cx="382680" cy="1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la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3468600" y="4375080"/>
              <a:ext cx="343080" cy="12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3863880" y="4227480"/>
              <a:ext cx="301680" cy="12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X-Bu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4522680" y="4325760"/>
              <a:ext cx="766800" cy="12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nc Communic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5445000" y="4325760"/>
              <a:ext cx="272880" cy="12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W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3863880" y="4325760"/>
              <a:ext cx="374760" cy="12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rl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511200" y="806400"/>
            <a:ext cx="2787480" cy="1469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icrocontrolle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ontrol oriented instruction s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optimized event handl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ystem on Silicon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835600" y="847800"/>
            <a:ext cx="2787480" cy="14684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icroprocesso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High computational pow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high data throughp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ood addressing capabili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HLL-supporting architect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2004840" y="2367000"/>
            <a:ext cx="801720" cy="817560"/>
          </a:xfrm>
          <a:prstGeom prst="line">
            <a:avLst/>
          </a:prstGeom>
          <a:ln w="2030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337440" y="2449440"/>
            <a:ext cx="801720" cy="816120"/>
          </a:xfrm>
          <a:prstGeom prst="line">
            <a:avLst/>
          </a:prstGeom>
          <a:ln w="2030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643040" y="5329080"/>
            <a:ext cx="594504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166 Family- The Best of Both Worl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5" name="" descr=""/>
          <p:cNvPicPr/>
          <p:nvPr/>
        </p:nvPicPr>
        <p:blipFill>
          <a:blip r:embed="rId1"/>
          <a:stretch/>
        </p:blipFill>
        <p:spPr>
          <a:xfrm>
            <a:off x="457200" y="-1847880"/>
            <a:ext cx="8518680" cy="8705880"/>
          </a:xfrm>
          <a:prstGeom prst="rect">
            <a:avLst/>
          </a:prstGeom>
          <a:ln w="0">
            <a:noFill/>
          </a:ln>
        </p:spPr>
      </p:pic>
      <p:sp>
        <p:nvSpPr>
          <p:cNvPr id="2436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P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 txBox="1"/>
          <p:nvPr/>
        </p:nvSpPr>
        <p:spPr>
          <a:xfrm>
            <a:off x="1752480" y="1015920"/>
            <a:ext cx="71629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WM Unit: Frequencies and Re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8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439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2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443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5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9" name=""/>
          <p:cNvGrpSpPr/>
          <p:nvPr/>
        </p:nvGrpSpPr>
        <p:grpSpPr>
          <a:xfrm>
            <a:off x="3460680" y="1623960"/>
            <a:ext cx="2713320" cy="405360"/>
            <a:chOff x="3460680" y="1623960"/>
            <a:chExt cx="2713320" cy="405360"/>
          </a:xfrm>
        </p:grpSpPr>
        <p:sp>
          <p:nvSpPr>
            <p:cNvPr id="2470" name=""/>
            <p:cNvSpPr/>
            <p:nvPr/>
          </p:nvSpPr>
          <p:spPr>
            <a:xfrm>
              <a:off x="3552840" y="1623960"/>
              <a:ext cx="2621160" cy="317880"/>
            </a:xfrm>
            <a:custGeom>
              <a:avLst/>
              <a:gdLst/>
              <a:ahLst/>
              <a:rect l="0" t="0" r="r" b="b"/>
              <a:pathLst>
                <a:path w="7281" h="883">
                  <a:moveTo>
                    <a:pt x="0" y="883"/>
                  </a:moveTo>
                  <a:lnTo>
                    <a:pt x="7281" y="883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521160" y="1655640"/>
              <a:ext cx="2621160" cy="316440"/>
            </a:xfrm>
            <a:custGeom>
              <a:avLst/>
              <a:gdLst/>
              <a:ahLst/>
              <a:rect l="0" t="0" r="r" b="b"/>
              <a:pathLst>
                <a:path w="7281" h="879">
                  <a:moveTo>
                    <a:pt x="0" y="879"/>
                  </a:moveTo>
                  <a:lnTo>
                    <a:pt x="7281" y="879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7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489480" y="1685880"/>
              <a:ext cx="2621160" cy="319320"/>
            </a:xfrm>
            <a:custGeom>
              <a:avLst/>
              <a:gdLst/>
              <a:ahLst/>
              <a:rect l="0" t="0" r="r" b="b"/>
              <a:pathLst>
                <a:path w="7281" h="887">
                  <a:moveTo>
                    <a:pt x="0" y="887"/>
                  </a:moveTo>
                  <a:lnTo>
                    <a:pt x="7281" y="887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460680" y="1711440"/>
              <a:ext cx="2621160" cy="317880"/>
            </a:xfrm>
            <a:custGeom>
              <a:avLst/>
              <a:gdLst/>
              <a:ahLst/>
              <a:rect l="0" t="0" r="r" b="b"/>
              <a:pathLst>
                <a:path w="7281" h="883">
                  <a:moveTo>
                    <a:pt x="0" y="883"/>
                  </a:moveTo>
                  <a:lnTo>
                    <a:pt x="7281" y="883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4" name=""/>
          <p:cNvGrpSpPr/>
          <p:nvPr/>
        </p:nvGrpSpPr>
        <p:grpSpPr>
          <a:xfrm>
            <a:off x="3460680" y="4975200"/>
            <a:ext cx="2713320" cy="405360"/>
            <a:chOff x="3460680" y="4975200"/>
            <a:chExt cx="2713320" cy="405360"/>
          </a:xfrm>
        </p:grpSpPr>
        <p:sp>
          <p:nvSpPr>
            <p:cNvPr id="2475" name=""/>
            <p:cNvSpPr/>
            <p:nvPr/>
          </p:nvSpPr>
          <p:spPr>
            <a:xfrm>
              <a:off x="3552840" y="4975200"/>
              <a:ext cx="2621160" cy="317880"/>
            </a:xfrm>
            <a:custGeom>
              <a:avLst/>
              <a:gdLst/>
              <a:ahLst/>
              <a:rect l="0" t="0" r="r" b="b"/>
              <a:pathLst>
                <a:path w="7281" h="883">
                  <a:moveTo>
                    <a:pt x="0" y="883"/>
                  </a:moveTo>
                  <a:lnTo>
                    <a:pt x="7281" y="883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521160" y="5006880"/>
              <a:ext cx="2621160" cy="316440"/>
            </a:xfrm>
            <a:custGeom>
              <a:avLst/>
              <a:gdLst/>
              <a:ahLst/>
              <a:rect l="0" t="0" r="r" b="b"/>
              <a:pathLst>
                <a:path w="7281" h="879">
                  <a:moveTo>
                    <a:pt x="0" y="879"/>
                  </a:moveTo>
                  <a:lnTo>
                    <a:pt x="7281" y="879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7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489480" y="5037120"/>
              <a:ext cx="2621160" cy="319320"/>
            </a:xfrm>
            <a:custGeom>
              <a:avLst/>
              <a:gdLst/>
              <a:ahLst/>
              <a:rect l="0" t="0" r="r" b="b"/>
              <a:pathLst>
                <a:path w="7281" h="887">
                  <a:moveTo>
                    <a:pt x="0" y="887"/>
                  </a:moveTo>
                  <a:lnTo>
                    <a:pt x="7281" y="887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3460680" y="5062680"/>
              <a:ext cx="2621160" cy="317880"/>
            </a:xfrm>
            <a:custGeom>
              <a:avLst/>
              <a:gdLst/>
              <a:ahLst/>
              <a:rect l="0" t="0" r="r" b="b"/>
              <a:pathLst>
                <a:path w="7281" h="883">
                  <a:moveTo>
                    <a:pt x="0" y="883"/>
                  </a:moveTo>
                  <a:lnTo>
                    <a:pt x="7281" y="883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9" name=""/>
          <p:cNvGrpSpPr/>
          <p:nvPr/>
        </p:nvGrpSpPr>
        <p:grpSpPr>
          <a:xfrm>
            <a:off x="3460680" y="2963880"/>
            <a:ext cx="2713320" cy="405000"/>
            <a:chOff x="3460680" y="2963880"/>
            <a:chExt cx="2713320" cy="405000"/>
          </a:xfrm>
        </p:grpSpPr>
        <p:sp>
          <p:nvSpPr>
            <p:cNvPr id="2480" name=""/>
            <p:cNvSpPr/>
            <p:nvPr/>
          </p:nvSpPr>
          <p:spPr>
            <a:xfrm>
              <a:off x="3552840" y="2963880"/>
              <a:ext cx="2621160" cy="317880"/>
            </a:xfrm>
            <a:custGeom>
              <a:avLst/>
              <a:gdLst/>
              <a:ahLst/>
              <a:rect l="0" t="0" r="r" b="b"/>
              <a:pathLst>
                <a:path w="7281" h="883">
                  <a:moveTo>
                    <a:pt x="0" y="883"/>
                  </a:moveTo>
                  <a:lnTo>
                    <a:pt x="7281" y="883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521160" y="2995560"/>
              <a:ext cx="2621160" cy="316440"/>
            </a:xfrm>
            <a:custGeom>
              <a:avLst/>
              <a:gdLst/>
              <a:ahLst/>
              <a:rect l="0" t="0" r="r" b="b"/>
              <a:pathLst>
                <a:path w="7281" h="879">
                  <a:moveTo>
                    <a:pt x="0" y="879"/>
                  </a:moveTo>
                  <a:lnTo>
                    <a:pt x="7281" y="879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7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489480" y="3025800"/>
              <a:ext cx="2621160" cy="319320"/>
            </a:xfrm>
            <a:custGeom>
              <a:avLst/>
              <a:gdLst/>
              <a:ahLst/>
              <a:rect l="0" t="0" r="r" b="b"/>
              <a:pathLst>
                <a:path w="7281" h="887">
                  <a:moveTo>
                    <a:pt x="0" y="887"/>
                  </a:moveTo>
                  <a:lnTo>
                    <a:pt x="7281" y="887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460680" y="3051000"/>
              <a:ext cx="2621160" cy="317880"/>
            </a:xfrm>
            <a:custGeom>
              <a:avLst/>
              <a:gdLst/>
              <a:ahLst/>
              <a:rect l="0" t="0" r="r" b="b"/>
              <a:pathLst>
                <a:path w="7281" h="883">
                  <a:moveTo>
                    <a:pt x="0" y="883"/>
                  </a:moveTo>
                  <a:lnTo>
                    <a:pt x="7281" y="883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4" name=""/>
          <p:cNvGrpSpPr/>
          <p:nvPr/>
        </p:nvGrpSpPr>
        <p:grpSpPr>
          <a:xfrm>
            <a:off x="3460680" y="2201760"/>
            <a:ext cx="2713320" cy="405360"/>
            <a:chOff x="3460680" y="2201760"/>
            <a:chExt cx="2713320" cy="405360"/>
          </a:xfrm>
        </p:grpSpPr>
        <p:sp>
          <p:nvSpPr>
            <p:cNvPr id="2485" name=""/>
            <p:cNvSpPr/>
            <p:nvPr/>
          </p:nvSpPr>
          <p:spPr>
            <a:xfrm>
              <a:off x="3552840" y="2201760"/>
              <a:ext cx="2621160" cy="317880"/>
            </a:xfrm>
            <a:custGeom>
              <a:avLst/>
              <a:gdLst/>
              <a:ahLst/>
              <a:rect l="0" t="0" r="r" b="b"/>
              <a:pathLst>
                <a:path w="7281" h="883">
                  <a:moveTo>
                    <a:pt x="0" y="883"/>
                  </a:moveTo>
                  <a:lnTo>
                    <a:pt x="7281" y="883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521160" y="2233440"/>
              <a:ext cx="2621160" cy="316440"/>
            </a:xfrm>
            <a:custGeom>
              <a:avLst/>
              <a:gdLst/>
              <a:ahLst/>
              <a:rect l="0" t="0" r="r" b="b"/>
              <a:pathLst>
                <a:path w="7281" h="879">
                  <a:moveTo>
                    <a:pt x="0" y="879"/>
                  </a:moveTo>
                  <a:lnTo>
                    <a:pt x="7281" y="879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7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489480" y="2263680"/>
              <a:ext cx="2621160" cy="319320"/>
            </a:xfrm>
            <a:custGeom>
              <a:avLst/>
              <a:gdLst/>
              <a:ahLst/>
              <a:rect l="0" t="0" r="r" b="b"/>
              <a:pathLst>
                <a:path w="7281" h="887">
                  <a:moveTo>
                    <a:pt x="0" y="887"/>
                  </a:moveTo>
                  <a:lnTo>
                    <a:pt x="7281" y="887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460680" y="2289240"/>
              <a:ext cx="2621160" cy="317880"/>
            </a:xfrm>
            <a:custGeom>
              <a:avLst/>
              <a:gdLst/>
              <a:ahLst/>
              <a:rect l="0" t="0" r="r" b="b"/>
              <a:pathLst>
                <a:path w="7281" h="883">
                  <a:moveTo>
                    <a:pt x="0" y="883"/>
                  </a:moveTo>
                  <a:lnTo>
                    <a:pt x="7281" y="883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9" name=""/>
          <p:cNvGrpSpPr/>
          <p:nvPr/>
        </p:nvGrpSpPr>
        <p:grpSpPr>
          <a:xfrm>
            <a:off x="3460680" y="4245120"/>
            <a:ext cx="2713320" cy="405000"/>
            <a:chOff x="3460680" y="4245120"/>
            <a:chExt cx="2713320" cy="405000"/>
          </a:xfrm>
        </p:grpSpPr>
        <p:sp>
          <p:nvSpPr>
            <p:cNvPr id="2490" name=""/>
            <p:cNvSpPr/>
            <p:nvPr/>
          </p:nvSpPr>
          <p:spPr>
            <a:xfrm>
              <a:off x="3552840" y="4245120"/>
              <a:ext cx="2621160" cy="317880"/>
            </a:xfrm>
            <a:custGeom>
              <a:avLst/>
              <a:gdLst/>
              <a:ahLst/>
              <a:rect l="0" t="0" r="r" b="b"/>
              <a:pathLst>
                <a:path w="7281" h="883">
                  <a:moveTo>
                    <a:pt x="0" y="883"/>
                  </a:moveTo>
                  <a:lnTo>
                    <a:pt x="7281" y="883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521160" y="4276800"/>
              <a:ext cx="2621160" cy="316440"/>
            </a:xfrm>
            <a:custGeom>
              <a:avLst/>
              <a:gdLst/>
              <a:ahLst/>
              <a:rect l="0" t="0" r="r" b="b"/>
              <a:pathLst>
                <a:path w="7281" h="879">
                  <a:moveTo>
                    <a:pt x="0" y="879"/>
                  </a:moveTo>
                  <a:lnTo>
                    <a:pt x="7281" y="879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7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489480" y="4307040"/>
              <a:ext cx="2621160" cy="319320"/>
            </a:xfrm>
            <a:custGeom>
              <a:avLst/>
              <a:gdLst/>
              <a:ahLst/>
              <a:rect l="0" t="0" r="r" b="b"/>
              <a:pathLst>
                <a:path w="7281" h="887">
                  <a:moveTo>
                    <a:pt x="0" y="887"/>
                  </a:moveTo>
                  <a:lnTo>
                    <a:pt x="7281" y="887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460680" y="4332240"/>
              <a:ext cx="2621160" cy="317880"/>
            </a:xfrm>
            <a:custGeom>
              <a:avLst/>
              <a:gdLst/>
              <a:ahLst/>
              <a:rect l="0" t="0" r="r" b="b"/>
              <a:pathLst>
                <a:path w="7281" h="883">
                  <a:moveTo>
                    <a:pt x="0" y="883"/>
                  </a:moveTo>
                  <a:lnTo>
                    <a:pt x="7281" y="883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4" name=""/>
          <p:cNvGrpSpPr/>
          <p:nvPr/>
        </p:nvGrpSpPr>
        <p:grpSpPr>
          <a:xfrm>
            <a:off x="3460680" y="3589200"/>
            <a:ext cx="2713320" cy="405360"/>
            <a:chOff x="3460680" y="3589200"/>
            <a:chExt cx="2713320" cy="405360"/>
          </a:xfrm>
        </p:grpSpPr>
        <p:sp>
          <p:nvSpPr>
            <p:cNvPr id="2495" name=""/>
            <p:cNvSpPr/>
            <p:nvPr/>
          </p:nvSpPr>
          <p:spPr>
            <a:xfrm>
              <a:off x="3552840" y="3589200"/>
              <a:ext cx="2621160" cy="317880"/>
            </a:xfrm>
            <a:custGeom>
              <a:avLst/>
              <a:gdLst/>
              <a:ahLst/>
              <a:rect l="0" t="0" r="r" b="b"/>
              <a:pathLst>
                <a:path w="7281" h="883">
                  <a:moveTo>
                    <a:pt x="0" y="883"/>
                  </a:moveTo>
                  <a:lnTo>
                    <a:pt x="7281" y="883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521160" y="3621240"/>
              <a:ext cx="2621160" cy="316440"/>
            </a:xfrm>
            <a:custGeom>
              <a:avLst/>
              <a:gdLst/>
              <a:ahLst/>
              <a:rect l="0" t="0" r="r" b="b"/>
              <a:pathLst>
                <a:path w="7281" h="879">
                  <a:moveTo>
                    <a:pt x="0" y="879"/>
                  </a:moveTo>
                  <a:lnTo>
                    <a:pt x="7281" y="879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7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489480" y="3651120"/>
              <a:ext cx="2621160" cy="319320"/>
            </a:xfrm>
            <a:custGeom>
              <a:avLst/>
              <a:gdLst/>
              <a:ahLst/>
              <a:rect l="0" t="0" r="r" b="b"/>
              <a:pathLst>
                <a:path w="7281" h="887">
                  <a:moveTo>
                    <a:pt x="0" y="887"/>
                  </a:moveTo>
                  <a:lnTo>
                    <a:pt x="7281" y="887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460680" y="3676680"/>
              <a:ext cx="2621160" cy="317880"/>
            </a:xfrm>
            <a:custGeom>
              <a:avLst/>
              <a:gdLst/>
              <a:ahLst/>
              <a:rect l="0" t="0" r="r" b="b"/>
              <a:pathLst>
                <a:path w="7281" h="883">
                  <a:moveTo>
                    <a:pt x="0" y="883"/>
                  </a:moveTo>
                  <a:lnTo>
                    <a:pt x="7281" y="883"/>
                  </a:lnTo>
                  <a:lnTo>
                    <a:pt x="7281" y="0"/>
                  </a:lnTo>
                  <a:lnTo>
                    <a:pt x="0" y="0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9" name=""/>
          <p:cNvSpPr/>
          <p:nvPr/>
        </p:nvSpPr>
        <p:spPr>
          <a:xfrm>
            <a:off x="5281560" y="2755800"/>
            <a:ext cx="11174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6837480" y="3228840"/>
            <a:ext cx="1068840" cy="348120"/>
          </a:xfrm>
          <a:custGeom>
            <a:avLst/>
            <a:gdLst/>
            <a:ahLst/>
            <a:rect l="0" t="0" r="r" b="b"/>
            <a:pathLst>
              <a:path w="2969" h="967">
                <a:moveTo>
                  <a:pt x="0" y="967"/>
                </a:moveTo>
                <a:lnTo>
                  <a:pt x="2969" y="967"/>
                </a:lnTo>
                <a:lnTo>
                  <a:pt x="2969" y="0"/>
                </a:lnTo>
                <a:lnTo>
                  <a:pt x="0" y="0"/>
                </a:lnTo>
                <a:lnTo>
                  <a:pt x="0" y="9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6978600" y="2558880"/>
            <a:ext cx="429120" cy="252720"/>
          </a:xfrm>
          <a:custGeom>
            <a:avLst/>
            <a:gdLst/>
            <a:ahLst/>
            <a:rect l="0" t="0" r="r" b="b"/>
            <a:pathLst>
              <a:path w="1192" h="702">
                <a:moveTo>
                  <a:pt x="0" y="702"/>
                </a:moveTo>
                <a:lnTo>
                  <a:pt x="1192" y="702"/>
                </a:lnTo>
                <a:lnTo>
                  <a:pt x="1192" y="0"/>
                </a:lnTo>
                <a:lnTo>
                  <a:pt x="0" y="0"/>
                </a:lnTo>
                <a:lnTo>
                  <a:pt x="0" y="70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2705040" y="2716200"/>
            <a:ext cx="527400" cy="265320"/>
          </a:xfrm>
          <a:custGeom>
            <a:avLst/>
            <a:gdLst/>
            <a:ahLst/>
            <a:rect l="0" t="0" r="r" b="b"/>
            <a:pathLst>
              <a:path w="1465" h="737">
                <a:moveTo>
                  <a:pt x="0" y="737"/>
                </a:moveTo>
                <a:lnTo>
                  <a:pt x="1465" y="737"/>
                </a:lnTo>
                <a:lnTo>
                  <a:pt x="1465" y="0"/>
                </a:lnTo>
                <a:lnTo>
                  <a:pt x="0" y="0"/>
                </a:lnTo>
                <a:lnTo>
                  <a:pt x="0" y="73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1636560" y="3008160"/>
            <a:ext cx="500400" cy="505080"/>
          </a:xfrm>
          <a:custGeom>
            <a:avLst/>
            <a:gdLst/>
            <a:ahLst/>
            <a:rect l="0" t="0" r="r" b="b"/>
            <a:pathLst>
              <a:path w="1390" h="1403">
                <a:moveTo>
                  <a:pt x="0" y="0"/>
                </a:moveTo>
                <a:lnTo>
                  <a:pt x="1390" y="220"/>
                </a:lnTo>
                <a:lnTo>
                  <a:pt x="1390" y="1257"/>
                </a:lnTo>
                <a:lnTo>
                  <a:pt x="0" y="140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P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 txBox="1"/>
          <p:nvPr/>
        </p:nvSpPr>
        <p:spPr>
          <a:xfrm>
            <a:off x="1776240" y="992160"/>
            <a:ext cx="72151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WM Unit Function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 txBox="1"/>
          <p:nvPr/>
        </p:nvSpPr>
        <p:spPr>
          <a:xfrm>
            <a:off x="1608120" y="3030480"/>
            <a:ext cx="5936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 txBox="1"/>
          <p:nvPr/>
        </p:nvSpPr>
        <p:spPr>
          <a:xfrm>
            <a:off x="2687760" y="2685960"/>
            <a:ext cx="579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 txBox="1"/>
          <p:nvPr/>
        </p:nvSpPr>
        <p:spPr>
          <a:xfrm>
            <a:off x="6943680" y="2527200"/>
            <a:ext cx="539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 txBox="1"/>
          <p:nvPr/>
        </p:nvSpPr>
        <p:spPr>
          <a:xfrm>
            <a:off x="6775560" y="3220920"/>
            <a:ext cx="11923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utput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 txBox="1"/>
          <p:nvPr/>
        </p:nvSpPr>
        <p:spPr>
          <a:xfrm>
            <a:off x="7213680" y="3919680"/>
            <a:ext cx="793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W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 txBox="1"/>
          <p:nvPr/>
        </p:nvSpPr>
        <p:spPr>
          <a:xfrm>
            <a:off x="425520" y="2965320"/>
            <a:ext cx="7095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 txBox="1"/>
          <p:nvPr/>
        </p:nvSpPr>
        <p:spPr>
          <a:xfrm>
            <a:off x="425520" y="3341520"/>
            <a:ext cx="7095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8 K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 txBox="1"/>
          <p:nvPr/>
        </p:nvSpPr>
        <p:spPr>
          <a:xfrm>
            <a:off x="914400" y="3635280"/>
            <a:ext cx="1419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t 20 MHz CPU C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 txBox="1"/>
          <p:nvPr/>
        </p:nvSpPr>
        <p:spPr>
          <a:xfrm>
            <a:off x="2103480" y="5423040"/>
            <a:ext cx="54118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 identical PWM Channels with common Interrupt Control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5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516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9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520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2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6" name=""/>
          <p:cNvSpPr/>
          <p:nvPr/>
        </p:nvSpPr>
        <p:spPr>
          <a:xfrm>
            <a:off x="4913280" y="4908600"/>
            <a:ext cx="1709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133800" y="324972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2844720" y="3138480"/>
            <a:ext cx="276480" cy="120960"/>
          </a:xfrm>
          <a:custGeom>
            <a:avLst/>
            <a:gdLst/>
            <a:ahLst/>
            <a:rect l="0" t="0" r="r" b="b"/>
            <a:pathLst>
              <a:path w="768" h="336">
                <a:moveTo>
                  <a:pt x="16" y="336"/>
                </a:moveTo>
                <a:lnTo>
                  <a:pt x="768" y="23"/>
                </a:lnTo>
                <a:lnTo>
                  <a:pt x="751" y="0"/>
                </a:lnTo>
                <a:lnTo>
                  <a:pt x="0" y="312"/>
                </a:lnTo>
                <a:lnTo>
                  <a:pt x="16" y="3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2976480" y="2986200"/>
            <a:ext cx="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7396200" y="3822840"/>
            <a:ext cx="122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7107120" y="3728880"/>
            <a:ext cx="246600" cy="95760"/>
          </a:xfrm>
          <a:custGeom>
            <a:avLst/>
            <a:gdLst/>
            <a:ahLst/>
            <a:rect l="0" t="0" r="r" b="b"/>
            <a:pathLst>
              <a:path w="685" h="266">
                <a:moveTo>
                  <a:pt x="12" y="266"/>
                </a:moveTo>
                <a:lnTo>
                  <a:pt x="685" y="22"/>
                </a:lnTo>
                <a:lnTo>
                  <a:pt x="673" y="0"/>
                </a:lnTo>
                <a:lnTo>
                  <a:pt x="0" y="243"/>
                </a:lnTo>
                <a:lnTo>
                  <a:pt x="12" y="2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7307280" y="3608280"/>
            <a:ext cx="4680" cy="10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7531200" y="3747960"/>
            <a:ext cx="18108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7524720" y="3743280"/>
            <a:ext cx="198720" cy="178200"/>
          </a:xfrm>
          <a:custGeom>
            <a:avLst/>
            <a:gdLst/>
            <a:ahLst/>
            <a:rect l="0" t="0" r="r" b="b"/>
            <a:pathLst>
              <a:path w="552" h="495">
                <a:moveTo>
                  <a:pt x="18" y="495"/>
                </a:moveTo>
                <a:lnTo>
                  <a:pt x="552" y="491"/>
                </a:lnTo>
                <a:lnTo>
                  <a:pt x="552" y="0"/>
                </a:lnTo>
                <a:lnTo>
                  <a:pt x="4" y="0"/>
                </a:lnTo>
                <a:lnTo>
                  <a:pt x="0" y="477"/>
                </a:lnTo>
                <a:lnTo>
                  <a:pt x="36" y="477"/>
                </a:lnTo>
                <a:lnTo>
                  <a:pt x="36" y="13"/>
                </a:lnTo>
                <a:lnTo>
                  <a:pt x="18" y="27"/>
                </a:lnTo>
                <a:lnTo>
                  <a:pt x="538" y="27"/>
                </a:lnTo>
                <a:lnTo>
                  <a:pt x="520" y="13"/>
                </a:lnTo>
                <a:lnTo>
                  <a:pt x="520" y="477"/>
                </a:lnTo>
                <a:lnTo>
                  <a:pt x="538" y="463"/>
                </a:lnTo>
                <a:lnTo>
                  <a:pt x="18" y="463"/>
                </a:lnTo>
                <a:lnTo>
                  <a:pt x="18" y="4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7534440" y="3841920"/>
            <a:ext cx="69840" cy="63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 flipV="1">
            <a:off x="7639200" y="3841920"/>
            <a:ext cx="71280" cy="63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 flipH="1">
            <a:off x="7534440" y="3746520"/>
            <a:ext cx="69840" cy="63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7639200" y="3746520"/>
            <a:ext cx="71280" cy="63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6124680" y="2436840"/>
            <a:ext cx="498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6622920" y="2436840"/>
            <a:ext cx="0" cy="246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6622920" y="26906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6124680" y="3830760"/>
            <a:ext cx="996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6589800" y="2657520"/>
            <a:ext cx="5400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6589800" y="2657520"/>
            <a:ext cx="54000" cy="47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6594480" y="2911320"/>
            <a:ext cx="5400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6594480" y="2911320"/>
            <a:ext cx="54000" cy="47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2136600" y="3260880"/>
            <a:ext cx="711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1066680" y="3071880"/>
            <a:ext cx="56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1066680" y="3449520"/>
            <a:ext cx="56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4179960" y="2314440"/>
            <a:ext cx="125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4179960" y="3727440"/>
            <a:ext cx="125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3943440" y="4359240"/>
            <a:ext cx="1731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hadow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4794120" y="2622600"/>
            <a:ext cx="24120" cy="433800"/>
          </a:xfrm>
          <a:custGeom>
            <a:avLst/>
            <a:gdLst/>
            <a:ahLst/>
            <a:rect l="0" t="0" r="r" b="b"/>
            <a:pathLst>
              <a:path w="67" h="1205">
                <a:moveTo>
                  <a:pt x="67" y="1205"/>
                </a:moveTo>
                <a:lnTo>
                  <a:pt x="67" y="0"/>
                </a:lnTo>
                <a:lnTo>
                  <a:pt x="0" y="0"/>
                </a:lnTo>
                <a:lnTo>
                  <a:pt x="0" y="1205"/>
                </a:lnTo>
                <a:lnTo>
                  <a:pt x="67" y="12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4737240" y="2622600"/>
            <a:ext cx="136800" cy="119520"/>
          </a:xfrm>
          <a:custGeom>
            <a:avLst/>
            <a:gdLst/>
            <a:ahLst/>
            <a:rect l="0" t="0" r="r" b="b"/>
            <a:pathLst>
              <a:path w="380" h="332">
                <a:moveTo>
                  <a:pt x="0" y="332"/>
                </a:moveTo>
                <a:lnTo>
                  <a:pt x="189" y="0"/>
                </a:lnTo>
                <a:lnTo>
                  <a:pt x="380" y="332"/>
                </a:lnTo>
                <a:lnTo>
                  <a:pt x="0" y="3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4707000" y="2584440"/>
            <a:ext cx="197280" cy="174960"/>
          </a:xfrm>
          <a:custGeom>
            <a:avLst/>
            <a:gdLst/>
            <a:ahLst/>
            <a:rect l="0" t="0" r="r" b="b"/>
            <a:pathLst>
              <a:path w="548" h="486">
                <a:moveTo>
                  <a:pt x="77" y="397"/>
                </a:moveTo>
                <a:lnTo>
                  <a:pt x="122" y="457"/>
                </a:lnTo>
                <a:lnTo>
                  <a:pt x="319" y="113"/>
                </a:lnTo>
                <a:lnTo>
                  <a:pt x="233" y="113"/>
                </a:lnTo>
                <a:lnTo>
                  <a:pt x="426" y="457"/>
                </a:lnTo>
                <a:lnTo>
                  <a:pt x="471" y="397"/>
                </a:lnTo>
                <a:lnTo>
                  <a:pt x="77" y="397"/>
                </a:lnTo>
                <a:lnTo>
                  <a:pt x="0" y="486"/>
                </a:lnTo>
                <a:lnTo>
                  <a:pt x="548" y="482"/>
                </a:lnTo>
                <a:lnTo>
                  <a:pt x="274" y="0"/>
                </a:lnTo>
                <a:lnTo>
                  <a:pt x="0" y="486"/>
                </a:lnTo>
                <a:lnTo>
                  <a:pt x="77" y="3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4794120" y="2017800"/>
            <a:ext cx="24120" cy="228960"/>
          </a:xfrm>
          <a:custGeom>
            <a:avLst/>
            <a:gdLst/>
            <a:ahLst/>
            <a:rect l="0" t="0" r="r" b="b"/>
            <a:pathLst>
              <a:path w="67" h="636">
                <a:moveTo>
                  <a:pt x="0" y="0"/>
                </a:moveTo>
                <a:lnTo>
                  <a:pt x="0" y="636"/>
                </a:lnTo>
                <a:lnTo>
                  <a:pt x="67" y="636"/>
                </a:lnTo>
                <a:lnTo>
                  <a:pt x="6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4737240" y="2127240"/>
            <a:ext cx="136800" cy="119520"/>
          </a:xfrm>
          <a:custGeom>
            <a:avLst/>
            <a:gdLst/>
            <a:ahLst/>
            <a:rect l="0" t="0" r="r" b="b"/>
            <a:pathLst>
              <a:path w="380" h="332">
                <a:moveTo>
                  <a:pt x="380" y="0"/>
                </a:moveTo>
                <a:lnTo>
                  <a:pt x="189" y="332"/>
                </a:lnTo>
                <a:lnTo>
                  <a:pt x="0" y="0"/>
                </a:lnTo>
                <a:lnTo>
                  <a:pt x="3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4707000" y="2111400"/>
            <a:ext cx="197280" cy="173520"/>
          </a:xfrm>
          <a:custGeom>
            <a:avLst/>
            <a:gdLst/>
            <a:ahLst/>
            <a:rect l="0" t="0" r="r" b="b"/>
            <a:pathLst>
              <a:path w="548" h="482">
                <a:moveTo>
                  <a:pt x="471" y="84"/>
                </a:moveTo>
                <a:lnTo>
                  <a:pt x="426" y="24"/>
                </a:lnTo>
                <a:lnTo>
                  <a:pt x="233" y="369"/>
                </a:lnTo>
                <a:lnTo>
                  <a:pt x="319" y="369"/>
                </a:lnTo>
                <a:lnTo>
                  <a:pt x="122" y="24"/>
                </a:lnTo>
                <a:lnTo>
                  <a:pt x="77" y="84"/>
                </a:lnTo>
                <a:lnTo>
                  <a:pt x="471" y="84"/>
                </a:lnTo>
                <a:lnTo>
                  <a:pt x="548" y="0"/>
                </a:lnTo>
                <a:lnTo>
                  <a:pt x="0" y="0"/>
                </a:lnTo>
                <a:lnTo>
                  <a:pt x="274" y="482"/>
                </a:lnTo>
                <a:lnTo>
                  <a:pt x="548" y="0"/>
                </a:lnTo>
                <a:lnTo>
                  <a:pt x="471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4788000" y="3397320"/>
            <a:ext cx="24120" cy="232200"/>
          </a:xfrm>
          <a:custGeom>
            <a:avLst/>
            <a:gdLst/>
            <a:ahLst/>
            <a:rect l="0" t="0" r="r" b="b"/>
            <a:pathLst>
              <a:path w="67" h="645">
                <a:moveTo>
                  <a:pt x="0" y="0"/>
                </a:moveTo>
                <a:lnTo>
                  <a:pt x="0" y="645"/>
                </a:lnTo>
                <a:lnTo>
                  <a:pt x="67" y="645"/>
                </a:lnTo>
                <a:lnTo>
                  <a:pt x="6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4732200" y="3397320"/>
            <a:ext cx="135360" cy="120960"/>
          </a:xfrm>
          <a:custGeom>
            <a:avLst/>
            <a:gdLst/>
            <a:ahLst/>
            <a:rect l="0" t="0" r="r" b="b"/>
            <a:pathLst>
              <a:path w="376" h="336">
                <a:moveTo>
                  <a:pt x="376" y="336"/>
                </a:moveTo>
                <a:lnTo>
                  <a:pt x="186" y="0"/>
                </a:lnTo>
                <a:lnTo>
                  <a:pt x="0" y="336"/>
                </a:lnTo>
                <a:lnTo>
                  <a:pt x="376" y="3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4702320" y="3359160"/>
            <a:ext cx="195480" cy="174960"/>
          </a:xfrm>
          <a:custGeom>
            <a:avLst/>
            <a:gdLst/>
            <a:ahLst/>
            <a:rect l="0" t="0" r="r" b="b"/>
            <a:pathLst>
              <a:path w="543" h="486">
                <a:moveTo>
                  <a:pt x="543" y="486"/>
                </a:moveTo>
                <a:lnTo>
                  <a:pt x="269" y="0"/>
                </a:lnTo>
                <a:lnTo>
                  <a:pt x="0" y="486"/>
                </a:lnTo>
                <a:lnTo>
                  <a:pt x="543" y="486"/>
                </a:lnTo>
                <a:lnTo>
                  <a:pt x="465" y="401"/>
                </a:lnTo>
                <a:lnTo>
                  <a:pt x="77" y="401"/>
                </a:lnTo>
                <a:lnTo>
                  <a:pt x="122" y="461"/>
                </a:lnTo>
                <a:lnTo>
                  <a:pt x="315" y="117"/>
                </a:lnTo>
                <a:lnTo>
                  <a:pt x="228" y="117"/>
                </a:lnTo>
                <a:lnTo>
                  <a:pt x="421" y="461"/>
                </a:lnTo>
                <a:lnTo>
                  <a:pt x="465" y="401"/>
                </a:lnTo>
                <a:lnTo>
                  <a:pt x="543" y="4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4797360" y="4006800"/>
            <a:ext cx="22680" cy="316440"/>
          </a:xfrm>
          <a:custGeom>
            <a:avLst/>
            <a:gdLst/>
            <a:ahLst/>
            <a:rect l="0" t="0" r="r" b="b"/>
            <a:pathLst>
              <a:path w="63" h="879">
                <a:moveTo>
                  <a:pt x="63" y="879"/>
                </a:moveTo>
                <a:lnTo>
                  <a:pt x="63" y="0"/>
                </a:lnTo>
                <a:lnTo>
                  <a:pt x="0" y="0"/>
                </a:lnTo>
                <a:lnTo>
                  <a:pt x="0" y="879"/>
                </a:lnTo>
                <a:lnTo>
                  <a:pt x="63" y="8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4740120" y="4006800"/>
            <a:ext cx="138600" cy="119520"/>
          </a:xfrm>
          <a:custGeom>
            <a:avLst/>
            <a:gdLst/>
            <a:ahLst/>
            <a:rect l="0" t="0" r="r" b="b"/>
            <a:pathLst>
              <a:path w="385" h="332">
                <a:moveTo>
                  <a:pt x="0" y="332"/>
                </a:moveTo>
                <a:lnTo>
                  <a:pt x="190" y="0"/>
                </a:lnTo>
                <a:lnTo>
                  <a:pt x="385" y="332"/>
                </a:lnTo>
                <a:lnTo>
                  <a:pt x="0" y="3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4710240" y="3970440"/>
            <a:ext cx="198720" cy="173520"/>
          </a:xfrm>
          <a:custGeom>
            <a:avLst/>
            <a:gdLst/>
            <a:ahLst/>
            <a:rect l="0" t="0" r="r" b="b"/>
            <a:pathLst>
              <a:path w="552" h="482">
                <a:moveTo>
                  <a:pt x="77" y="397"/>
                </a:moveTo>
                <a:lnTo>
                  <a:pt x="122" y="458"/>
                </a:lnTo>
                <a:lnTo>
                  <a:pt x="319" y="113"/>
                </a:lnTo>
                <a:lnTo>
                  <a:pt x="228" y="113"/>
                </a:lnTo>
                <a:lnTo>
                  <a:pt x="429" y="458"/>
                </a:lnTo>
                <a:lnTo>
                  <a:pt x="474" y="397"/>
                </a:lnTo>
                <a:lnTo>
                  <a:pt x="77" y="397"/>
                </a:lnTo>
                <a:lnTo>
                  <a:pt x="0" y="482"/>
                </a:lnTo>
                <a:lnTo>
                  <a:pt x="552" y="482"/>
                </a:lnTo>
                <a:lnTo>
                  <a:pt x="273" y="0"/>
                </a:lnTo>
                <a:lnTo>
                  <a:pt x="0" y="482"/>
                </a:lnTo>
                <a:lnTo>
                  <a:pt x="77" y="3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4791240" y="4667400"/>
            <a:ext cx="22680" cy="352800"/>
          </a:xfrm>
          <a:custGeom>
            <a:avLst/>
            <a:gdLst/>
            <a:ahLst/>
            <a:rect l="0" t="0" r="r" b="b"/>
            <a:pathLst>
              <a:path w="63" h="980">
                <a:moveTo>
                  <a:pt x="63" y="980"/>
                </a:moveTo>
                <a:lnTo>
                  <a:pt x="63" y="0"/>
                </a:lnTo>
                <a:lnTo>
                  <a:pt x="0" y="0"/>
                </a:lnTo>
                <a:lnTo>
                  <a:pt x="0" y="980"/>
                </a:lnTo>
                <a:lnTo>
                  <a:pt x="63" y="9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4734000" y="4667400"/>
            <a:ext cx="136800" cy="119520"/>
          </a:xfrm>
          <a:custGeom>
            <a:avLst/>
            <a:gdLst/>
            <a:ahLst/>
            <a:rect l="0" t="0" r="r" b="b"/>
            <a:pathLst>
              <a:path w="380" h="332">
                <a:moveTo>
                  <a:pt x="0" y="332"/>
                </a:moveTo>
                <a:lnTo>
                  <a:pt x="189" y="0"/>
                </a:lnTo>
                <a:lnTo>
                  <a:pt x="380" y="332"/>
                </a:lnTo>
                <a:lnTo>
                  <a:pt x="0" y="3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4703760" y="4630680"/>
            <a:ext cx="197280" cy="171720"/>
          </a:xfrm>
          <a:custGeom>
            <a:avLst/>
            <a:gdLst/>
            <a:ahLst/>
            <a:rect l="0" t="0" r="r" b="b"/>
            <a:pathLst>
              <a:path w="548" h="477">
                <a:moveTo>
                  <a:pt x="77" y="392"/>
                </a:moveTo>
                <a:lnTo>
                  <a:pt x="122" y="457"/>
                </a:lnTo>
                <a:lnTo>
                  <a:pt x="319" y="113"/>
                </a:lnTo>
                <a:lnTo>
                  <a:pt x="229" y="113"/>
                </a:lnTo>
                <a:lnTo>
                  <a:pt x="426" y="457"/>
                </a:lnTo>
                <a:lnTo>
                  <a:pt x="471" y="392"/>
                </a:lnTo>
                <a:lnTo>
                  <a:pt x="77" y="392"/>
                </a:lnTo>
                <a:lnTo>
                  <a:pt x="0" y="477"/>
                </a:lnTo>
                <a:lnTo>
                  <a:pt x="548" y="477"/>
                </a:lnTo>
                <a:lnTo>
                  <a:pt x="274" y="0"/>
                </a:lnTo>
                <a:lnTo>
                  <a:pt x="0" y="477"/>
                </a:lnTo>
                <a:lnTo>
                  <a:pt x="77" y="3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4672080" y="4843440"/>
            <a:ext cx="268560" cy="111600"/>
          </a:xfrm>
          <a:custGeom>
            <a:avLst/>
            <a:gdLst/>
            <a:ahLst/>
            <a:rect l="0" t="0" r="r" b="b"/>
            <a:pathLst>
              <a:path w="746" h="310">
                <a:moveTo>
                  <a:pt x="0" y="310"/>
                </a:moveTo>
                <a:lnTo>
                  <a:pt x="746" y="310"/>
                </a:lnTo>
                <a:lnTo>
                  <a:pt x="370" y="0"/>
                </a:lnTo>
                <a:lnTo>
                  <a:pt x="0" y="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4672080" y="4843440"/>
            <a:ext cx="284400" cy="127440"/>
          </a:xfrm>
          <a:custGeom>
            <a:avLst/>
            <a:gdLst/>
            <a:ahLst/>
            <a:rect l="0" t="0" r="r" b="b"/>
            <a:pathLst>
              <a:path fill="none" w="790" h="354">
                <a:moveTo>
                  <a:pt x="0" y="354"/>
                </a:moveTo>
                <a:lnTo>
                  <a:pt x="790" y="354"/>
                </a:lnTo>
                <a:lnTo>
                  <a:pt x="392" y="0"/>
                </a:lnTo>
                <a:lnTo>
                  <a:pt x="0" y="35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 txBox="1"/>
          <p:nvPr/>
        </p:nvSpPr>
        <p:spPr>
          <a:xfrm>
            <a:off x="3492360" y="1720800"/>
            <a:ext cx="2589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iod Register PP0 - PP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 txBox="1"/>
          <p:nvPr/>
        </p:nvSpPr>
        <p:spPr>
          <a:xfrm>
            <a:off x="3954600" y="3078000"/>
            <a:ext cx="1685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r PT0 - P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5248440" y="2779560"/>
            <a:ext cx="11174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6267600" y="294480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5218200" y="2811600"/>
            <a:ext cx="11174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5184720" y="2843280"/>
            <a:ext cx="11174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 txBox="1"/>
          <p:nvPr/>
        </p:nvSpPr>
        <p:spPr>
          <a:xfrm>
            <a:off x="5173560" y="2830680"/>
            <a:ext cx="1174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/down,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 txBox="1"/>
          <p:nvPr/>
        </p:nvSpPr>
        <p:spPr>
          <a:xfrm>
            <a:off x="3398760" y="5105520"/>
            <a:ext cx="2759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lse Width Reg. PW0-PW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P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 txBox="1"/>
          <p:nvPr/>
        </p:nvSpPr>
        <p:spPr>
          <a:xfrm>
            <a:off x="1785960" y="993600"/>
            <a:ext cx="71643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WM Mode 0 and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252440" y="2514600"/>
            <a:ext cx="2252880" cy="870480"/>
          </a:xfrm>
          <a:custGeom>
            <a:avLst/>
            <a:gdLst/>
            <a:ahLst/>
            <a:rect l="0" t="0" r="r" b="b"/>
            <a:pathLst>
              <a:path fill="none" w="6258" h="2418">
                <a:moveTo>
                  <a:pt x="0" y="2418"/>
                </a:moveTo>
                <a:lnTo>
                  <a:pt x="4775" y="0"/>
                </a:lnTo>
                <a:lnTo>
                  <a:pt x="4775" y="2330"/>
                </a:lnTo>
                <a:lnTo>
                  <a:pt x="6258" y="162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V="1">
            <a:off x="5084640" y="2516040"/>
            <a:ext cx="1357560" cy="847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6442200" y="2516040"/>
            <a:ext cx="1330200" cy="836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V="1">
            <a:off x="7772400" y="3081240"/>
            <a:ext cx="48276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252440" y="4272120"/>
            <a:ext cx="567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 flipV="1">
            <a:off x="1819440" y="4046400"/>
            <a:ext cx="0" cy="2257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1819440" y="4046400"/>
            <a:ext cx="113184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2951280" y="4046400"/>
            <a:ext cx="0" cy="2257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2951280" y="4272120"/>
            <a:ext cx="1126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1252440" y="5364000"/>
            <a:ext cx="101916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 flipV="1">
            <a:off x="2271600" y="5138640"/>
            <a:ext cx="0" cy="2253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2271600" y="5138640"/>
            <a:ext cx="6796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2951280" y="5138640"/>
            <a:ext cx="0" cy="2253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2951280" y="5364000"/>
            <a:ext cx="1126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1252440" y="5703840"/>
            <a:ext cx="1126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 flipV="1">
            <a:off x="1365120" y="5477040"/>
            <a:ext cx="0" cy="226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1365120" y="5477040"/>
            <a:ext cx="158616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2951280" y="5477040"/>
            <a:ext cx="0" cy="226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2951280" y="5703840"/>
            <a:ext cx="1126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 flipH="1">
            <a:off x="1827360" y="3124080"/>
            <a:ext cx="1440" cy="5335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2971800" y="3352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7772400" y="342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5562720" y="312408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 flipH="1">
            <a:off x="6537240" y="3124080"/>
            <a:ext cx="777960" cy="5335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143680" y="4272120"/>
            <a:ext cx="45216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5595840" y="4046400"/>
            <a:ext cx="0" cy="2257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5595840" y="4046400"/>
            <a:ext cx="169704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7292880" y="4046400"/>
            <a:ext cx="0" cy="2257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7292880" y="4272120"/>
            <a:ext cx="9622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5143680" y="5364000"/>
            <a:ext cx="101736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6161040" y="5138640"/>
            <a:ext cx="0" cy="2253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6161040" y="5138640"/>
            <a:ext cx="5652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6726240" y="5138640"/>
            <a:ext cx="0" cy="2253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6726240" y="5364000"/>
            <a:ext cx="15289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5143680" y="5703840"/>
            <a:ext cx="73476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5878440" y="5477040"/>
            <a:ext cx="0" cy="226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5878440" y="5477040"/>
            <a:ext cx="113184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7010280" y="5477040"/>
            <a:ext cx="0" cy="2268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7010280" y="5703840"/>
            <a:ext cx="12448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 txBox="1"/>
          <p:nvPr/>
        </p:nvSpPr>
        <p:spPr>
          <a:xfrm>
            <a:off x="1127160" y="3660840"/>
            <a:ext cx="10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Wx Regi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 txBox="1"/>
          <p:nvPr/>
        </p:nvSpPr>
        <p:spPr>
          <a:xfrm>
            <a:off x="2270160" y="3660840"/>
            <a:ext cx="1851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rupt Request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atch of the Shadow Regi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 txBox="1"/>
          <p:nvPr/>
        </p:nvSpPr>
        <p:spPr>
          <a:xfrm>
            <a:off x="5699160" y="3660840"/>
            <a:ext cx="13492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W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 txBox="1"/>
          <p:nvPr/>
        </p:nvSpPr>
        <p:spPr>
          <a:xfrm>
            <a:off x="7147080" y="366084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R and Latch of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hadow Regi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 txBox="1"/>
          <p:nvPr/>
        </p:nvSpPr>
        <p:spPr>
          <a:xfrm>
            <a:off x="1584360" y="2746440"/>
            <a:ext cx="911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r Peri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 txBox="1"/>
          <p:nvPr/>
        </p:nvSpPr>
        <p:spPr>
          <a:xfrm>
            <a:off x="5318280" y="2670120"/>
            <a:ext cx="911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r Peri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 txBox="1"/>
          <p:nvPr/>
        </p:nvSpPr>
        <p:spPr>
          <a:xfrm>
            <a:off x="6613560" y="2670120"/>
            <a:ext cx="911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r Peri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 txBox="1"/>
          <p:nvPr/>
        </p:nvSpPr>
        <p:spPr>
          <a:xfrm>
            <a:off x="3489480" y="2289240"/>
            <a:ext cx="2308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eriod Register (PP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2971800" y="251460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 txBox="1"/>
          <p:nvPr/>
        </p:nvSpPr>
        <p:spPr>
          <a:xfrm>
            <a:off x="289080" y="1887480"/>
            <a:ext cx="41799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WM Mode 0: Standard PWM’s or Edge-Aligned PW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 txBox="1"/>
          <p:nvPr/>
        </p:nvSpPr>
        <p:spPr>
          <a:xfrm>
            <a:off x="4937040" y="1887480"/>
            <a:ext cx="39942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WM Mode 1: Symmetrical or Center-Aligned PW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 txBox="1"/>
          <p:nvPr/>
        </p:nvSpPr>
        <p:spPr>
          <a:xfrm>
            <a:off x="898560" y="4041720"/>
            <a:ext cx="882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PWM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 txBox="1"/>
          <p:nvPr/>
        </p:nvSpPr>
        <p:spPr>
          <a:xfrm>
            <a:off x="816120" y="4270320"/>
            <a:ext cx="27734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f all channels are programmed to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de 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dge-aligned PW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s will be genera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 duty cycle from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 to 10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 programm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 txBox="1"/>
          <p:nvPr/>
        </p:nvSpPr>
        <p:spPr>
          <a:xfrm>
            <a:off x="5048280" y="4270320"/>
            <a:ext cx="2859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f all channels are programmed to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de 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enter-aligned PW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s will be genera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 duty cycle from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 to 10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 programm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 txBox="1"/>
          <p:nvPr/>
        </p:nvSpPr>
        <p:spPr>
          <a:xfrm>
            <a:off x="4708440" y="4041720"/>
            <a:ext cx="882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PWM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 txBox="1"/>
          <p:nvPr/>
        </p:nvSpPr>
        <p:spPr>
          <a:xfrm>
            <a:off x="2270160" y="4879800"/>
            <a:ext cx="4462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ssible PWM Signals from other channels programmed to the same mod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 txBox="1"/>
          <p:nvPr/>
        </p:nvSpPr>
        <p:spPr>
          <a:xfrm>
            <a:off x="669960" y="5184720"/>
            <a:ext cx="558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PWM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 txBox="1"/>
          <p:nvPr/>
        </p:nvSpPr>
        <p:spPr>
          <a:xfrm>
            <a:off x="669960" y="5565600"/>
            <a:ext cx="558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PWM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7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658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1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662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4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P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 txBox="1"/>
          <p:nvPr/>
        </p:nvSpPr>
        <p:spPr>
          <a:xfrm>
            <a:off x="1676520" y="1015920"/>
            <a:ext cx="7238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..PWM M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5559480" y="2989440"/>
            <a:ext cx="19080" cy="1315800"/>
          </a:xfrm>
          <a:prstGeom prst="line">
            <a:avLst/>
          </a:prstGeom>
          <a:ln w="12600">
            <a:solidFill>
              <a:srgbClr val="063de8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5504040" y="4165560"/>
            <a:ext cx="114840" cy="101880"/>
          </a:xfrm>
          <a:custGeom>
            <a:avLst/>
            <a:gdLst/>
            <a:ahLst/>
            <a:rect l="0" t="0" r="r" b="b"/>
            <a:pathLst>
              <a:path w="319" h="283">
                <a:moveTo>
                  <a:pt x="319" y="0"/>
                </a:moveTo>
                <a:lnTo>
                  <a:pt x="155" y="283"/>
                </a:lnTo>
                <a:lnTo>
                  <a:pt x="0" y="0"/>
                </a:lnTo>
                <a:lnTo>
                  <a:pt x="319" y="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1603440" y="2935440"/>
            <a:ext cx="0" cy="658800"/>
          </a:xfrm>
          <a:prstGeom prst="line">
            <a:avLst/>
          </a:prstGeom>
          <a:ln w="12600">
            <a:solidFill>
              <a:srgbClr val="063de8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1544760" y="3492360"/>
            <a:ext cx="114840" cy="101880"/>
          </a:xfrm>
          <a:custGeom>
            <a:avLst/>
            <a:gdLst/>
            <a:ahLst/>
            <a:rect l="0" t="0" r="r" b="b"/>
            <a:pathLst>
              <a:path w="319" h="283">
                <a:moveTo>
                  <a:pt x="319" y="0"/>
                </a:moveTo>
                <a:lnTo>
                  <a:pt x="164" y="283"/>
                </a:lnTo>
                <a:lnTo>
                  <a:pt x="0" y="0"/>
                </a:lnTo>
                <a:lnTo>
                  <a:pt x="319" y="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3146400" y="2933640"/>
            <a:ext cx="1440" cy="660600"/>
          </a:xfrm>
          <a:prstGeom prst="line">
            <a:avLst/>
          </a:prstGeom>
          <a:ln w="12600">
            <a:solidFill>
              <a:srgbClr val="063de8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3090960" y="3492360"/>
            <a:ext cx="114840" cy="101880"/>
          </a:xfrm>
          <a:custGeom>
            <a:avLst/>
            <a:gdLst/>
            <a:ahLst/>
            <a:rect l="0" t="0" r="r" b="b"/>
            <a:pathLst>
              <a:path w="319" h="283">
                <a:moveTo>
                  <a:pt x="319" y="0"/>
                </a:moveTo>
                <a:lnTo>
                  <a:pt x="159" y="283"/>
                </a:lnTo>
                <a:lnTo>
                  <a:pt x="0" y="0"/>
                </a:lnTo>
                <a:lnTo>
                  <a:pt x="319" y="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6900840" y="3209760"/>
            <a:ext cx="25920" cy="143280"/>
          </a:xfrm>
          <a:custGeom>
            <a:avLst/>
            <a:gdLst/>
            <a:ahLst/>
            <a:rect l="0" t="0" r="r" b="b"/>
            <a:pathLst>
              <a:path fill="none" w="72" h="398">
                <a:moveTo>
                  <a:pt x="63" y="0"/>
                </a:moveTo>
                <a:lnTo>
                  <a:pt x="0" y="70"/>
                </a:lnTo>
                <a:lnTo>
                  <a:pt x="0" y="121"/>
                </a:lnTo>
                <a:lnTo>
                  <a:pt x="17" y="176"/>
                </a:lnTo>
                <a:lnTo>
                  <a:pt x="40" y="218"/>
                </a:lnTo>
                <a:lnTo>
                  <a:pt x="63" y="269"/>
                </a:lnTo>
                <a:lnTo>
                  <a:pt x="72" y="324"/>
                </a:lnTo>
                <a:lnTo>
                  <a:pt x="72" y="367"/>
                </a:lnTo>
                <a:lnTo>
                  <a:pt x="0" y="398"/>
                </a:lnTo>
                <a:lnTo>
                  <a:pt x="0" y="38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7004160" y="3201840"/>
            <a:ext cx="25920" cy="154440"/>
          </a:xfrm>
          <a:custGeom>
            <a:avLst/>
            <a:gdLst/>
            <a:ahLst/>
            <a:rect l="0" t="0" r="r" b="b"/>
            <a:pathLst>
              <a:path fill="none" w="72" h="429">
                <a:moveTo>
                  <a:pt x="63" y="0"/>
                </a:moveTo>
                <a:lnTo>
                  <a:pt x="0" y="78"/>
                </a:lnTo>
                <a:lnTo>
                  <a:pt x="0" y="134"/>
                </a:lnTo>
                <a:lnTo>
                  <a:pt x="13" y="193"/>
                </a:lnTo>
                <a:lnTo>
                  <a:pt x="36" y="236"/>
                </a:lnTo>
                <a:lnTo>
                  <a:pt x="63" y="291"/>
                </a:lnTo>
                <a:lnTo>
                  <a:pt x="72" y="351"/>
                </a:lnTo>
                <a:lnTo>
                  <a:pt x="72" y="398"/>
                </a:lnTo>
                <a:lnTo>
                  <a:pt x="0" y="429"/>
                </a:lnTo>
                <a:lnTo>
                  <a:pt x="0" y="42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111640" y="4262400"/>
            <a:ext cx="3429360" cy="203400"/>
          </a:xfrm>
          <a:custGeom>
            <a:avLst/>
            <a:gdLst/>
            <a:ahLst/>
            <a:rect l="0" t="0" r="r" b="b"/>
            <a:pathLst>
              <a:path fill="none" w="9526" h="565">
                <a:moveTo>
                  <a:pt x="9526" y="565"/>
                </a:moveTo>
                <a:lnTo>
                  <a:pt x="9526" y="0"/>
                </a:lnTo>
                <a:lnTo>
                  <a:pt x="7303" y="0"/>
                </a:lnTo>
                <a:lnTo>
                  <a:pt x="7303" y="565"/>
                </a:lnTo>
                <a:lnTo>
                  <a:pt x="3492" y="565"/>
                </a:lnTo>
                <a:lnTo>
                  <a:pt x="3492" y="0"/>
                </a:lnTo>
                <a:lnTo>
                  <a:pt x="1270" y="0"/>
                </a:lnTo>
                <a:lnTo>
                  <a:pt x="1270" y="565"/>
                </a:lnTo>
                <a:lnTo>
                  <a:pt x="0" y="565"/>
                </a:ln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5111640" y="2440080"/>
            <a:ext cx="1771920" cy="864000"/>
          </a:xfrm>
          <a:custGeom>
            <a:avLst/>
            <a:gdLst/>
            <a:ahLst/>
            <a:rect l="0" t="0" r="r" b="b"/>
            <a:pathLst>
              <a:path fill="none" w="4922" h="2400">
                <a:moveTo>
                  <a:pt x="4922" y="2400"/>
                </a:moveTo>
                <a:lnTo>
                  <a:pt x="3493" y="2400"/>
                </a:lnTo>
                <a:lnTo>
                  <a:pt x="3493" y="0"/>
                </a:lnTo>
                <a:lnTo>
                  <a:pt x="3449" y="23"/>
                </a:lnTo>
                <a:lnTo>
                  <a:pt x="0" y="240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7054920" y="2440080"/>
            <a:ext cx="1486440" cy="864000"/>
          </a:xfrm>
          <a:custGeom>
            <a:avLst/>
            <a:gdLst/>
            <a:ahLst/>
            <a:rect l="0" t="0" r="r" b="b"/>
            <a:pathLst>
              <a:path fill="none" w="4129" h="2400">
                <a:moveTo>
                  <a:pt x="4129" y="2400"/>
                </a:moveTo>
                <a:lnTo>
                  <a:pt x="4129" y="0"/>
                </a:lnTo>
                <a:lnTo>
                  <a:pt x="635" y="2400"/>
                </a:lnTo>
                <a:lnTo>
                  <a:pt x="0" y="240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984240" y="2438280"/>
            <a:ext cx="3092760" cy="827280"/>
          </a:xfrm>
          <a:custGeom>
            <a:avLst/>
            <a:gdLst/>
            <a:ahLst/>
            <a:rect l="0" t="0" r="r" b="b"/>
            <a:pathLst>
              <a:path fill="none" w="8591" h="2298">
                <a:moveTo>
                  <a:pt x="8591" y="2298"/>
                </a:moveTo>
                <a:lnTo>
                  <a:pt x="8591" y="0"/>
                </a:lnTo>
                <a:lnTo>
                  <a:pt x="4296" y="2298"/>
                </a:lnTo>
                <a:lnTo>
                  <a:pt x="4296" y="0"/>
                </a:lnTo>
                <a:lnTo>
                  <a:pt x="0" y="229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984240" y="3594240"/>
            <a:ext cx="3092760" cy="222480"/>
          </a:xfrm>
          <a:custGeom>
            <a:avLst/>
            <a:gdLst/>
            <a:ahLst/>
            <a:rect l="0" t="0" r="r" b="b"/>
            <a:pathLst>
              <a:path fill="none" w="8591" h="618">
                <a:moveTo>
                  <a:pt x="8591" y="618"/>
                </a:moveTo>
                <a:lnTo>
                  <a:pt x="8591" y="0"/>
                </a:lnTo>
                <a:lnTo>
                  <a:pt x="6011" y="0"/>
                </a:lnTo>
                <a:lnTo>
                  <a:pt x="6011" y="618"/>
                </a:lnTo>
                <a:lnTo>
                  <a:pt x="4296" y="618"/>
                </a:lnTo>
                <a:lnTo>
                  <a:pt x="4296" y="0"/>
                </a:lnTo>
                <a:lnTo>
                  <a:pt x="1719" y="0"/>
                </a:lnTo>
                <a:lnTo>
                  <a:pt x="1719" y="618"/>
                </a:lnTo>
                <a:lnTo>
                  <a:pt x="0" y="618"/>
                </a:ln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984240" y="4754520"/>
            <a:ext cx="3092760" cy="165600"/>
          </a:xfrm>
          <a:custGeom>
            <a:avLst/>
            <a:gdLst/>
            <a:ahLst/>
            <a:rect l="0" t="0" r="r" b="b"/>
            <a:pathLst>
              <a:path fill="none" w="8591" h="460">
                <a:moveTo>
                  <a:pt x="0" y="460"/>
                </a:moveTo>
                <a:lnTo>
                  <a:pt x="339" y="460"/>
                </a:lnTo>
                <a:lnTo>
                  <a:pt x="339" y="0"/>
                </a:lnTo>
                <a:lnTo>
                  <a:pt x="859" y="0"/>
                </a:lnTo>
                <a:lnTo>
                  <a:pt x="859" y="460"/>
                </a:lnTo>
                <a:lnTo>
                  <a:pt x="1203" y="460"/>
                </a:lnTo>
                <a:lnTo>
                  <a:pt x="1203" y="0"/>
                </a:lnTo>
                <a:lnTo>
                  <a:pt x="1719" y="0"/>
                </a:lnTo>
                <a:lnTo>
                  <a:pt x="1719" y="460"/>
                </a:lnTo>
                <a:lnTo>
                  <a:pt x="2059" y="460"/>
                </a:lnTo>
                <a:lnTo>
                  <a:pt x="2059" y="0"/>
                </a:lnTo>
                <a:lnTo>
                  <a:pt x="2575" y="0"/>
                </a:lnTo>
                <a:lnTo>
                  <a:pt x="2575" y="460"/>
                </a:lnTo>
                <a:lnTo>
                  <a:pt x="2923" y="460"/>
                </a:lnTo>
                <a:lnTo>
                  <a:pt x="2923" y="0"/>
                </a:lnTo>
                <a:lnTo>
                  <a:pt x="3435" y="0"/>
                </a:lnTo>
                <a:lnTo>
                  <a:pt x="3435" y="460"/>
                </a:lnTo>
                <a:lnTo>
                  <a:pt x="3779" y="460"/>
                </a:lnTo>
                <a:lnTo>
                  <a:pt x="3779" y="0"/>
                </a:lnTo>
                <a:lnTo>
                  <a:pt x="4296" y="0"/>
                </a:lnTo>
                <a:lnTo>
                  <a:pt x="4296" y="460"/>
                </a:lnTo>
                <a:lnTo>
                  <a:pt x="4635" y="460"/>
                </a:lnTo>
                <a:lnTo>
                  <a:pt x="4635" y="0"/>
                </a:lnTo>
                <a:lnTo>
                  <a:pt x="5155" y="0"/>
                </a:lnTo>
                <a:lnTo>
                  <a:pt x="5155" y="460"/>
                </a:lnTo>
                <a:lnTo>
                  <a:pt x="5499" y="460"/>
                </a:lnTo>
                <a:lnTo>
                  <a:pt x="5499" y="0"/>
                </a:lnTo>
                <a:lnTo>
                  <a:pt x="6011" y="0"/>
                </a:lnTo>
                <a:lnTo>
                  <a:pt x="6011" y="460"/>
                </a:lnTo>
                <a:lnTo>
                  <a:pt x="6355" y="460"/>
                </a:lnTo>
                <a:lnTo>
                  <a:pt x="6355" y="0"/>
                </a:lnTo>
                <a:lnTo>
                  <a:pt x="6871" y="0"/>
                </a:lnTo>
                <a:lnTo>
                  <a:pt x="6871" y="460"/>
                </a:lnTo>
                <a:lnTo>
                  <a:pt x="7215" y="460"/>
                </a:lnTo>
                <a:lnTo>
                  <a:pt x="7215" y="0"/>
                </a:lnTo>
                <a:lnTo>
                  <a:pt x="7731" y="0"/>
                </a:lnTo>
                <a:lnTo>
                  <a:pt x="7731" y="460"/>
                </a:lnTo>
                <a:lnTo>
                  <a:pt x="8075" y="460"/>
                </a:lnTo>
                <a:lnTo>
                  <a:pt x="8075" y="0"/>
                </a:lnTo>
                <a:lnTo>
                  <a:pt x="8591" y="0"/>
                </a:lnTo>
                <a:lnTo>
                  <a:pt x="8591" y="46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984240" y="5294160"/>
            <a:ext cx="3215160" cy="224280"/>
          </a:xfrm>
          <a:custGeom>
            <a:avLst/>
            <a:gdLst/>
            <a:ahLst/>
            <a:rect l="0" t="0" r="r" b="b"/>
            <a:pathLst>
              <a:path fill="none" w="8931" h="623">
                <a:moveTo>
                  <a:pt x="8931" y="623"/>
                </a:moveTo>
                <a:lnTo>
                  <a:pt x="8592" y="623"/>
                </a:lnTo>
                <a:lnTo>
                  <a:pt x="8592" y="0"/>
                </a:lnTo>
                <a:lnTo>
                  <a:pt x="8076" y="0"/>
                </a:lnTo>
                <a:lnTo>
                  <a:pt x="8076" y="623"/>
                </a:lnTo>
                <a:lnTo>
                  <a:pt x="7732" y="623"/>
                </a:lnTo>
                <a:lnTo>
                  <a:pt x="7732" y="0"/>
                </a:lnTo>
                <a:lnTo>
                  <a:pt x="7216" y="0"/>
                </a:lnTo>
                <a:lnTo>
                  <a:pt x="7216" y="623"/>
                </a:lnTo>
                <a:lnTo>
                  <a:pt x="6872" y="623"/>
                </a:lnTo>
                <a:lnTo>
                  <a:pt x="6872" y="0"/>
                </a:lnTo>
                <a:lnTo>
                  <a:pt x="6355" y="0"/>
                </a:lnTo>
                <a:lnTo>
                  <a:pt x="6355" y="623"/>
                </a:lnTo>
                <a:lnTo>
                  <a:pt x="4296" y="623"/>
                </a:lnTo>
                <a:lnTo>
                  <a:pt x="4296" y="0"/>
                </a:lnTo>
                <a:lnTo>
                  <a:pt x="3780" y="0"/>
                </a:lnTo>
                <a:lnTo>
                  <a:pt x="3780" y="623"/>
                </a:lnTo>
                <a:lnTo>
                  <a:pt x="3436" y="623"/>
                </a:lnTo>
                <a:lnTo>
                  <a:pt x="3436" y="0"/>
                </a:lnTo>
                <a:lnTo>
                  <a:pt x="2924" y="0"/>
                </a:lnTo>
                <a:lnTo>
                  <a:pt x="2924" y="623"/>
                </a:lnTo>
                <a:lnTo>
                  <a:pt x="2576" y="623"/>
                </a:lnTo>
                <a:lnTo>
                  <a:pt x="2576" y="0"/>
                </a:lnTo>
                <a:lnTo>
                  <a:pt x="2059" y="0"/>
                </a:lnTo>
                <a:lnTo>
                  <a:pt x="2059" y="623"/>
                </a:lnTo>
                <a:lnTo>
                  <a:pt x="0" y="623"/>
                </a:ln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984240" y="4092480"/>
            <a:ext cx="3092760" cy="551160"/>
          </a:xfrm>
          <a:custGeom>
            <a:avLst/>
            <a:gdLst/>
            <a:ahLst/>
            <a:rect l="0" t="0" r="r" b="b"/>
            <a:pathLst>
              <a:path fill="none" w="8591" h="1531">
                <a:moveTo>
                  <a:pt x="8591" y="1531"/>
                </a:moveTo>
                <a:lnTo>
                  <a:pt x="8591" y="0"/>
                </a:lnTo>
                <a:lnTo>
                  <a:pt x="7731" y="1531"/>
                </a:lnTo>
                <a:lnTo>
                  <a:pt x="7731" y="0"/>
                </a:lnTo>
                <a:lnTo>
                  <a:pt x="6871" y="1531"/>
                </a:lnTo>
                <a:lnTo>
                  <a:pt x="6871" y="0"/>
                </a:lnTo>
                <a:lnTo>
                  <a:pt x="6011" y="1531"/>
                </a:lnTo>
                <a:lnTo>
                  <a:pt x="6011" y="0"/>
                </a:lnTo>
                <a:lnTo>
                  <a:pt x="5155" y="1531"/>
                </a:lnTo>
                <a:lnTo>
                  <a:pt x="5155" y="0"/>
                </a:lnTo>
                <a:lnTo>
                  <a:pt x="4296" y="1531"/>
                </a:lnTo>
                <a:lnTo>
                  <a:pt x="4296" y="0"/>
                </a:lnTo>
                <a:lnTo>
                  <a:pt x="3435" y="1531"/>
                </a:lnTo>
                <a:lnTo>
                  <a:pt x="3435" y="0"/>
                </a:lnTo>
                <a:lnTo>
                  <a:pt x="2575" y="1531"/>
                </a:lnTo>
                <a:lnTo>
                  <a:pt x="2575" y="0"/>
                </a:lnTo>
                <a:lnTo>
                  <a:pt x="1719" y="1531"/>
                </a:lnTo>
                <a:lnTo>
                  <a:pt x="1719" y="0"/>
                </a:lnTo>
                <a:lnTo>
                  <a:pt x="859" y="1531"/>
                </a:lnTo>
                <a:lnTo>
                  <a:pt x="859" y="0"/>
                </a:lnTo>
                <a:lnTo>
                  <a:pt x="0" y="153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 txBox="1"/>
          <p:nvPr/>
        </p:nvSpPr>
        <p:spPr>
          <a:xfrm>
            <a:off x="746280" y="1800360"/>
            <a:ext cx="34974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rst Mod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: Burst Sequence by comb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WM channel  0 and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 txBox="1"/>
          <p:nvPr/>
        </p:nvSpPr>
        <p:spPr>
          <a:xfrm>
            <a:off x="4861080" y="1800360"/>
            <a:ext cx="37530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ngle Sho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: Only one PWM Pulse is gene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d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vailable for channel 2 an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 txBox="1"/>
          <p:nvPr/>
        </p:nvSpPr>
        <p:spPr>
          <a:xfrm>
            <a:off x="2457360" y="2314440"/>
            <a:ext cx="1057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o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 txBox="1"/>
          <p:nvPr/>
        </p:nvSpPr>
        <p:spPr>
          <a:xfrm>
            <a:off x="6297480" y="2324160"/>
            <a:ext cx="1057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o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 txBox="1"/>
          <p:nvPr/>
        </p:nvSpPr>
        <p:spPr>
          <a:xfrm>
            <a:off x="852480" y="2670120"/>
            <a:ext cx="15476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od of Timer PT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 txBox="1"/>
          <p:nvPr/>
        </p:nvSpPr>
        <p:spPr>
          <a:xfrm>
            <a:off x="5130720" y="2711520"/>
            <a:ext cx="10555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mer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 txBox="1"/>
          <p:nvPr/>
        </p:nvSpPr>
        <p:spPr>
          <a:xfrm>
            <a:off x="1554120" y="3048120"/>
            <a:ext cx="9637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63de8"/>
                </a:solidFill>
                <a:latin typeface="Arial"/>
                <a:ea typeface="Arial"/>
              </a:rPr>
              <a:t>Pulse width</a:t>
            </a:r>
            <a:br>
              <a:rPr sz="1200"/>
            </a:br>
            <a:r>
              <a:rPr b="0" lang="en-US" sz="1200" spc="-1" strike="noStrike">
                <a:solidFill>
                  <a:srgbClr val="063de8"/>
                </a:solidFill>
                <a:latin typeface="Arial"/>
                <a:ea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 txBox="1"/>
          <p:nvPr/>
        </p:nvSpPr>
        <p:spPr>
          <a:xfrm>
            <a:off x="5506920" y="3178080"/>
            <a:ext cx="6253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63de8"/>
                </a:solidFill>
                <a:latin typeface="Arial"/>
                <a:ea typeface="Arial"/>
              </a:rPr>
              <a:t>Period</a:t>
            </a:r>
            <a:br>
              <a:rPr sz="1200"/>
            </a:br>
            <a:r>
              <a:rPr b="0" lang="en-US" sz="1200" spc="-1" strike="noStrike">
                <a:solidFill>
                  <a:srgbClr val="063de8"/>
                </a:solidFill>
                <a:latin typeface="Arial"/>
                <a:ea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 txBox="1"/>
          <p:nvPr/>
        </p:nvSpPr>
        <p:spPr>
          <a:xfrm>
            <a:off x="133200" y="3454560"/>
            <a:ext cx="11588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  <a:ea typeface="Arial"/>
              </a:rPr>
              <a:t>Internal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  <a:ea typeface="Arial"/>
              </a:rPr>
              <a:t>of Channel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 txBox="1"/>
          <p:nvPr/>
        </p:nvSpPr>
        <p:spPr>
          <a:xfrm>
            <a:off x="182520" y="4184640"/>
            <a:ext cx="8953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o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mer P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 txBox="1"/>
          <p:nvPr/>
        </p:nvSpPr>
        <p:spPr>
          <a:xfrm>
            <a:off x="152280" y="4734000"/>
            <a:ext cx="10476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.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Channel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 txBox="1"/>
          <p:nvPr/>
        </p:nvSpPr>
        <p:spPr>
          <a:xfrm>
            <a:off x="712800" y="5068800"/>
            <a:ext cx="4011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  <a:ea typeface="Arial"/>
              </a:rPr>
              <a:t>Output Result: Channel 1 is modulated by Channel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 txBox="1"/>
          <p:nvPr/>
        </p:nvSpPr>
        <p:spPr>
          <a:xfrm>
            <a:off x="4726080" y="4002120"/>
            <a:ext cx="6843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  <a:ea typeface="Arial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  <a:ea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 txBox="1"/>
          <p:nvPr/>
        </p:nvSpPr>
        <p:spPr>
          <a:xfrm>
            <a:off x="5896080" y="3462480"/>
            <a:ext cx="9255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r 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utomatic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op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6359400" y="39466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6370560" y="329724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 txBox="1"/>
          <p:nvPr/>
        </p:nvSpPr>
        <p:spPr>
          <a:xfrm>
            <a:off x="7215120" y="3462480"/>
            <a:ext cx="103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r 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leased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ftware ag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7738920" y="39466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7750080" y="297972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 txBox="1"/>
          <p:nvPr/>
        </p:nvSpPr>
        <p:spPr>
          <a:xfrm>
            <a:off x="5176800" y="4676760"/>
            <a:ext cx="33354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Timer can be dynamically chang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ngthen (retrigger) or shorten the output 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6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727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0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731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3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10-Bit ADC based on the successive approximation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7µs conversio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-chip sample- &amp; hold-circuit (1.6 us sample-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 Multiplexed input channels on 80C166 and 16 inputs on C1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Flexible operatio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gle-channel and single-channel-continuous for periodic data acqui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o-scan and auto-scan-continuous for permanent data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-injection mode with own result-register can be used to interrupt the scan modes (on C1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Easy error handling and channel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-bit result and channel number in result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run error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 txBox="1"/>
          <p:nvPr/>
        </p:nvSpPr>
        <p:spPr>
          <a:xfrm>
            <a:off x="1676520" y="1015920"/>
            <a:ext cx="7238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nalog Digital Converter (AD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0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761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4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765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7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1" name="" descr=""/>
          <p:cNvPicPr/>
          <p:nvPr/>
        </p:nvPicPr>
        <p:blipFill>
          <a:blip r:embed="rId1"/>
          <a:stretch/>
        </p:blipFill>
        <p:spPr>
          <a:xfrm>
            <a:off x="1144440" y="1638360"/>
            <a:ext cx="6827760" cy="4272120"/>
          </a:xfrm>
          <a:prstGeom prst="rect">
            <a:avLst/>
          </a:prstGeom>
          <a:ln w="0">
            <a:noFill/>
          </a:ln>
        </p:spPr>
      </p:pic>
      <p:sp>
        <p:nvSpPr>
          <p:cNvPr id="2792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 txBox="1"/>
          <p:nvPr/>
        </p:nvSpPr>
        <p:spPr>
          <a:xfrm>
            <a:off x="1665360" y="958680"/>
            <a:ext cx="7238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0-Bit A/D Converter Block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 txBox="1"/>
          <p:nvPr/>
        </p:nvSpPr>
        <p:spPr>
          <a:xfrm>
            <a:off x="2187720" y="1687680"/>
            <a:ext cx="2004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Channel and Mo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 txBox="1"/>
          <p:nvPr/>
        </p:nvSpPr>
        <p:spPr>
          <a:xfrm>
            <a:off x="5097600" y="1679400"/>
            <a:ext cx="14889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Conversion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 txBox="1"/>
          <p:nvPr/>
        </p:nvSpPr>
        <p:spPr>
          <a:xfrm>
            <a:off x="4975200" y="2378160"/>
            <a:ext cx="13399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Timing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and Succes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Approx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 txBox="1"/>
          <p:nvPr/>
        </p:nvSpPr>
        <p:spPr>
          <a:xfrm>
            <a:off x="3611520" y="251604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Com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pa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 txBox="1"/>
          <p:nvPr/>
        </p:nvSpPr>
        <p:spPr>
          <a:xfrm>
            <a:off x="3092400" y="3379680"/>
            <a:ext cx="582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C-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 txBox="1"/>
          <p:nvPr/>
        </p:nvSpPr>
        <p:spPr>
          <a:xfrm>
            <a:off x="3643200" y="3524400"/>
            <a:ext cx="6332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 txBox="1"/>
          <p:nvPr/>
        </p:nvSpPr>
        <p:spPr>
          <a:xfrm>
            <a:off x="1911240" y="3365640"/>
            <a:ext cx="7524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10(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An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M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 txBox="1"/>
          <p:nvPr/>
        </p:nvSpPr>
        <p:spPr>
          <a:xfrm>
            <a:off x="990720" y="2822400"/>
            <a:ext cx="579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In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 txBox="1"/>
          <p:nvPr/>
        </p:nvSpPr>
        <p:spPr>
          <a:xfrm>
            <a:off x="920880" y="4514760"/>
            <a:ext cx="770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Vol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 txBox="1"/>
          <p:nvPr/>
        </p:nvSpPr>
        <p:spPr>
          <a:xfrm>
            <a:off x="7054920" y="2381400"/>
            <a:ext cx="4809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IN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Fl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 txBox="1"/>
          <p:nvPr/>
        </p:nvSpPr>
        <p:spPr>
          <a:xfrm>
            <a:off x="7053120" y="2746440"/>
            <a:ext cx="4809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IN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Fl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 txBox="1"/>
          <p:nvPr/>
        </p:nvSpPr>
        <p:spPr>
          <a:xfrm>
            <a:off x="7012080" y="3540240"/>
            <a:ext cx="750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  <a:ea typeface="Arial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 txBox="1"/>
          <p:nvPr/>
        </p:nvSpPr>
        <p:spPr>
          <a:xfrm>
            <a:off x="5857920" y="3989520"/>
            <a:ext cx="819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Cha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 txBox="1"/>
          <p:nvPr/>
        </p:nvSpPr>
        <p:spPr>
          <a:xfrm>
            <a:off x="5951520" y="5513400"/>
            <a:ext cx="7063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l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 txBox="1"/>
          <p:nvPr/>
        </p:nvSpPr>
        <p:spPr>
          <a:xfrm>
            <a:off x="6943680" y="4782960"/>
            <a:ext cx="841320" cy="9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Cha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j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 txBox="1"/>
          <p:nvPr/>
        </p:nvSpPr>
        <p:spPr>
          <a:xfrm>
            <a:off x="5781600" y="4502160"/>
            <a:ext cx="1928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mplemented in the C167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0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811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4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815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7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US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 txBox="1"/>
          <p:nvPr/>
        </p:nvSpPr>
        <p:spPr>
          <a:xfrm>
            <a:off x="304920" y="166068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Synchronous / asynchronous serial channel with its own baud-rate-generator (two implemented in 80C166, one in C167 / C1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Asynchronous mode with max 625(780)KBaud transfer 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ll duplex operation (receive and transmit data at the same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grammable fe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or 2 stop bits, 7, 8 or 9 data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 of parity- or wake-up bit at data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dd or even parity (on C1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ror detection (parity, overrun, fram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ke-up check (receive interrupt flag is set if wake-up bit is tr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Synchronous mode with max 2. 5(3.1)Mbit/sec transfer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lf duplex operation (only transmit or receive 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y I/O expansion with external shift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run error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 txBox="1"/>
          <p:nvPr/>
        </p:nvSpPr>
        <p:spPr>
          <a:xfrm>
            <a:off x="1676520" y="939960"/>
            <a:ext cx="7238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synchronou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nchronous Serial Chan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4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845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8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849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1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US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 txBox="1"/>
          <p:nvPr/>
        </p:nvSpPr>
        <p:spPr>
          <a:xfrm>
            <a:off x="1676520" y="787320"/>
            <a:ext cx="7238880" cy="8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synchronou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nchronous Serial Channel Block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7" name="" descr=""/>
          <p:cNvPicPr/>
          <p:nvPr/>
        </p:nvPicPr>
        <p:blipFill>
          <a:blip r:embed="rId1"/>
          <a:stretch/>
        </p:blipFill>
        <p:spPr>
          <a:xfrm>
            <a:off x="479520" y="1920960"/>
            <a:ext cx="7248600" cy="3451320"/>
          </a:xfrm>
          <a:prstGeom prst="rect">
            <a:avLst/>
          </a:prstGeom>
          <a:ln w="0">
            <a:noFill/>
          </a:ln>
        </p:spPr>
      </p:pic>
      <p:sp>
        <p:nvSpPr>
          <p:cNvPr id="2878" name=""/>
          <p:cNvSpPr txBox="1"/>
          <p:nvPr/>
        </p:nvSpPr>
        <p:spPr>
          <a:xfrm>
            <a:off x="4937040" y="5468760"/>
            <a:ext cx="11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internal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 txBox="1"/>
          <p:nvPr/>
        </p:nvSpPr>
        <p:spPr>
          <a:xfrm>
            <a:off x="474840" y="1943280"/>
            <a:ext cx="9540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PU 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 txBox="1"/>
          <p:nvPr/>
        </p:nvSpPr>
        <p:spPr>
          <a:xfrm>
            <a:off x="2044800" y="1933560"/>
            <a:ext cx="18748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ud Rate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 txBox="1"/>
          <p:nvPr/>
        </p:nvSpPr>
        <p:spPr>
          <a:xfrm>
            <a:off x="1008000" y="287028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63de8"/>
                </a:solidFill>
                <a:latin typeface="Arial"/>
                <a:ea typeface="Arial"/>
              </a:rPr>
              <a:t>INTR Fl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63de8"/>
                </a:solidFill>
                <a:latin typeface="Arial"/>
                <a:ea typeface="Arial"/>
              </a:rPr>
              <a:t>Transm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 txBox="1"/>
          <p:nvPr/>
        </p:nvSpPr>
        <p:spPr>
          <a:xfrm>
            <a:off x="1008000" y="328608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INTR Fl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1008000" y="370188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R Fl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rr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2593800" y="3216240"/>
            <a:ext cx="757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4554360" y="2973240"/>
            <a:ext cx="18637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300" spc="-1" strike="noStrike">
                <a:solidFill>
                  <a:srgbClr val="063de8"/>
                </a:solidFill>
                <a:latin typeface="Arial"/>
                <a:ea typeface="Arial"/>
              </a:rPr>
              <a:t>Transmit Shift Regis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 txBox="1"/>
          <p:nvPr/>
        </p:nvSpPr>
        <p:spPr>
          <a:xfrm>
            <a:off x="4579920" y="3662280"/>
            <a:ext cx="181764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300" spc="-1" strike="noStrike">
                <a:solidFill>
                  <a:srgbClr val="fc0128"/>
                </a:solidFill>
                <a:latin typeface="Arial"/>
                <a:ea typeface="Arial"/>
              </a:rPr>
              <a:t>Receive Shift Regis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 txBox="1"/>
          <p:nvPr/>
        </p:nvSpPr>
        <p:spPr>
          <a:xfrm>
            <a:off x="4857840" y="4530600"/>
            <a:ext cx="13510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Arial"/>
                <a:ea typeface="Arial"/>
              </a:rPr>
              <a:t>Receive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 txBox="1"/>
          <p:nvPr/>
        </p:nvSpPr>
        <p:spPr>
          <a:xfrm>
            <a:off x="7043760" y="2630520"/>
            <a:ext cx="7714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300" spc="-1" strike="noStrike">
                <a:solidFill>
                  <a:srgbClr val="063de8"/>
                </a:solidFill>
                <a:latin typeface="Arial"/>
                <a:ea typeface="Arial"/>
              </a:rPr>
              <a:t>Port P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7035840" y="3699000"/>
            <a:ext cx="7714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300" spc="-1" strike="noStrike">
                <a:solidFill>
                  <a:srgbClr val="fc0128"/>
                </a:solidFill>
                <a:latin typeface="Arial"/>
                <a:ea typeface="Arial"/>
              </a:rPr>
              <a:t>Port P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2381400" y="4702320"/>
            <a:ext cx="11826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ol R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4265640" y="3228840"/>
            <a:ext cx="9349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 txBox="1"/>
          <p:nvPr/>
        </p:nvSpPr>
        <p:spPr>
          <a:xfrm>
            <a:off x="5724360" y="2241720"/>
            <a:ext cx="11923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ynchronou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nchro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 txBox="1"/>
          <p:nvPr/>
        </p:nvSpPr>
        <p:spPr>
          <a:xfrm>
            <a:off x="4861080" y="1928880"/>
            <a:ext cx="1336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m internal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4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895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8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899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1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S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Full duplex Synchronous Serial Channel (SSC) with its own baudrate generator for high speed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Up to 5</a:t>
            </a:r>
            <a:r>
              <a:rPr b="1" lang="en-US" sz="2000" spc="-1" strike="noStrike">
                <a:solidFill>
                  <a:srgbClr val="081d58"/>
                </a:solidFill>
                <a:latin typeface="Arial Narrow"/>
                <a:ea typeface="Arial Narrow"/>
              </a:rPr>
              <a:t>(6.25)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Mbit/sec transfer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SPI compa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Master (clock is output) or slave mode (clock is in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Programmable features to satisfy various communication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SB or LSB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frame from one to 16-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ck polarity and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 txBox="1"/>
          <p:nvPr/>
        </p:nvSpPr>
        <p:spPr>
          <a:xfrm>
            <a:off x="1676520" y="1015920"/>
            <a:ext cx="7238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nchronous Serial Channel (SS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8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929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2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933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5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S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 txBox="1"/>
          <p:nvPr/>
        </p:nvSpPr>
        <p:spPr>
          <a:xfrm>
            <a:off x="1676520" y="863640"/>
            <a:ext cx="7238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nchronous Serial Channel (SS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1" name="" descr=""/>
          <p:cNvPicPr/>
          <p:nvPr/>
        </p:nvPicPr>
        <p:blipFill>
          <a:blip r:embed="rId1"/>
          <a:stretch/>
        </p:blipFill>
        <p:spPr>
          <a:xfrm>
            <a:off x="1922400" y="1627200"/>
            <a:ext cx="6264360" cy="3844800"/>
          </a:xfrm>
          <a:prstGeom prst="rect">
            <a:avLst/>
          </a:prstGeom>
          <a:ln w="0">
            <a:noFill/>
          </a:ln>
        </p:spPr>
      </p:pic>
      <p:sp>
        <p:nvSpPr>
          <p:cNvPr id="2962" name=""/>
          <p:cNvSpPr txBox="1"/>
          <p:nvPr/>
        </p:nvSpPr>
        <p:spPr>
          <a:xfrm>
            <a:off x="2454120" y="1676520"/>
            <a:ext cx="1023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ud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 txBox="1"/>
          <p:nvPr/>
        </p:nvSpPr>
        <p:spPr>
          <a:xfrm>
            <a:off x="3905280" y="1676520"/>
            <a:ext cx="757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 txBox="1"/>
          <p:nvPr/>
        </p:nvSpPr>
        <p:spPr>
          <a:xfrm>
            <a:off x="2487600" y="3406680"/>
            <a:ext cx="11224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ol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 txBox="1"/>
          <p:nvPr/>
        </p:nvSpPr>
        <p:spPr>
          <a:xfrm>
            <a:off x="4762440" y="3009960"/>
            <a:ext cx="2486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mable from 1 - 16-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 txBox="1"/>
          <p:nvPr/>
        </p:nvSpPr>
        <p:spPr>
          <a:xfrm>
            <a:off x="4856040" y="3749760"/>
            <a:ext cx="22986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SB- / LSB-First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 txBox="1"/>
          <p:nvPr/>
        </p:nvSpPr>
        <p:spPr>
          <a:xfrm>
            <a:off x="5307120" y="4405320"/>
            <a:ext cx="13510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 txBox="1"/>
          <p:nvPr/>
        </p:nvSpPr>
        <p:spPr>
          <a:xfrm>
            <a:off x="5297400" y="4756320"/>
            <a:ext cx="14000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mit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 txBox="1"/>
          <p:nvPr/>
        </p:nvSpPr>
        <p:spPr>
          <a:xfrm>
            <a:off x="5416560" y="5478480"/>
            <a:ext cx="11336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al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 txBox="1"/>
          <p:nvPr/>
        </p:nvSpPr>
        <p:spPr>
          <a:xfrm>
            <a:off x="1268280" y="3581280"/>
            <a:ext cx="8460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ru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 txBox="1"/>
          <p:nvPr/>
        </p:nvSpPr>
        <p:spPr>
          <a:xfrm>
            <a:off x="6578640" y="2314440"/>
            <a:ext cx="21016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ster / Slav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 txBox="1"/>
          <p:nvPr/>
        </p:nvSpPr>
        <p:spPr>
          <a:xfrm>
            <a:off x="6281640" y="1951200"/>
            <a:ext cx="1122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ave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 txBox="1"/>
          <p:nvPr/>
        </p:nvSpPr>
        <p:spPr>
          <a:xfrm>
            <a:off x="5788080" y="1654200"/>
            <a:ext cx="12222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ster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 txBox="1"/>
          <p:nvPr/>
        </p:nvSpPr>
        <p:spPr>
          <a:xfrm>
            <a:off x="7659720" y="1636560"/>
            <a:ext cx="793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SC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 txBox="1"/>
          <p:nvPr/>
        </p:nvSpPr>
        <p:spPr>
          <a:xfrm>
            <a:off x="7745400" y="2575080"/>
            <a:ext cx="7254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SC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 txBox="1"/>
          <p:nvPr/>
        </p:nvSpPr>
        <p:spPr>
          <a:xfrm>
            <a:off x="7790040" y="29480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SC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 txBox="1"/>
          <p:nvPr/>
        </p:nvSpPr>
        <p:spPr>
          <a:xfrm>
            <a:off x="1486080" y="1689120"/>
            <a:ext cx="5652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8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2979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2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2983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00dfc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5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Four Bu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67040" y="2819520"/>
            <a:ext cx="1338120" cy="94284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66920" y="2666880"/>
            <a:ext cx="484200" cy="12193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165480" y="2981160"/>
            <a:ext cx="4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 i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67040" y="2297160"/>
            <a:ext cx="1446120" cy="361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09880" y="23479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6 - b i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19480" y="2522520"/>
            <a:ext cx="7239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74920" y="2522520"/>
            <a:ext cx="7239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19480" y="3065400"/>
            <a:ext cx="7239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74920" y="3065400"/>
            <a:ext cx="7239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319480" y="3610080"/>
            <a:ext cx="7239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74920" y="3610080"/>
            <a:ext cx="7239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347920" y="2487600"/>
            <a:ext cx="679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325600" y="3041640"/>
            <a:ext cx="689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2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98680" y="2492280"/>
            <a:ext cx="67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2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92200" y="3041640"/>
            <a:ext cx="681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28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09880" y="3027240"/>
            <a:ext cx="1295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167 / C1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408480" y="5384880"/>
            <a:ext cx="2081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ic Library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01960" y="1503360"/>
            <a:ext cx="1459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 Bus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2600" y="2583000"/>
            <a:ext cx="72216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62600" y="3125880"/>
            <a:ext cx="72216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862600" y="3670200"/>
            <a:ext cx="72216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877000" y="2573280"/>
            <a:ext cx="701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886360" y="3127320"/>
            <a:ext cx="701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657760" y="36511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43480" y="4349880"/>
            <a:ext cx="7239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92800" y="4349880"/>
            <a:ext cx="72540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649680" y="4349880"/>
            <a:ext cx="7239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8800" y="4832280"/>
            <a:ext cx="7239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92800" y="4832280"/>
            <a:ext cx="72540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49680" y="4832280"/>
            <a:ext cx="7239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538440" y="4394160"/>
            <a:ext cx="932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383000" y="4405320"/>
            <a:ext cx="932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361120" y="4400640"/>
            <a:ext cx="701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497480" y="4881600"/>
            <a:ext cx="701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145120" y="48070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664080" y="4888080"/>
            <a:ext cx="701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11600" y="4349880"/>
            <a:ext cx="7239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819520" y="4416480"/>
            <a:ext cx="7113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11600" y="4832280"/>
            <a:ext cx="7239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743200" y="4896000"/>
            <a:ext cx="8589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30760" y="1787400"/>
            <a:ext cx="7239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55960" y="1833480"/>
            <a:ext cx="681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84400" y="1787400"/>
            <a:ext cx="72540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000240" y="1828800"/>
            <a:ext cx="682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86400" y="1787400"/>
            <a:ext cx="7239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430960" y="1746360"/>
            <a:ext cx="843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59480" y="1787400"/>
            <a:ext cx="7239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721400" y="1832040"/>
            <a:ext cx="608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20960" y="3892680"/>
            <a:ext cx="1446120" cy="361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763800" y="394344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6 - b i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54560" y="2666880"/>
            <a:ext cx="484200" cy="12193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181480" y="29811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*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 i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11200" y="3575160"/>
            <a:ext cx="843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76640" y="3570120"/>
            <a:ext cx="843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52280" y="863640"/>
            <a:ext cx="8839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Four Bus Modula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The Port lines provide the connection to the external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6 Port lines on the SAB 80C1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1 Port lines on the C1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6 Port lines on the C1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All Port lines are individually addressable and all I/0 lines are independently programmable for input or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Each Port line is dedicated to one or more peripher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Each Port is protected with fast di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Programmable open drain buffers (P2, 3, 6, 7, 8 on the C1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 txBox="1"/>
          <p:nvPr/>
        </p:nvSpPr>
        <p:spPr>
          <a:xfrm>
            <a:off x="1676520" y="1015920"/>
            <a:ext cx="7238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verview Por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2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3013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6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3017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9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 txBox="1"/>
          <p:nvPr/>
        </p:nvSpPr>
        <p:spPr>
          <a:xfrm>
            <a:off x="1676520" y="1015920"/>
            <a:ext cx="7238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verview Por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5" name="" descr=""/>
          <p:cNvPicPr/>
          <p:nvPr/>
        </p:nvPicPr>
        <p:blipFill>
          <a:blip r:embed="rId1"/>
          <a:stretch/>
        </p:blipFill>
        <p:spPr>
          <a:xfrm>
            <a:off x="800280" y="1828800"/>
            <a:ext cx="7527960" cy="3722760"/>
          </a:xfrm>
          <a:prstGeom prst="rect">
            <a:avLst/>
          </a:prstGeom>
          <a:ln w="0">
            <a:noFill/>
          </a:ln>
        </p:spPr>
      </p:pic>
      <p:sp>
        <p:nvSpPr>
          <p:cNvPr id="3046" name=""/>
          <p:cNvSpPr txBox="1"/>
          <p:nvPr/>
        </p:nvSpPr>
        <p:spPr>
          <a:xfrm>
            <a:off x="5737320" y="1822320"/>
            <a:ext cx="1351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n D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ol (C1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 txBox="1"/>
          <p:nvPr/>
        </p:nvSpPr>
        <p:spPr>
          <a:xfrm>
            <a:off x="5089680" y="2336760"/>
            <a:ext cx="8859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 txBox="1"/>
          <p:nvPr/>
        </p:nvSpPr>
        <p:spPr>
          <a:xfrm>
            <a:off x="5307120" y="3319560"/>
            <a:ext cx="658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 txBox="1"/>
          <p:nvPr/>
        </p:nvSpPr>
        <p:spPr>
          <a:xfrm>
            <a:off x="7139160" y="2119320"/>
            <a:ext cx="5587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 txBox="1"/>
          <p:nvPr/>
        </p:nvSpPr>
        <p:spPr>
          <a:xfrm>
            <a:off x="7165800" y="4746600"/>
            <a:ext cx="4809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 txBox="1"/>
          <p:nvPr/>
        </p:nvSpPr>
        <p:spPr>
          <a:xfrm>
            <a:off x="5392800" y="4575240"/>
            <a:ext cx="619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 txBox="1"/>
          <p:nvPr/>
        </p:nvSpPr>
        <p:spPr>
          <a:xfrm>
            <a:off x="3668760" y="4543560"/>
            <a:ext cx="520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 txBox="1"/>
          <p:nvPr/>
        </p:nvSpPr>
        <p:spPr>
          <a:xfrm>
            <a:off x="3973680" y="3214800"/>
            <a:ext cx="7174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 txBox="1"/>
          <p:nvPr/>
        </p:nvSpPr>
        <p:spPr>
          <a:xfrm>
            <a:off x="2803680" y="3306600"/>
            <a:ext cx="520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 txBox="1"/>
          <p:nvPr/>
        </p:nvSpPr>
        <p:spPr>
          <a:xfrm>
            <a:off x="1484280" y="2462040"/>
            <a:ext cx="8953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ter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 txBox="1"/>
          <p:nvPr/>
        </p:nvSpPr>
        <p:spPr>
          <a:xfrm>
            <a:off x="2637000" y="2416320"/>
            <a:ext cx="8953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ter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 txBox="1"/>
          <p:nvPr/>
        </p:nvSpPr>
        <p:spPr>
          <a:xfrm>
            <a:off x="2448000" y="4530600"/>
            <a:ext cx="658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 txBox="1"/>
          <p:nvPr/>
        </p:nvSpPr>
        <p:spPr>
          <a:xfrm>
            <a:off x="2357280" y="3970440"/>
            <a:ext cx="609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 txBox="1"/>
          <p:nvPr/>
        </p:nvSpPr>
        <p:spPr>
          <a:xfrm>
            <a:off x="3419640" y="3992400"/>
            <a:ext cx="8859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 txBox="1"/>
          <p:nvPr/>
        </p:nvSpPr>
        <p:spPr>
          <a:xfrm>
            <a:off x="3976560" y="2735280"/>
            <a:ext cx="5983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 txBox="1"/>
          <p:nvPr/>
        </p:nvSpPr>
        <p:spPr>
          <a:xfrm>
            <a:off x="5400720" y="5353200"/>
            <a:ext cx="628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 txBox="1"/>
          <p:nvPr/>
        </p:nvSpPr>
        <p:spPr>
          <a:xfrm>
            <a:off x="2895480" y="5388120"/>
            <a:ext cx="13399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ternate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 txBox="1"/>
          <p:nvPr/>
        </p:nvSpPr>
        <p:spPr>
          <a:xfrm>
            <a:off x="7707240" y="3043080"/>
            <a:ext cx="816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 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 txBox="1"/>
          <p:nvPr/>
        </p:nvSpPr>
        <p:spPr>
          <a:xfrm>
            <a:off x="644400" y="3924360"/>
            <a:ext cx="11336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al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5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3066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9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3070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2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Watch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16-Bit timer overflow results 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ftware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lls RSTOUT Pin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ts identification bit and leaves WDT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Programmable input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High Byte reload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Timer period from 25.6µs to 470ms (20MHz CPU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Can be reloaded with a special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 txBox="1"/>
          <p:nvPr/>
        </p:nvSpPr>
        <p:spPr>
          <a:xfrm>
            <a:off x="1676520" y="1015920"/>
            <a:ext cx="7238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atchdog Timer (WD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9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3100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3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3104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6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"/>
          <p:cNvSpPr/>
          <p:nvPr/>
        </p:nvSpPr>
        <p:spPr>
          <a:xfrm>
            <a:off x="3214800" y="3946680"/>
            <a:ext cx="0" cy="102384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2276640" y="3946680"/>
            <a:ext cx="0" cy="102384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 txBox="1"/>
          <p:nvPr/>
        </p:nvSpPr>
        <p:spPr>
          <a:xfrm>
            <a:off x="1668600" y="61023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Watch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 txBox="1"/>
          <p:nvPr/>
        </p:nvSpPr>
        <p:spPr>
          <a:xfrm>
            <a:off x="1676520" y="1015920"/>
            <a:ext cx="7238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atchdog Timer Block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4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3135" name=""/>
            <p:cNvSpPr/>
            <p:nvPr/>
          </p:nvSpPr>
          <p:spPr>
            <a:xfrm>
              <a:off x="236520" y="639720"/>
              <a:ext cx="257400" cy="271800"/>
            </a:xfrm>
            <a:custGeom>
              <a:avLst/>
              <a:gdLst/>
              <a:ahLst/>
              <a:rect l="0" t="0" r="r" b="b"/>
              <a:pathLst>
                <a:path w="715" h="755">
                  <a:moveTo>
                    <a:pt x="0" y="755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755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8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3139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1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fill="none"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36520" y="7905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5" name=""/>
          <p:cNvSpPr/>
          <p:nvPr/>
        </p:nvSpPr>
        <p:spPr>
          <a:xfrm>
            <a:off x="496800" y="3232080"/>
            <a:ext cx="937080" cy="578160"/>
          </a:xfrm>
          <a:custGeom>
            <a:avLst/>
            <a:gdLst/>
            <a:ahLst/>
            <a:rect l="0" t="0" r="r" b="b"/>
            <a:pathLst>
              <a:path w="2603" h="1606">
                <a:moveTo>
                  <a:pt x="0" y="1606"/>
                </a:moveTo>
                <a:lnTo>
                  <a:pt x="2603" y="1606"/>
                </a:lnTo>
                <a:lnTo>
                  <a:pt x="2603" y="0"/>
                </a:lnTo>
                <a:lnTo>
                  <a:pt x="0" y="0"/>
                </a:lnTo>
                <a:lnTo>
                  <a:pt x="0" y="16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609480" y="3505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496800" y="4049640"/>
            <a:ext cx="937080" cy="613080"/>
          </a:xfrm>
          <a:custGeom>
            <a:avLst/>
            <a:gdLst/>
            <a:ahLst/>
            <a:rect l="0" t="0" r="r" b="b"/>
            <a:pathLst>
              <a:path w="2603" h="1703">
                <a:moveTo>
                  <a:pt x="0" y="1703"/>
                </a:moveTo>
                <a:lnTo>
                  <a:pt x="2603" y="1703"/>
                </a:lnTo>
                <a:lnTo>
                  <a:pt x="2603" y="0"/>
                </a:lnTo>
                <a:lnTo>
                  <a:pt x="0" y="0"/>
                </a:lnTo>
                <a:lnTo>
                  <a:pt x="0" y="170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609480" y="4343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1433520" y="3538440"/>
            <a:ext cx="65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1433520" y="4356000"/>
            <a:ext cx="65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2463840" y="3946680"/>
            <a:ext cx="56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2089080" y="404964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2089080" y="353844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2066760" y="3822840"/>
            <a:ext cx="405000" cy="132120"/>
          </a:xfrm>
          <a:custGeom>
            <a:avLst/>
            <a:gdLst/>
            <a:ahLst/>
            <a:rect l="0" t="0" r="r" b="b"/>
            <a:pathLst>
              <a:path w="1125" h="367">
                <a:moveTo>
                  <a:pt x="76" y="0"/>
                </a:moveTo>
                <a:lnTo>
                  <a:pt x="59" y="0"/>
                </a:lnTo>
                <a:lnTo>
                  <a:pt x="46" y="0"/>
                </a:lnTo>
                <a:lnTo>
                  <a:pt x="29" y="3"/>
                </a:lnTo>
                <a:lnTo>
                  <a:pt x="16" y="15"/>
                </a:lnTo>
                <a:lnTo>
                  <a:pt x="4" y="27"/>
                </a:lnTo>
                <a:lnTo>
                  <a:pt x="0" y="39"/>
                </a:lnTo>
                <a:lnTo>
                  <a:pt x="0" y="55"/>
                </a:lnTo>
                <a:lnTo>
                  <a:pt x="0" y="70"/>
                </a:lnTo>
                <a:lnTo>
                  <a:pt x="4" y="82"/>
                </a:lnTo>
                <a:lnTo>
                  <a:pt x="16" y="98"/>
                </a:lnTo>
                <a:lnTo>
                  <a:pt x="25" y="106"/>
                </a:lnTo>
                <a:lnTo>
                  <a:pt x="42" y="110"/>
                </a:lnTo>
                <a:lnTo>
                  <a:pt x="1044" y="363"/>
                </a:lnTo>
                <a:lnTo>
                  <a:pt x="1061" y="367"/>
                </a:lnTo>
                <a:lnTo>
                  <a:pt x="1078" y="363"/>
                </a:lnTo>
                <a:lnTo>
                  <a:pt x="1091" y="359"/>
                </a:lnTo>
                <a:lnTo>
                  <a:pt x="1108" y="351"/>
                </a:lnTo>
                <a:lnTo>
                  <a:pt x="1116" y="339"/>
                </a:lnTo>
                <a:lnTo>
                  <a:pt x="1121" y="323"/>
                </a:lnTo>
                <a:lnTo>
                  <a:pt x="1125" y="307"/>
                </a:lnTo>
                <a:lnTo>
                  <a:pt x="1121" y="296"/>
                </a:lnTo>
                <a:lnTo>
                  <a:pt x="1116" y="280"/>
                </a:lnTo>
                <a:lnTo>
                  <a:pt x="1108" y="268"/>
                </a:lnTo>
                <a:lnTo>
                  <a:pt x="1095" y="256"/>
                </a:lnTo>
                <a:lnTo>
                  <a:pt x="1078" y="252"/>
                </a:lnTo>
                <a:lnTo>
                  <a:pt x="7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3005280" y="3719520"/>
            <a:ext cx="405000" cy="235440"/>
          </a:xfrm>
          <a:custGeom>
            <a:avLst/>
            <a:gdLst/>
            <a:ahLst/>
            <a:rect l="0" t="0" r="r" b="b"/>
            <a:pathLst>
              <a:path w="1125" h="654">
                <a:moveTo>
                  <a:pt x="29" y="538"/>
                </a:moveTo>
                <a:lnTo>
                  <a:pt x="16" y="551"/>
                </a:lnTo>
                <a:lnTo>
                  <a:pt x="8" y="563"/>
                </a:lnTo>
                <a:lnTo>
                  <a:pt x="0" y="576"/>
                </a:lnTo>
                <a:lnTo>
                  <a:pt x="0" y="592"/>
                </a:lnTo>
                <a:lnTo>
                  <a:pt x="0" y="609"/>
                </a:lnTo>
                <a:lnTo>
                  <a:pt x="4" y="621"/>
                </a:lnTo>
                <a:lnTo>
                  <a:pt x="16" y="633"/>
                </a:lnTo>
                <a:lnTo>
                  <a:pt x="25" y="642"/>
                </a:lnTo>
                <a:lnTo>
                  <a:pt x="42" y="650"/>
                </a:lnTo>
                <a:lnTo>
                  <a:pt x="55" y="654"/>
                </a:lnTo>
                <a:lnTo>
                  <a:pt x="72" y="650"/>
                </a:lnTo>
                <a:lnTo>
                  <a:pt x="89" y="646"/>
                </a:lnTo>
                <a:lnTo>
                  <a:pt x="1091" y="111"/>
                </a:lnTo>
                <a:lnTo>
                  <a:pt x="1104" y="99"/>
                </a:lnTo>
                <a:lnTo>
                  <a:pt x="1112" y="90"/>
                </a:lnTo>
                <a:lnTo>
                  <a:pt x="1121" y="74"/>
                </a:lnTo>
                <a:lnTo>
                  <a:pt x="1125" y="61"/>
                </a:lnTo>
                <a:lnTo>
                  <a:pt x="1121" y="45"/>
                </a:lnTo>
                <a:lnTo>
                  <a:pt x="1116" y="28"/>
                </a:lnTo>
                <a:lnTo>
                  <a:pt x="1108" y="16"/>
                </a:lnTo>
                <a:lnTo>
                  <a:pt x="1095" y="8"/>
                </a:lnTo>
                <a:lnTo>
                  <a:pt x="1078" y="0"/>
                </a:lnTo>
                <a:lnTo>
                  <a:pt x="1066" y="0"/>
                </a:lnTo>
                <a:lnTo>
                  <a:pt x="1049" y="0"/>
                </a:lnTo>
                <a:lnTo>
                  <a:pt x="1032" y="4"/>
                </a:lnTo>
                <a:lnTo>
                  <a:pt x="29" y="5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245120" y="3639960"/>
            <a:ext cx="2064240" cy="716400"/>
          </a:xfrm>
          <a:custGeom>
            <a:avLst/>
            <a:gdLst/>
            <a:ahLst/>
            <a:rect l="0" t="0" r="r" b="b"/>
            <a:pathLst>
              <a:path w="5734" h="1990">
                <a:moveTo>
                  <a:pt x="0" y="1990"/>
                </a:moveTo>
                <a:lnTo>
                  <a:pt x="5734" y="1990"/>
                </a:lnTo>
                <a:lnTo>
                  <a:pt x="5734" y="0"/>
                </a:lnTo>
                <a:lnTo>
                  <a:pt x="0" y="0"/>
                </a:lnTo>
                <a:lnTo>
                  <a:pt x="0" y="199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5275440" y="404964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3402000" y="3946680"/>
            <a:ext cx="843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130640" y="3889440"/>
            <a:ext cx="114840" cy="114840"/>
          </a:xfrm>
          <a:custGeom>
            <a:avLst/>
            <a:gdLst/>
            <a:ahLst/>
            <a:rect l="0" t="0" r="r" b="b"/>
            <a:pathLst>
              <a:path w="319" h="319">
                <a:moveTo>
                  <a:pt x="0" y="0"/>
                </a:moveTo>
                <a:lnTo>
                  <a:pt x="319" y="159"/>
                </a:lnTo>
                <a:lnTo>
                  <a:pt x="0" y="31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4695840" y="2392200"/>
            <a:ext cx="22680" cy="1211760"/>
          </a:xfrm>
          <a:custGeom>
            <a:avLst/>
            <a:gdLst/>
            <a:ahLst/>
            <a:rect l="0" t="0" r="r" b="b"/>
            <a:pathLst>
              <a:path w="63" h="3366">
                <a:moveTo>
                  <a:pt x="0" y="0"/>
                </a:moveTo>
                <a:lnTo>
                  <a:pt x="0" y="3366"/>
                </a:lnTo>
                <a:lnTo>
                  <a:pt x="63" y="3366"/>
                </a:lnTo>
                <a:lnTo>
                  <a:pt x="6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4638600" y="3468600"/>
            <a:ext cx="136800" cy="135360"/>
          </a:xfrm>
          <a:custGeom>
            <a:avLst/>
            <a:gdLst/>
            <a:ahLst/>
            <a:rect l="0" t="0" r="r" b="b"/>
            <a:pathLst>
              <a:path w="380" h="376">
                <a:moveTo>
                  <a:pt x="380" y="0"/>
                </a:moveTo>
                <a:lnTo>
                  <a:pt x="189" y="376"/>
                </a:lnTo>
                <a:lnTo>
                  <a:pt x="0" y="0"/>
                </a:lnTo>
                <a:lnTo>
                  <a:pt x="3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4608360" y="3449520"/>
            <a:ext cx="198720" cy="197280"/>
          </a:xfrm>
          <a:custGeom>
            <a:avLst/>
            <a:gdLst/>
            <a:ahLst/>
            <a:rect l="0" t="0" r="r" b="b"/>
            <a:pathLst>
              <a:path w="552" h="548">
                <a:moveTo>
                  <a:pt x="470" y="97"/>
                </a:moveTo>
                <a:lnTo>
                  <a:pt x="425" y="28"/>
                </a:lnTo>
                <a:lnTo>
                  <a:pt x="228" y="418"/>
                </a:lnTo>
                <a:lnTo>
                  <a:pt x="319" y="418"/>
                </a:lnTo>
                <a:lnTo>
                  <a:pt x="122" y="28"/>
                </a:lnTo>
                <a:lnTo>
                  <a:pt x="77" y="97"/>
                </a:lnTo>
                <a:lnTo>
                  <a:pt x="470" y="97"/>
                </a:lnTo>
                <a:lnTo>
                  <a:pt x="552" y="0"/>
                </a:lnTo>
                <a:lnTo>
                  <a:pt x="0" y="0"/>
                </a:lnTo>
                <a:lnTo>
                  <a:pt x="273" y="548"/>
                </a:lnTo>
                <a:lnTo>
                  <a:pt x="552" y="0"/>
                </a:lnTo>
                <a:lnTo>
                  <a:pt x="470" y="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5819760" y="2392200"/>
            <a:ext cx="22680" cy="1211760"/>
          </a:xfrm>
          <a:custGeom>
            <a:avLst/>
            <a:gdLst/>
            <a:ahLst/>
            <a:rect l="0" t="0" r="r" b="b"/>
            <a:pathLst>
              <a:path w="63" h="3366">
                <a:moveTo>
                  <a:pt x="0" y="0"/>
                </a:moveTo>
                <a:lnTo>
                  <a:pt x="0" y="3366"/>
                </a:lnTo>
                <a:lnTo>
                  <a:pt x="63" y="3366"/>
                </a:lnTo>
                <a:lnTo>
                  <a:pt x="6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5762520" y="3468600"/>
            <a:ext cx="135360" cy="135360"/>
          </a:xfrm>
          <a:custGeom>
            <a:avLst/>
            <a:gdLst/>
            <a:ahLst/>
            <a:rect l="0" t="0" r="r" b="b"/>
            <a:pathLst>
              <a:path w="376" h="376">
                <a:moveTo>
                  <a:pt x="376" y="0"/>
                </a:moveTo>
                <a:lnTo>
                  <a:pt x="190" y="376"/>
                </a:lnTo>
                <a:lnTo>
                  <a:pt x="0" y="0"/>
                </a:lnTo>
                <a:lnTo>
                  <a:pt x="37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5732640" y="3449520"/>
            <a:ext cx="195480" cy="197280"/>
          </a:xfrm>
          <a:custGeom>
            <a:avLst/>
            <a:gdLst/>
            <a:ahLst/>
            <a:rect l="0" t="0" r="r" b="b"/>
            <a:pathLst>
              <a:path w="543" h="548">
                <a:moveTo>
                  <a:pt x="465" y="97"/>
                </a:moveTo>
                <a:lnTo>
                  <a:pt x="421" y="28"/>
                </a:lnTo>
                <a:lnTo>
                  <a:pt x="228" y="418"/>
                </a:lnTo>
                <a:lnTo>
                  <a:pt x="319" y="418"/>
                </a:lnTo>
                <a:lnTo>
                  <a:pt x="122" y="28"/>
                </a:lnTo>
                <a:lnTo>
                  <a:pt x="77" y="97"/>
                </a:lnTo>
                <a:lnTo>
                  <a:pt x="465" y="97"/>
                </a:lnTo>
                <a:lnTo>
                  <a:pt x="543" y="0"/>
                </a:lnTo>
                <a:lnTo>
                  <a:pt x="0" y="0"/>
                </a:lnTo>
                <a:lnTo>
                  <a:pt x="274" y="548"/>
                </a:lnTo>
                <a:lnTo>
                  <a:pt x="543" y="0"/>
                </a:lnTo>
                <a:lnTo>
                  <a:pt x="465" y="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4527720" y="2801880"/>
            <a:ext cx="375120" cy="205200"/>
          </a:xfrm>
          <a:custGeom>
            <a:avLst/>
            <a:gdLst/>
            <a:ahLst/>
            <a:rect l="0" t="0" r="r" b="b"/>
            <a:pathLst>
              <a:path w="1042" h="570">
                <a:moveTo>
                  <a:pt x="521" y="570"/>
                </a:moveTo>
                <a:lnTo>
                  <a:pt x="0" y="0"/>
                </a:lnTo>
                <a:lnTo>
                  <a:pt x="1042" y="0"/>
                </a:lnTo>
                <a:lnTo>
                  <a:pt x="521" y="57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5651640" y="2801880"/>
            <a:ext cx="375120" cy="205200"/>
          </a:xfrm>
          <a:custGeom>
            <a:avLst/>
            <a:gdLst/>
            <a:ahLst/>
            <a:rect l="0" t="0" r="r" b="b"/>
            <a:pathLst>
              <a:path w="1042" h="570">
                <a:moveTo>
                  <a:pt x="521" y="570"/>
                </a:moveTo>
                <a:lnTo>
                  <a:pt x="0" y="0"/>
                </a:lnTo>
                <a:lnTo>
                  <a:pt x="1042" y="0"/>
                </a:lnTo>
                <a:lnTo>
                  <a:pt x="521" y="57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 flipH="1">
            <a:off x="4807080" y="2905200"/>
            <a:ext cx="9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5630760" y="2847960"/>
            <a:ext cx="114840" cy="114840"/>
          </a:xfrm>
          <a:custGeom>
            <a:avLst/>
            <a:gdLst/>
            <a:ahLst/>
            <a:rect l="0" t="0" r="r" b="b"/>
            <a:pathLst>
              <a:path w="319" h="319">
                <a:moveTo>
                  <a:pt x="0" y="319"/>
                </a:moveTo>
                <a:lnTo>
                  <a:pt x="319" y="159"/>
                </a:lnTo>
                <a:lnTo>
                  <a:pt x="0" y="0"/>
                </a:lnTo>
                <a:lnTo>
                  <a:pt x="0" y="31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3776760" y="2905200"/>
            <a:ext cx="842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4505400" y="2847960"/>
            <a:ext cx="114840" cy="114840"/>
          </a:xfrm>
          <a:custGeom>
            <a:avLst/>
            <a:gdLst/>
            <a:ahLst/>
            <a:rect l="0" t="0" r="r" b="b"/>
            <a:pathLst>
              <a:path w="319" h="319">
                <a:moveTo>
                  <a:pt x="0" y="319"/>
                </a:moveTo>
                <a:lnTo>
                  <a:pt x="319" y="159"/>
                </a:lnTo>
                <a:lnTo>
                  <a:pt x="0" y="0"/>
                </a:lnTo>
                <a:lnTo>
                  <a:pt x="0" y="31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6308640" y="394668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7280280" y="3889440"/>
            <a:ext cx="114840" cy="114840"/>
          </a:xfrm>
          <a:custGeom>
            <a:avLst/>
            <a:gdLst/>
            <a:ahLst/>
            <a:rect l="0" t="0" r="r" b="b"/>
            <a:pathLst>
              <a:path w="319" h="319">
                <a:moveTo>
                  <a:pt x="0" y="0"/>
                </a:moveTo>
                <a:lnTo>
                  <a:pt x="319" y="159"/>
                </a:lnTo>
                <a:lnTo>
                  <a:pt x="0" y="31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7394400" y="3639960"/>
            <a:ext cx="1257840" cy="716400"/>
          </a:xfrm>
          <a:custGeom>
            <a:avLst/>
            <a:gdLst/>
            <a:ahLst/>
            <a:rect l="0" t="0" r="r" b="b"/>
            <a:pathLst>
              <a:path w="3494" h="1990">
                <a:moveTo>
                  <a:pt x="0" y="1990"/>
                </a:moveTo>
                <a:lnTo>
                  <a:pt x="3494" y="1990"/>
                </a:lnTo>
                <a:lnTo>
                  <a:pt x="3494" y="0"/>
                </a:lnTo>
                <a:lnTo>
                  <a:pt x="0" y="0"/>
                </a:lnTo>
                <a:lnTo>
                  <a:pt x="0" y="199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1901880" y="4970520"/>
            <a:ext cx="1875240" cy="510120"/>
          </a:xfrm>
          <a:custGeom>
            <a:avLst/>
            <a:gdLst/>
            <a:ahLst/>
            <a:rect l="0" t="0" r="r" b="b"/>
            <a:pathLst>
              <a:path w="5209" h="1417">
                <a:moveTo>
                  <a:pt x="0" y="1417"/>
                </a:moveTo>
                <a:lnTo>
                  <a:pt x="5209" y="1417"/>
                </a:lnTo>
                <a:lnTo>
                  <a:pt x="5209" y="0"/>
                </a:lnTo>
                <a:lnTo>
                  <a:pt x="0" y="0"/>
                </a:lnTo>
                <a:lnTo>
                  <a:pt x="0" y="141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2746440" y="2617920"/>
            <a:ext cx="1030680" cy="716400"/>
          </a:xfrm>
          <a:custGeom>
            <a:avLst/>
            <a:gdLst/>
            <a:ahLst/>
            <a:rect l="0" t="0" r="r" b="b"/>
            <a:pathLst>
              <a:path w="2863" h="1990">
                <a:moveTo>
                  <a:pt x="0" y="1990"/>
                </a:moveTo>
                <a:lnTo>
                  <a:pt x="2863" y="1990"/>
                </a:lnTo>
                <a:lnTo>
                  <a:pt x="2863" y="0"/>
                </a:lnTo>
                <a:lnTo>
                  <a:pt x="0" y="0"/>
                </a:lnTo>
                <a:lnTo>
                  <a:pt x="0" y="199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6683400" y="3946680"/>
            <a:ext cx="0" cy="71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 flipH="1">
            <a:off x="3589200" y="4662360"/>
            <a:ext cx="3094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3589200" y="466236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7499520" y="2820960"/>
            <a:ext cx="1047960" cy="513000"/>
          </a:xfrm>
          <a:custGeom>
            <a:avLst/>
            <a:gdLst/>
            <a:ahLst/>
            <a:rect l="0" t="0" r="r" b="b"/>
            <a:pathLst>
              <a:path w="2911" h="1425">
                <a:moveTo>
                  <a:pt x="0" y="1425"/>
                </a:moveTo>
                <a:lnTo>
                  <a:pt x="2911" y="1425"/>
                </a:lnTo>
                <a:lnTo>
                  <a:pt x="2911" y="0"/>
                </a:lnTo>
                <a:lnTo>
                  <a:pt x="0" y="0"/>
                </a:lnTo>
                <a:lnTo>
                  <a:pt x="0" y="142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 flipV="1">
            <a:off x="8088480" y="3333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8031240" y="3333600"/>
            <a:ext cx="114840" cy="114840"/>
          </a:xfrm>
          <a:custGeom>
            <a:avLst/>
            <a:gdLst/>
            <a:ahLst/>
            <a:rect l="0" t="0" r="r" b="b"/>
            <a:pathLst>
              <a:path w="319" h="319">
                <a:moveTo>
                  <a:pt x="0" y="319"/>
                </a:moveTo>
                <a:lnTo>
                  <a:pt x="159" y="0"/>
                </a:lnTo>
                <a:lnTo>
                  <a:pt x="319" y="319"/>
                </a:lnTo>
                <a:lnTo>
                  <a:pt x="0" y="31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557680" y="1982880"/>
            <a:ext cx="563760" cy="410040"/>
          </a:xfrm>
          <a:custGeom>
            <a:avLst/>
            <a:gdLst/>
            <a:ahLst/>
            <a:rect l="0" t="0" r="r" b="b"/>
            <a:pathLst>
              <a:path w="1566" h="1139">
                <a:moveTo>
                  <a:pt x="0" y="1139"/>
                </a:moveTo>
                <a:lnTo>
                  <a:pt x="1566" y="1139"/>
                </a:lnTo>
                <a:lnTo>
                  <a:pt x="1566" y="0"/>
                </a:lnTo>
                <a:lnTo>
                  <a:pt x="0" y="0"/>
                </a:lnTo>
                <a:lnTo>
                  <a:pt x="0" y="113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4245120" y="1676520"/>
            <a:ext cx="1030680" cy="716400"/>
          </a:xfrm>
          <a:custGeom>
            <a:avLst/>
            <a:gdLst/>
            <a:ahLst/>
            <a:rect l="0" t="0" r="r" b="b"/>
            <a:pathLst>
              <a:path w="2863" h="1990">
                <a:moveTo>
                  <a:pt x="0" y="1990"/>
                </a:moveTo>
                <a:lnTo>
                  <a:pt x="2863" y="1990"/>
                </a:lnTo>
                <a:lnTo>
                  <a:pt x="2863" y="0"/>
                </a:lnTo>
                <a:lnTo>
                  <a:pt x="0" y="0"/>
                </a:lnTo>
                <a:lnTo>
                  <a:pt x="0" y="199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6630840" y="3897360"/>
            <a:ext cx="106200" cy="103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6" name=""/>
          <p:cNvSpPr txBox="1"/>
          <p:nvPr/>
        </p:nvSpPr>
        <p:spPr>
          <a:xfrm>
            <a:off x="2832120" y="2705040"/>
            <a:ext cx="826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 txBox="1"/>
          <p:nvPr/>
        </p:nvSpPr>
        <p:spPr>
          <a:xfrm>
            <a:off x="4344840" y="1770120"/>
            <a:ext cx="8618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-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la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 txBox="1"/>
          <p:nvPr/>
        </p:nvSpPr>
        <p:spPr>
          <a:xfrm>
            <a:off x="5548320" y="2019240"/>
            <a:ext cx="5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 txBox="1"/>
          <p:nvPr/>
        </p:nvSpPr>
        <p:spPr>
          <a:xfrm>
            <a:off x="7532640" y="2954160"/>
            <a:ext cx="1019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ST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 txBox="1"/>
          <p:nvPr/>
        </p:nvSpPr>
        <p:spPr>
          <a:xfrm>
            <a:off x="7534440" y="3726000"/>
            <a:ext cx="985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 txBox="1"/>
          <p:nvPr/>
        </p:nvSpPr>
        <p:spPr>
          <a:xfrm>
            <a:off x="4624560" y="3675240"/>
            <a:ext cx="1268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6-bit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 txBox="1"/>
          <p:nvPr/>
        </p:nvSpPr>
        <p:spPr>
          <a:xfrm>
            <a:off x="4286160" y="3979800"/>
            <a:ext cx="103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igh B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 txBox="1"/>
          <p:nvPr/>
        </p:nvSpPr>
        <p:spPr>
          <a:xfrm>
            <a:off x="5316480" y="3979800"/>
            <a:ext cx="952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w B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 txBox="1"/>
          <p:nvPr/>
        </p:nvSpPr>
        <p:spPr>
          <a:xfrm>
            <a:off x="2163600" y="5086440"/>
            <a:ext cx="1312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DT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 txBox="1"/>
          <p:nvPr/>
        </p:nvSpPr>
        <p:spPr>
          <a:xfrm>
            <a:off x="482760" y="3259080"/>
            <a:ext cx="9540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PU 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 txBox="1"/>
          <p:nvPr/>
        </p:nvSpPr>
        <p:spPr>
          <a:xfrm>
            <a:off x="789120" y="3487680"/>
            <a:ext cx="2826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 txBox="1"/>
          <p:nvPr/>
        </p:nvSpPr>
        <p:spPr>
          <a:xfrm>
            <a:off x="479520" y="4102200"/>
            <a:ext cx="9540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PU 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 txBox="1"/>
          <p:nvPr/>
        </p:nvSpPr>
        <p:spPr>
          <a:xfrm>
            <a:off x="700200" y="4338720"/>
            <a:ext cx="4809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 txBox="1"/>
          <p:nvPr/>
        </p:nvSpPr>
        <p:spPr>
          <a:xfrm>
            <a:off x="6257880" y="3487680"/>
            <a:ext cx="8460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"/>
          <p:cNvSpPr txBox="1"/>
          <p:nvPr/>
        </p:nvSpPr>
        <p:spPr>
          <a:xfrm>
            <a:off x="1668600" y="6119640"/>
            <a:ext cx="250200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1860480" y="3033720"/>
            <a:ext cx="5413680" cy="2291040"/>
          </a:xfrm>
          <a:custGeom>
            <a:avLst/>
            <a:gdLst/>
            <a:ahLst/>
            <a:rect l="0" t="0" r="r" b="b"/>
            <a:pathLst>
              <a:path w="15038" h="6364">
                <a:moveTo>
                  <a:pt x="0" y="0"/>
                </a:moveTo>
                <a:lnTo>
                  <a:pt x="0" y="6364"/>
                </a:lnTo>
                <a:lnTo>
                  <a:pt x="15038" y="6364"/>
                </a:lnTo>
                <a:lnTo>
                  <a:pt x="15038" y="0"/>
                </a:lnTo>
                <a:lnTo>
                  <a:pt x="13208" y="0"/>
                </a:lnTo>
                <a:lnTo>
                  <a:pt x="13208" y="1932"/>
                </a:lnTo>
                <a:lnTo>
                  <a:pt x="1839" y="1932"/>
                </a:lnTo>
                <a:lnTo>
                  <a:pt x="1839" y="0"/>
                </a:lnTo>
                <a:lnTo>
                  <a:pt x="0" y="0"/>
                </a:lnTo>
                <a:close/>
              </a:path>
            </a:pathLst>
          </a:custGeom>
          <a:solidFill>
            <a:srgbClr val="21212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1860480" y="3033720"/>
            <a:ext cx="5423400" cy="2300760"/>
          </a:xfrm>
          <a:custGeom>
            <a:avLst/>
            <a:gdLst/>
            <a:ahLst/>
            <a:rect l="0" t="0" r="r" b="b"/>
            <a:pathLst>
              <a:path fill="none" w="15065" h="6391">
                <a:moveTo>
                  <a:pt x="0" y="0"/>
                </a:moveTo>
                <a:lnTo>
                  <a:pt x="0" y="6391"/>
                </a:lnTo>
                <a:lnTo>
                  <a:pt x="15065" y="6391"/>
                </a:lnTo>
                <a:lnTo>
                  <a:pt x="15065" y="0"/>
                </a:lnTo>
                <a:lnTo>
                  <a:pt x="13232" y="0"/>
                </a:lnTo>
                <a:lnTo>
                  <a:pt x="13232" y="1941"/>
                </a:lnTo>
                <a:lnTo>
                  <a:pt x="1842" y="1941"/>
                </a:lnTo>
                <a:lnTo>
                  <a:pt x="1842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1860480" y="1590840"/>
            <a:ext cx="5413680" cy="1391040"/>
          </a:xfrm>
          <a:custGeom>
            <a:avLst/>
            <a:gdLst/>
            <a:ahLst/>
            <a:rect l="0" t="0" r="r" b="b"/>
            <a:pathLst>
              <a:path w="15038" h="3864">
                <a:moveTo>
                  <a:pt x="101" y="0"/>
                </a:moveTo>
                <a:lnTo>
                  <a:pt x="15038" y="0"/>
                </a:lnTo>
                <a:lnTo>
                  <a:pt x="15038" y="3864"/>
                </a:lnTo>
                <a:lnTo>
                  <a:pt x="0" y="3864"/>
                </a:lnTo>
                <a:lnTo>
                  <a:pt x="0" y="0"/>
                </a:lnTo>
                <a:lnTo>
                  <a:pt x="101" y="0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1860480" y="1590840"/>
            <a:ext cx="5423400" cy="1402200"/>
          </a:xfrm>
          <a:custGeom>
            <a:avLst/>
            <a:gdLst/>
            <a:ahLst/>
            <a:rect l="0" t="0" r="r" b="b"/>
            <a:pathLst>
              <a:path fill="none" w="15065" h="3895">
                <a:moveTo>
                  <a:pt x="102" y="0"/>
                </a:moveTo>
                <a:lnTo>
                  <a:pt x="15065" y="0"/>
                </a:lnTo>
                <a:lnTo>
                  <a:pt x="15065" y="3895"/>
                </a:lnTo>
                <a:lnTo>
                  <a:pt x="0" y="3895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1935000" y="3773520"/>
            <a:ext cx="5266080" cy="1468800"/>
          </a:xfrm>
          <a:custGeom>
            <a:avLst/>
            <a:gdLst/>
            <a:ahLst/>
            <a:rect l="0" t="0" r="r" b="b"/>
            <a:pathLst>
              <a:path w="14628" h="4080">
                <a:moveTo>
                  <a:pt x="1417" y="0"/>
                </a:moveTo>
                <a:lnTo>
                  <a:pt x="1417" y="2725"/>
                </a:lnTo>
                <a:lnTo>
                  <a:pt x="13196" y="2725"/>
                </a:lnTo>
                <a:lnTo>
                  <a:pt x="13196" y="0"/>
                </a:lnTo>
                <a:lnTo>
                  <a:pt x="14628" y="0"/>
                </a:lnTo>
                <a:lnTo>
                  <a:pt x="14628" y="4080"/>
                </a:lnTo>
                <a:lnTo>
                  <a:pt x="0" y="4080"/>
                </a:lnTo>
                <a:lnTo>
                  <a:pt x="0" y="0"/>
                </a:lnTo>
                <a:lnTo>
                  <a:pt x="141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1935000" y="3773520"/>
            <a:ext cx="5275800" cy="1479960"/>
          </a:xfrm>
          <a:custGeom>
            <a:avLst/>
            <a:gdLst/>
            <a:ahLst/>
            <a:rect l="0" t="0" r="r" b="b"/>
            <a:pathLst>
              <a:path fill="none" w="14655" h="4111">
                <a:moveTo>
                  <a:pt x="1420" y="0"/>
                </a:moveTo>
                <a:lnTo>
                  <a:pt x="1420" y="2745"/>
                </a:lnTo>
                <a:lnTo>
                  <a:pt x="13221" y="2745"/>
                </a:lnTo>
                <a:lnTo>
                  <a:pt x="13221" y="0"/>
                </a:lnTo>
                <a:lnTo>
                  <a:pt x="14655" y="0"/>
                </a:lnTo>
                <a:lnTo>
                  <a:pt x="14655" y="4111"/>
                </a:lnTo>
                <a:lnTo>
                  <a:pt x="0" y="4111"/>
                </a:lnTo>
                <a:lnTo>
                  <a:pt x="0" y="0"/>
                </a:lnTo>
                <a:lnTo>
                  <a:pt x="1420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6694560" y="3105000"/>
            <a:ext cx="492480" cy="533880"/>
          </a:xfrm>
          <a:custGeom>
            <a:avLst/>
            <a:gdLst/>
            <a:ahLst/>
            <a:rect l="0" t="0" r="r" b="b"/>
            <a:pathLst>
              <a:path w="1368" h="1483">
                <a:moveTo>
                  <a:pt x="0" y="1483"/>
                </a:moveTo>
                <a:lnTo>
                  <a:pt x="0" y="0"/>
                </a:lnTo>
                <a:lnTo>
                  <a:pt x="1368" y="0"/>
                </a:lnTo>
                <a:lnTo>
                  <a:pt x="1368" y="1483"/>
                </a:lnTo>
                <a:lnTo>
                  <a:pt x="0" y="14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6694560" y="3105000"/>
            <a:ext cx="503640" cy="543240"/>
          </a:xfrm>
          <a:custGeom>
            <a:avLst/>
            <a:gdLst/>
            <a:ahLst/>
            <a:rect l="0" t="0" r="r" b="b"/>
            <a:pathLst>
              <a:path fill="none" w="1399" h="1509">
                <a:moveTo>
                  <a:pt x="0" y="1509"/>
                </a:moveTo>
                <a:lnTo>
                  <a:pt x="1399" y="1509"/>
                </a:lnTo>
                <a:lnTo>
                  <a:pt x="1399" y="0"/>
                </a:lnTo>
                <a:lnTo>
                  <a:pt x="0" y="0"/>
                </a:lnTo>
                <a:lnTo>
                  <a:pt x="0" y="150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3121200" y="1689120"/>
            <a:ext cx="2757960" cy="1194120"/>
          </a:xfrm>
          <a:custGeom>
            <a:avLst/>
            <a:gdLst/>
            <a:ahLst/>
            <a:rect l="0" t="0" r="r" b="b"/>
            <a:pathLst>
              <a:path w="7661" h="3317">
                <a:moveTo>
                  <a:pt x="0" y="3317"/>
                </a:moveTo>
                <a:lnTo>
                  <a:pt x="0" y="0"/>
                </a:lnTo>
                <a:lnTo>
                  <a:pt x="7661" y="0"/>
                </a:lnTo>
                <a:lnTo>
                  <a:pt x="7661" y="3317"/>
                </a:lnTo>
                <a:lnTo>
                  <a:pt x="0" y="33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3121200" y="1689120"/>
            <a:ext cx="2767320" cy="1205280"/>
          </a:xfrm>
          <a:custGeom>
            <a:avLst/>
            <a:gdLst/>
            <a:ahLst/>
            <a:rect l="0" t="0" r="r" b="b"/>
            <a:pathLst>
              <a:path fill="none" w="7687" h="3348">
                <a:moveTo>
                  <a:pt x="0" y="3348"/>
                </a:moveTo>
                <a:lnTo>
                  <a:pt x="7687" y="3348"/>
                </a:lnTo>
                <a:lnTo>
                  <a:pt x="7687" y="0"/>
                </a:lnTo>
                <a:lnTo>
                  <a:pt x="0" y="0"/>
                </a:lnTo>
                <a:lnTo>
                  <a:pt x="0" y="3348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2597040" y="3085920"/>
            <a:ext cx="3926160" cy="536760"/>
          </a:xfrm>
          <a:custGeom>
            <a:avLst/>
            <a:gdLst/>
            <a:ahLst/>
            <a:rect l="0" t="0" r="r" b="b"/>
            <a:pathLst>
              <a:path w="10906" h="1491">
                <a:moveTo>
                  <a:pt x="0" y="1491"/>
                </a:moveTo>
                <a:lnTo>
                  <a:pt x="0" y="0"/>
                </a:lnTo>
                <a:lnTo>
                  <a:pt x="10906" y="0"/>
                </a:lnTo>
                <a:lnTo>
                  <a:pt x="10906" y="1491"/>
                </a:lnTo>
                <a:lnTo>
                  <a:pt x="0" y="14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2597040" y="3085920"/>
            <a:ext cx="3937320" cy="547920"/>
          </a:xfrm>
          <a:custGeom>
            <a:avLst/>
            <a:gdLst/>
            <a:ahLst/>
            <a:rect l="0" t="0" r="r" b="b"/>
            <a:pathLst>
              <a:path fill="none" w="10937" h="1522">
                <a:moveTo>
                  <a:pt x="0" y="1522"/>
                </a:moveTo>
                <a:lnTo>
                  <a:pt x="10937" y="1522"/>
                </a:lnTo>
                <a:lnTo>
                  <a:pt x="10937" y="0"/>
                </a:lnTo>
                <a:lnTo>
                  <a:pt x="0" y="0"/>
                </a:lnTo>
                <a:lnTo>
                  <a:pt x="0" y="1522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5575320" y="3100320"/>
            <a:ext cx="0" cy="517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6710400" y="3421080"/>
            <a:ext cx="5112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WD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1935000" y="3089160"/>
            <a:ext cx="487800" cy="533880"/>
          </a:xfrm>
          <a:custGeom>
            <a:avLst/>
            <a:gdLst/>
            <a:ahLst/>
            <a:rect l="0" t="0" r="r" b="b"/>
            <a:pathLst>
              <a:path w="1355" h="1483">
                <a:moveTo>
                  <a:pt x="0" y="1483"/>
                </a:moveTo>
                <a:lnTo>
                  <a:pt x="0" y="0"/>
                </a:lnTo>
                <a:lnTo>
                  <a:pt x="1355" y="0"/>
                </a:lnTo>
                <a:lnTo>
                  <a:pt x="1355" y="1483"/>
                </a:lnTo>
                <a:lnTo>
                  <a:pt x="0" y="14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1935000" y="3089160"/>
            <a:ext cx="498960" cy="545040"/>
          </a:xfrm>
          <a:custGeom>
            <a:avLst/>
            <a:gdLst/>
            <a:ahLst/>
            <a:rect l="0" t="0" r="r" b="b"/>
            <a:pathLst>
              <a:path fill="none" w="1386" h="1514">
                <a:moveTo>
                  <a:pt x="0" y="1514"/>
                </a:moveTo>
                <a:lnTo>
                  <a:pt x="1386" y="1514"/>
                </a:lnTo>
                <a:lnTo>
                  <a:pt x="1386" y="0"/>
                </a:lnTo>
                <a:lnTo>
                  <a:pt x="0" y="0"/>
                </a:lnTo>
                <a:lnTo>
                  <a:pt x="0" y="1514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1914480" y="3409920"/>
            <a:ext cx="53496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S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5848200" y="3301920"/>
            <a:ext cx="48096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 txBox="1"/>
          <p:nvPr/>
        </p:nvSpPr>
        <p:spPr>
          <a:xfrm>
            <a:off x="5133960" y="2546280"/>
            <a:ext cx="7570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P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1947960" y="1665360"/>
            <a:ext cx="991080" cy="1233720"/>
          </a:xfrm>
          <a:custGeom>
            <a:avLst/>
            <a:gdLst/>
            <a:ahLst/>
            <a:rect l="0" t="0" r="r" b="b"/>
            <a:pathLst>
              <a:path w="2753" h="3427">
                <a:moveTo>
                  <a:pt x="0" y="3427"/>
                </a:moveTo>
                <a:lnTo>
                  <a:pt x="0" y="0"/>
                </a:lnTo>
                <a:lnTo>
                  <a:pt x="2753" y="0"/>
                </a:lnTo>
                <a:lnTo>
                  <a:pt x="2753" y="3427"/>
                </a:lnTo>
                <a:lnTo>
                  <a:pt x="0" y="3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1947960" y="1665360"/>
            <a:ext cx="1000440" cy="1243440"/>
          </a:xfrm>
          <a:custGeom>
            <a:avLst/>
            <a:gdLst/>
            <a:ahLst/>
            <a:rect l="0" t="0" r="r" b="b"/>
            <a:pathLst>
              <a:path fill="none" w="2779" h="3454">
                <a:moveTo>
                  <a:pt x="0" y="3454"/>
                </a:moveTo>
                <a:lnTo>
                  <a:pt x="2779" y="3454"/>
                </a:lnTo>
                <a:lnTo>
                  <a:pt x="2779" y="0"/>
                </a:lnTo>
                <a:lnTo>
                  <a:pt x="0" y="0"/>
                </a:lnTo>
                <a:lnTo>
                  <a:pt x="0" y="3454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1911240" y="2330280"/>
            <a:ext cx="7444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M 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6035760" y="1689120"/>
            <a:ext cx="1151280" cy="1209960"/>
          </a:xfrm>
          <a:custGeom>
            <a:avLst/>
            <a:gdLst/>
            <a:ahLst/>
            <a:rect l="0" t="0" r="r" b="b"/>
            <a:pathLst>
              <a:path w="3198" h="3361">
                <a:moveTo>
                  <a:pt x="0" y="3361"/>
                </a:moveTo>
                <a:lnTo>
                  <a:pt x="0" y="0"/>
                </a:lnTo>
                <a:lnTo>
                  <a:pt x="3198" y="0"/>
                </a:lnTo>
                <a:lnTo>
                  <a:pt x="3198" y="3361"/>
                </a:lnTo>
                <a:lnTo>
                  <a:pt x="0" y="33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6035760" y="1689120"/>
            <a:ext cx="1162440" cy="1219680"/>
          </a:xfrm>
          <a:custGeom>
            <a:avLst/>
            <a:gdLst/>
            <a:ahLst/>
            <a:rect l="0" t="0" r="r" b="b"/>
            <a:pathLst>
              <a:path fill="none" w="3229" h="3388">
                <a:moveTo>
                  <a:pt x="0" y="3388"/>
                </a:moveTo>
                <a:lnTo>
                  <a:pt x="3229" y="3388"/>
                </a:lnTo>
                <a:lnTo>
                  <a:pt x="3229" y="0"/>
                </a:lnTo>
                <a:lnTo>
                  <a:pt x="0" y="0"/>
                </a:lnTo>
                <a:lnTo>
                  <a:pt x="0" y="3388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 txBox="1"/>
          <p:nvPr/>
        </p:nvSpPr>
        <p:spPr>
          <a:xfrm>
            <a:off x="6634080" y="2624040"/>
            <a:ext cx="627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1911240" y="5024520"/>
            <a:ext cx="67464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OR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2610000" y="3828960"/>
            <a:ext cx="3930840" cy="783000"/>
          </a:xfrm>
          <a:custGeom>
            <a:avLst/>
            <a:gdLst/>
            <a:ahLst/>
            <a:rect l="0" t="0" r="r" b="b"/>
            <a:pathLst>
              <a:path w="10919" h="2175">
                <a:moveTo>
                  <a:pt x="0" y="2175"/>
                </a:moveTo>
                <a:lnTo>
                  <a:pt x="0" y="0"/>
                </a:lnTo>
                <a:lnTo>
                  <a:pt x="10919" y="0"/>
                </a:lnTo>
                <a:lnTo>
                  <a:pt x="10919" y="2175"/>
                </a:lnTo>
                <a:lnTo>
                  <a:pt x="0" y="2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2610000" y="3828960"/>
            <a:ext cx="3940560" cy="792360"/>
          </a:xfrm>
          <a:custGeom>
            <a:avLst/>
            <a:gdLst/>
            <a:ahLst/>
            <a:rect l="0" t="0" r="r" b="b"/>
            <a:pathLst>
              <a:path fill="none" w="10946" h="2201">
                <a:moveTo>
                  <a:pt x="0" y="2201"/>
                </a:moveTo>
                <a:lnTo>
                  <a:pt x="10946" y="2201"/>
                </a:lnTo>
                <a:lnTo>
                  <a:pt x="10946" y="0"/>
                </a:lnTo>
                <a:lnTo>
                  <a:pt x="0" y="0"/>
                </a:lnTo>
                <a:lnTo>
                  <a:pt x="0" y="2201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 txBox="1"/>
          <p:nvPr/>
        </p:nvSpPr>
        <p:spPr>
          <a:xfrm>
            <a:off x="5537160" y="3892680"/>
            <a:ext cx="7016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AP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 txBox="1"/>
          <p:nvPr/>
        </p:nvSpPr>
        <p:spPr>
          <a:xfrm>
            <a:off x="4037040" y="4133880"/>
            <a:ext cx="4413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4024440" y="38289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3378240" y="38289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 txBox="1"/>
          <p:nvPr/>
        </p:nvSpPr>
        <p:spPr>
          <a:xfrm>
            <a:off x="2717640" y="4049640"/>
            <a:ext cx="4096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 txBox="1"/>
          <p:nvPr/>
        </p:nvSpPr>
        <p:spPr>
          <a:xfrm>
            <a:off x="2717640" y="3884760"/>
            <a:ext cx="4032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2666880" y="1879560"/>
            <a:ext cx="3653280" cy="648000"/>
          </a:xfrm>
          <a:custGeom>
            <a:avLst/>
            <a:gdLst/>
            <a:ahLst/>
            <a:rect l="0" t="0" r="r" b="b"/>
            <a:pathLst>
              <a:path w="10148" h="1800">
                <a:moveTo>
                  <a:pt x="0" y="1800"/>
                </a:moveTo>
                <a:lnTo>
                  <a:pt x="0" y="0"/>
                </a:lnTo>
                <a:lnTo>
                  <a:pt x="10148" y="0"/>
                </a:lnTo>
                <a:lnTo>
                  <a:pt x="10148" y="1800"/>
                </a:lnTo>
                <a:lnTo>
                  <a:pt x="0" y="1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2949480" y="2004840"/>
            <a:ext cx="30891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cessor -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3328920" y="3154320"/>
            <a:ext cx="2259360" cy="403560"/>
          </a:xfrm>
          <a:custGeom>
            <a:avLst/>
            <a:gdLst/>
            <a:ahLst/>
            <a:rect l="0" t="0" r="r" b="b"/>
            <a:pathLst>
              <a:path w="6276" h="1121">
                <a:moveTo>
                  <a:pt x="0" y="1121"/>
                </a:moveTo>
                <a:lnTo>
                  <a:pt x="0" y="0"/>
                </a:lnTo>
                <a:lnTo>
                  <a:pt x="6276" y="0"/>
                </a:lnTo>
                <a:lnTo>
                  <a:pt x="6276" y="1121"/>
                </a:lnTo>
                <a:lnTo>
                  <a:pt x="0" y="1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274920" y="3218040"/>
            <a:ext cx="222552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rupt-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4203720" y="3889440"/>
            <a:ext cx="616320" cy="155880"/>
          </a:xfrm>
          <a:custGeom>
            <a:avLst/>
            <a:gdLst/>
            <a:ahLst/>
            <a:rect l="0" t="0" r="r" b="b"/>
            <a:pathLst>
              <a:path w="1712" h="433">
                <a:moveTo>
                  <a:pt x="0" y="433"/>
                </a:moveTo>
                <a:lnTo>
                  <a:pt x="0" y="0"/>
                </a:lnTo>
                <a:lnTo>
                  <a:pt x="1712" y="0"/>
                </a:lnTo>
                <a:lnTo>
                  <a:pt x="1712" y="433"/>
                </a:lnTo>
                <a:lnTo>
                  <a:pt x="0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 txBox="1"/>
          <p:nvPr/>
        </p:nvSpPr>
        <p:spPr>
          <a:xfrm>
            <a:off x="4145040" y="3884760"/>
            <a:ext cx="5875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S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4940280" y="3913200"/>
            <a:ext cx="464040" cy="135360"/>
          </a:xfrm>
          <a:custGeom>
            <a:avLst/>
            <a:gdLst/>
            <a:ahLst/>
            <a:rect l="0" t="0" r="r" b="b"/>
            <a:pathLst>
              <a:path w="1289" h="376">
                <a:moveTo>
                  <a:pt x="0" y="376"/>
                </a:moveTo>
                <a:lnTo>
                  <a:pt x="0" y="0"/>
                </a:lnTo>
                <a:lnTo>
                  <a:pt x="1289" y="0"/>
                </a:lnTo>
                <a:lnTo>
                  <a:pt x="1289" y="376"/>
                </a:lnTo>
                <a:lnTo>
                  <a:pt x="0" y="3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 txBox="1"/>
          <p:nvPr/>
        </p:nvSpPr>
        <p:spPr>
          <a:xfrm>
            <a:off x="4843440" y="3876840"/>
            <a:ext cx="4921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G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2739960" y="4305240"/>
            <a:ext cx="3613680" cy="730440"/>
          </a:xfrm>
          <a:custGeom>
            <a:avLst/>
            <a:gdLst/>
            <a:ahLst/>
            <a:rect l="0" t="0" r="r" b="b"/>
            <a:pathLst>
              <a:path w="10038" h="2029">
                <a:moveTo>
                  <a:pt x="0" y="2029"/>
                </a:moveTo>
                <a:lnTo>
                  <a:pt x="0" y="0"/>
                </a:lnTo>
                <a:lnTo>
                  <a:pt x="10038" y="0"/>
                </a:lnTo>
                <a:lnTo>
                  <a:pt x="10038" y="2029"/>
                </a:lnTo>
                <a:lnTo>
                  <a:pt x="0" y="20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2986200" y="4567320"/>
            <a:ext cx="301464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eripheral-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1860480" y="3033720"/>
            <a:ext cx="696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1914480" y="2567160"/>
            <a:ext cx="6904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la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 txBox="1"/>
          <p:nvPr/>
        </p:nvSpPr>
        <p:spPr>
          <a:xfrm>
            <a:off x="2717640" y="4214880"/>
            <a:ext cx="6001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 txBox="1"/>
          <p:nvPr/>
        </p:nvSpPr>
        <p:spPr>
          <a:xfrm>
            <a:off x="3375000" y="3967200"/>
            <a:ext cx="5238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X-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 txBox="1"/>
          <p:nvPr/>
        </p:nvSpPr>
        <p:spPr>
          <a:xfrm>
            <a:off x="4475160" y="4133880"/>
            <a:ext cx="13622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ync Commun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6012000" y="4133880"/>
            <a:ext cx="473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W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3375000" y="4133880"/>
            <a:ext cx="6573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eriphr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04920" y="892080"/>
            <a:ext cx="85057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 Summary of the C166 Fami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4" name=""/>
          <p:cNvGrpSpPr/>
          <p:nvPr/>
        </p:nvGrpSpPr>
        <p:grpSpPr>
          <a:xfrm>
            <a:off x="189000" y="620640"/>
            <a:ext cx="2722680" cy="698760"/>
            <a:chOff x="189000" y="620640"/>
            <a:chExt cx="2722680" cy="698760"/>
          </a:xfrm>
        </p:grpSpPr>
        <p:sp>
          <p:nvSpPr>
            <p:cNvPr id="3275" name=""/>
            <p:cNvSpPr/>
            <p:nvPr/>
          </p:nvSpPr>
          <p:spPr>
            <a:xfrm>
              <a:off x="189000" y="620640"/>
              <a:ext cx="2703960" cy="687600"/>
            </a:xfrm>
            <a:custGeom>
              <a:avLst/>
              <a:gdLst/>
              <a:ahLst/>
              <a:rect l="0" t="0" r="r" b="b"/>
              <a:pathLst>
                <a:path w="7511" h="1910">
                  <a:moveTo>
                    <a:pt x="48" y="0"/>
                  </a:moveTo>
                  <a:lnTo>
                    <a:pt x="7511" y="0"/>
                  </a:lnTo>
                  <a:lnTo>
                    <a:pt x="7511" y="1910"/>
                  </a:lnTo>
                  <a:lnTo>
                    <a:pt x="0" y="1910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89000" y="620640"/>
              <a:ext cx="2715120" cy="698760"/>
            </a:xfrm>
            <a:custGeom>
              <a:avLst/>
              <a:gdLst/>
              <a:ahLst/>
              <a:rect l="0" t="0" r="r" b="b"/>
              <a:pathLst>
                <a:path fill="none" w="7542" h="1941">
                  <a:moveTo>
                    <a:pt x="48" y="0"/>
                  </a:moveTo>
                  <a:lnTo>
                    <a:pt x="7542" y="0"/>
                  </a:lnTo>
                  <a:lnTo>
                    <a:pt x="7542" y="1941"/>
                  </a:lnTo>
                  <a:lnTo>
                    <a:pt x="0" y="19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9000" y="668160"/>
              <a:ext cx="1375200" cy="592560"/>
            </a:xfrm>
            <a:custGeom>
              <a:avLst/>
              <a:gdLst/>
              <a:ahLst/>
              <a:rect l="0" t="0" r="r" b="b"/>
              <a:pathLst>
                <a:path w="3820" h="1646">
                  <a:moveTo>
                    <a:pt x="0" y="1646"/>
                  </a:moveTo>
                  <a:lnTo>
                    <a:pt x="0" y="0"/>
                  </a:lnTo>
                  <a:lnTo>
                    <a:pt x="3820" y="0"/>
                  </a:lnTo>
                  <a:lnTo>
                    <a:pt x="3820" y="1646"/>
                  </a:lnTo>
                  <a:lnTo>
                    <a:pt x="0" y="16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819000" y="668160"/>
              <a:ext cx="1386360" cy="603720"/>
            </a:xfrm>
            <a:custGeom>
              <a:avLst/>
              <a:gdLst/>
              <a:ahLst/>
              <a:rect l="0" t="0" r="r" b="b"/>
              <a:pathLst>
                <a:path fill="none" w="3851" h="1677">
                  <a:moveTo>
                    <a:pt x="0" y="1677"/>
                  </a:moveTo>
                  <a:lnTo>
                    <a:pt x="3851" y="1677"/>
                  </a:lnTo>
                  <a:lnTo>
                    <a:pt x="3851" y="0"/>
                  </a:lnTo>
                  <a:lnTo>
                    <a:pt x="0" y="0"/>
                  </a:lnTo>
                  <a:lnTo>
                    <a:pt x="0" y="16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 txBox="1"/>
            <p:nvPr/>
          </p:nvSpPr>
          <p:spPr>
            <a:xfrm>
              <a:off x="1762200" y="1084320"/>
              <a:ext cx="4665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33280" y="658800"/>
              <a:ext cx="487800" cy="608400"/>
            </a:xfrm>
            <a:custGeom>
              <a:avLst/>
              <a:gdLst/>
              <a:ahLst/>
              <a:rect l="0" t="0" r="r" b="b"/>
              <a:pathLst>
                <a:path w="1355" h="1690">
                  <a:moveTo>
                    <a:pt x="0" y="1690"/>
                  </a:moveTo>
                  <a:lnTo>
                    <a:pt x="0" y="0"/>
                  </a:lnTo>
                  <a:lnTo>
                    <a:pt x="1355" y="0"/>
                  </a:lnTo>
                  <a:lnTo>
                    <a:pt x="1355" y="1690"/>
                  </a:lnTo>
                  <a:lnTo>
                    <a:pt x="0" y="16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33280" y="658800"/>
              <a:ext cx="498960" cy="621000"/>
            </a:xfrm>
            <a:custGeom>
              <a:avLst/>
              <a:gdLst/>
              <a:ahLst/>
              <a:rect l="0" t="0" r="r" b="b"/>
              <a:pathLst>
                <a:path fill="none" w="1386" h="1725">
                  <a:moveTo>
                    <a:pt x="0" y="1725"/>
                  </a:moveTo>
                  <a:lnTo>
                    <a:pt x="1386" y="1725"/>
                  </a:lnTo>
                  <a:lnTo>
                    <a:pt x="1386" y="0"/>
                  </a:lnTo>
                  <a:lnTo>
                    <a:pt x="0" y="0"/>
                  </a:lnTo>
                  <a:lnTo>
                    <a:pt x="0" y="172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 txBox="1"/>
            <p:nvPr/>
          </p:nvSpPr>
          <p:spPr>
            <a:xfrm>
              <a:off x="216000" y="1122480"/>
              <a:ext cx="403200" cy="19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279520" y="668160"/>
              <a:ext cx="568800" cy="598680"/>
            </a:xfrm>
            <a:custGeom>
              <a:avLst/>
              <a:gdLst/>
              <a:ahLst/>
              <a:rect l="0" t="0" r="r" b="b"/>
              <a:pathLst>
                <a:path w="1580" h="1663">
                  <a:moveTo>
                    <a:pt x="0" y="1663"/>
                  </a:moveTo>
                  <a:lnTo>
                    <a:pt x="0" y="0"/>
                  </a:lnTo>
                  <a:lnTo>
                    <a:pt x="1580" y="0"/>
                  </a:lnTo>
                  <a:lnTo>
                    <a:pt x="1580" y="1663"/>
                  </a:lnTo>
                  <a:lnTo>
                    <a:pt x="0" y="16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279520" y="668160"/>
              <a:ext cx="579960" cy="611640"/>
            </a:xfrm>
            <a:custGeom>
              <a:avLst/>
              <a:gdLst/>
              <a:ahLst/>
              <a:rect l="0" t="0" r="r" b="b"/>
              <a:pathLst>
                <a:path fill="none" w="1611" h="1699">
                  <a:moveTo>
                    <a:pt x="0" y="1699"/>
                  </a:moveTo>
                  <a:lnTo>
                    <a:pt x="1611" y="1699"/>
                  </a:lnTo>
                  <a:lnTo>
                    <a:pt x="1611" y="0"/>
                  </a:lnTo>
                  <a:lnTo>
                    <a:pt x="0" y="0"/>
                  </a:lnTo>
                  <a:lnTo>
                    <a:pt x="0" y="169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 txBox="1"/>
            <p:nvPr/>
          </p:nvSpPr>
          <p:spPr>
            <a:xfrm>
              <a:off x="2513160" y="1122480"/>
              <a:ext cx="398520" cy="19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590400" y="765000"/>
              <a:ext cx="1824480" cy="316440"/>
            </a:xfrm>
            <a:custGeom>
              <a:avLst/>
              <a:gdLst/>
              <a:ahLst/>
              <a:rect l="0" t="0" r="r" b="b"/>
              <a:pathLst>
                <a:path w="5068" h="879">
                  <a:moveTo>
                    <a:pt x="0" y="879"/>
                  </a:moveTo>
                  <a:lnTo>
                    <a:pt x="0" y="0"/>
                  </a:lnTo>
                  <a:lnTo>
                    <a:pt x="5068" y="0"/>
                  </a:lnTo>
                  <a:lnTo>
                    <a:pt x="5068" y="879"/>
                  </a:lnTo>
                  <a:lnTo>
                    <a:pt x="0" y="8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 txBox="1"/>
            <p:nvPr/>
          </p:nvSpPr>
          <p:spPr>
            <a:xfrm>
              <a:off x="623880" y="804960"/>
              <a:ext cx="1836720" cy="303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  <a:ea typeface="Arial"/>
                </a:rPr>
                <a:t>Processor -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8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High Computational Power: 100(80)ns Instruction Cyc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algorithms (short sample times for closed loop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task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Control Oriented Instruction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olean processing / bit-handling an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sk switch / power sa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General Purpose Register Oriented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ing of multiple quasi-parallel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Powerful Addressing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rge address range and powerful addressing modes (H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On-chip RAM, ROM/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very fast Memory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-System reprogrammable Flash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0" name=""/>
          <p:cNvGrpSpPr/>
          <p:nvPr/>
        </p:nvGrpSpPr>
        <p:grpSpPr>
          <a:xfrm>
            <a:off x="201600" y="619200"/>
            <a:ext cx="2860920" cy="444240"/>
            <a:chOff x="201600" y="619200"/>
            <a:chExt cx="2860920" cy="444240"/>
          </a:xfrm>
        </p:grpSpPr>
        <p:sp>
          <p:nvSpPr>
            <p:cNvPr id="3291" name=""/>
            <p:cNvSpPr/>
            <p:nvPr/>
          </p:nvSpPr>
          <p:spPr>
            <a:xfrm>
              <a:off x="201600" y="619200"/>
              <a:ext cx="2748240" cy="373320"/>
            </a:xfrm>
            <a:custGeom>
              <a:avLst/>
              <a:gdLst/>
              <a:ahLst/>
              <a:rect l="0" t="0" r="r" b="b"/>
              <a:pathLst>
                <a:path w="7634" h="1037">
                  <a:moveTo>
                    <a:pt x="0" y="1037"/>
                  </a:moveTo>
                  <a:lnTo>
                    <a:pt x="0" y="0"/>
                  </a:lnTo>
                  <a:lnTo>
                    <a:pt x="7634" y="0"/>
                  </a:lnTo>
                  <a:lnTo>
                    <a:pt x="7634" y="1037"/>
                  </a:lnTo>
                  <a:lnTo>
                    <a:pt x="0" y="10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01600" y="619200"/>
              <a:ext cx="2761200" cy="386280"/>
            </a:xfrm>
            <a:custGeom>
              <a:avLst/>
              <a:gdLst/>
              <a:ahLst/>
              <a:rect l="0" t="0" r="r" b="b"/>
              <a:pathLst>
                <a:path fill="none" w="7670" h="1073">
                  <a:moveTo>
                    <a:pt x="0" y="1073"/>
                  </a:moveTo>
                  <a:lnTo>
                    <a:pt x="7670" y="1073"/>
                  </a:lnTo>
                  <a:lnTo>
                    <a:pt x="7670" y="0"/>
                  </a:lnTo>
                  <a:lnTo>
                    <a:pt x="0" y="0"/>
                  </a:lnTo>
                  <a:lnTo>
                    <a:pt x="0" y="10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289240" y="631800"/>
              <a:ext cx="0" cy="36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 txBox="1"/>
            <p:nvPr/>
          </p:nvSpPr>
          <p:spPr>
            <a:xfrm>
              <a:off x="2505240" y="776160"/>
              <a:ext cx="55728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17480" y="666720"/>
              <a:ext cx="1573560" cy="278280"/>
            </a:xfrm>
            <a:custGeom>
              <a:avLst/>
              <a:gdLst/>
              <a:ahLst/>
              <a:rect l="0" t="0" r="r" b="b"/>
              <a:pathLst>
                <a:path w="4371" h="773">
                  <a:moveTo>
                    <a:pt x="0" y="773"/>
                  </a:moveTo>
                  <a:lnTo>
                    <a:pt x="0" y="0"/>
                  </a:lnTo>
                  <a:lnTo>
                    <a:pt x="4371" y="0"/>
                  </a:lnTo>
                  <a:lnTo>
                    <a:pt x="4371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 txBox="1"/>
            <p:nvPr/>
          </p:nvSpPr>
          <p:spPr>
            <a:xfrm>
              <a:off x="612720" y="677880"/>
              <a:ext cx="1692360" cy="328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  <a:ea typeface="Arial"/>
                </a:rPr>
                <a:t>Interrupt-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7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Extremely Short Interrupt Response Time of 400</a:t>
            </a:r>
            <a:r>
              <a:rPr b="1" lang="en-US" sz="2000" spc="-1" strike="noStrike">
                <a:solidFill>
                  <a:srgbClr val="081d58"/>
                </a:solidFill>
                <a:latin typeface="Arial Narrow"/>
                <a:ea typeface="Arial Narrow"/>
              </a:rPr>
              <a:t>(320)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ns and very low Interrupt Overhead Time of only 600</a:t>
            </a:r>
            <a:r>
              <a:rPr b="1" lang="en-US" sz="2000" spc="-1" strike="noStrike">
                <a:solidFill>
                  <a:srgbClr val="081d58"/>
                </a:solidFill>
                <a:latin typeface="Arial Narrow"/>
                <a:ea typeface="Arial Narrow"/>
              </a:rPr>
              <a:t>(480)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rupt execution in small time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sures highest real-time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Comprehensive Prioritization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y scheduling of complex real-time systems by using up to 64 Priority levels (4 groups within 16 lev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CPU-Independent Interrupt Service via Peripheral Events Controller (P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f-loads the CPU from simple but frequent interrupt-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rupt-driven “DMA-like” data transfer, without task switch of 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kes peripheral data transfers independ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running CPU 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9" name=""/>
          <p:cNvGrpSpPr/>
          <p:nvPr/>
        </p:nvGrpSpPr>
        <p:grpSpPr>
          <a:xfrm>
            <a:off x="235080" y="638280"/>
            <a:ext cx="2727000" cy="1155960"/>
            <a:chOff x="235080" y="638280"/>
            <a:chExt cx="2727000" cy="1155960"/>
          </a:xfrm>
        </p:grpSpPr>
        <p:sp>
          <p:nvSpPr>
            <p:cNvPr id="3300" name=""/>
            <p:cNvSpPr/>
            <p:nvPr/>
          </p:nvSpPr>
          <p:spPr>
            <a:xfrm>
              <a:off x="244440" y="642960"/>
              <a:ext cx="2703960" cy="1141920"/>
            </a:xfrm>
            <a:custGeom>
              <a:avLst/>
              <a:gdLst/>
              <a:ahLst/>
              <a:rect l="0" t="0" r="r" b="b"/>
              <a:pathLst>
                <a:path w="7511" h="3172">
                  <a:moveTo>
                    <a:pt x="0" y="0"/>
                  </a:moveTo>
                  <a:lnTo>
                    <a:pt x="0" y="3172"/>
                  </a:lnTo>
                  <a:lnTo>
                    <a:pt x="7511" y="3172"/>
                  </a:lnTo>
                  <a:lnTo>
                    <a:pt x="7511" y="0"/>
                  </a:lnTo>
                  <a:lnTo>
                    <a:pt x="6600" y="0"/>
                  </a:lnTo>
                  <a:lnTo>
                    <a:pt x="6600" y="961"/>
                  </a:lnTo>
                  <a:lnTo>
                    <a:pt x="915" y="961"/>
                  </a:lnTo>
                  <a:lnTo>
                    <a:pt x="9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36520" y="642960"/>
              <a:ext cx="2715120" cy="1151280"/>
            </a:xfrm>
            <a:custGeom>
              <a:avLst/>
              <a:gdLst/>
              <a:ahLst/>
              <a:rect l="0" t="0" r="r" b="b"/>
              <a:pathLst>
                <a:path fill="none" w="7542" h="3198">
                  <a:moveTo>
                    <a:pt x="0" y="0"/>
                  </a:moveTo>
                  <a:lnTo>
                    <a:pt x="0" y="3198"/>
                  </a:lnTo>
                  <a:lnTo>
                    <a:pt x="7542" y="3198"/>
                  </a:lnTo>
                  <a:lnTo>
                    <a:pt x="7542" y="0"/>
                  </a:lnTo>
                  <a:lnTo>
                    <a:pt x="6627" y="0"/>
                  </a:lnTo>
                  <a:lnTo>
                    <a:pt x="6627" y="968"/>
                  </a:lnTo>
                  <a:lnTo>
                    <a:pt x="919" y="968"/>
                  </a:lnTo>
                  <a:lnTo>
                    <a:pt x="91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295200" y="1008000"/>
              <a:ext cx="2630880" cy="730440"/>
            </a:xfrm>
            <a:custGeom>
              <a:avLst/>
              <a:gdLst/>
              <a:ahLst/>
              <a:rect l="0" t="0" r="r" b="b"/>
              <a:pathLst>
                <a:path w="7308" h="2029">
                  <a:moveTo>
                    <a:pt x="707" y="0"/>
                  </a:moveTo>
                  <a:lnTo>
                    <a:pt x="707" y="1353"/>
                  </a:lnTo>
                  <a:lnTo>
                    <a:pt x="6596" y="1353"/>
                  </a:lnTo>
                  <a:lnTo>
                    <a:pt x="6596" y="0"/>
                  </a:lnTo>
                  <a:lnTo>
                    <a:pt x="7308" y="0"/>
                  </a:lnTo>
                  <a:lnTo>
                    <a:pt x="7308" y="2029"/>
                  </a:lnTo>
                  <a:lnTo>
                    <a:pt x="0" y="2029"/>
                  </a:lnTo>
                  <a:lnTo>
                    <a:pt x="0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95200" y="1008000"/>
              <a:ext cx="2640240" cy="740160"/>
            </a:xfrm>
            <a:custGeom>
              <a:avLst/>
              <a:gdLst/>
              <a:ahLst/>
              <a:rect l="0" t="0" r="r" b="b"/>
              <a:pathLst>
                <a:path fill="none" w="7334" h="2056">
                  <a:moveTo>
                    <a:pt x="710" y="0"/>
                  </a:moveTo>
                  <a:lnTo>
                    <a:pt x="710" y="1370"/>
                  </a:lnTo>
                  <a:lnTo>
                    <a:pt x="6619" y="1370"/>
                  </a:lnTo>
                  <a:lnTo>
                    <a:pt x="6619" y="0"/>
                  </a:lnTo>
                  <a:lnTo>
                    <a:pt x="7334" y="0"/>
                  </a:lnTo>
                  <a:lnTo>
                    <a:pt x="7334" y="2056"/>
                  </a:lnTo>
                  <a:lnTo>
                    <a:pt x="0" y="2056"/>
                  </a:lnTo>
                  <a:lnTo>
                    <a:pt x="0" y="0"/>
                  </a:lnTo>
                  <a:lnTo>
                    <a:pt x="71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678040" y="673200"/>
              <a:ext cx="241560" cy="262440"/>
            </a:xfrm>
            <a:custGeom>
              <a:avLst/>
              <a:gdLst/>
              <a:ahLst/>
              <a:rect l="0" t="0" r="r" b="b"/>
              <a:pathLst>
                <a:path w="671" h="729">
                  <a:moveTo>
                    <a:pt x="0" y="729"/>
                  </a:moveTo>
                  <a:lnTo>
                    <a:pt x="0" y="0"/>
                  </a:lnTo>
                  <a:lnTo>
                    <a:pt x="671" y="0"/>
                  </a:lnTo>
                  <a:lnTo>
                    <a:pt x="671" y="729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678040" y="673200"/>
              <a:ext cx="251280" cy="273240"/>
            </a:xfrm>
            <a:custGeom>
              <a:avLst/>
              <a:gdLst/>
              <a:ahLst/>
              <a:rect l="0" t="0" r="r" b="b"/>
              <a:pathLst>
                <a:path fill="none" w="698" h="759">
                  <a:moveTo>
                    <a:pt x="0" y="759"/>
                  </a:moveTo>
                  <a:lnTo>
                    <a:pt x="698" y="759"/>
                  </a:lnTo>
                  <a:lnTo>
                    <a:pt x="698" y="0"/>
                  </a:lnTo>
                  <a:lnTo>
                    <a:pt x="0" y="0"/>
                  </a:lnTo>
                  <a:lnTo>
                    <a:pt x="0" y="75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 txBox="1"/>
            <p:nvPr/>
          </p:nvSpPr>
          <p:spPr>
            <a:xfrm>
              <a:off x="2624040" y="792000"/>
              <a:ext cx="33804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95200" y="665280"/>
              <a:ext cx="240120" cy="263880"/>
            </a:xfrm>
            <a:custGeom>
              <a:avLst/>
              <a:gdLst/>
              <a:ahLst/>
              <a:rect l="0" t="0" r="r" b="b"/>
              <a:pathLst>
                <a:path w="667" h="733">
                  <a:moveTo>
                    <a:pt x="0" y="733"/>
                  </a:moveTo>
                  <a:lnTo>
                    <a:pt x="0" y="0"/>
                  </a:lnTo>
                  <a:lnTo>
                    <a:pt x="667" y="0"/>
                  </a:lnTo>
                  <a:lnTo>
                    <a:pt x="667" y="733"/>
                  </a:lnTo>
                  <a:lnTo>
                    <a:pt x="0" y="7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95200" y="665280"/>
              <a:ext cx="249480" cy="273240"/>
            </a:xfrm>
            <a:custGeom>
              <a:avLst/>
              <a:gdLst/>
              <a:ahLst/>
              <a:rect l="0" t="0" r="r" b="b"/>
              <a:pathLst>
                <a:path fill="none" w="693" h="759">
                  <a:moveTo>
                    <a:pt x="0" y="759"/>
                  </a:moveTo>
                  <a:lnTo>
                    <a:pt x="693" y="759"/>
                  </a:lnTo>
                  <a:lnTo>
                    <a:pt x="693" y="0"/>
                  </a:lnTo>
                  <a:lnTo>
                    <a:pt x="0" y="0"/>
                  </a:lnTo>
                  <a:lnTo>
                    <a:pt x="0" y="75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 txBox="1"/>
            <p:nvPr/>
          </p:nvSpPr>
          <p:spPr>
            <a:xfrm>
              <a:off x="247680" y="792000"/>
              <a:ext cx="34920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SC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 txBox="1"/>
            <p:nvPr/>
          </p:nvSpPr>
          <p:spPr>
            <a:xfrm>
              <a:off x="235080" y="1616040"/>
              <a:ext cx="41292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633240" y="1036800"/>
              <a:ext cx="1964160" cy="386280"/>
            </a:xfrm>
            <a:custGeom>
              <a:avLst/>
              <a:gdLst/>
              <a:ahLst/>
              <a:rect l="0" t="0" r="r" b="b"/>
              <a:pathLst>
                <a:path w="5456" h="1073">
                  <a:moveTo>
                    <a:pt x="0" y="1073"/>
                  </a:moveTo>
                  <a:lnTo>
                    <a:pt x="0" y="0"/>
                  </a:lnTo>
                  <a:lnTo>
                    <a:pt x="5456" y="0"/>
                  </a:lnTo>
                  <a:lnTo>
                    <a:pt x="5456" y="1073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633240" y="1036800"/>
              <a:ext cx="1973520" cy="395640"/>
            </a:xfrm>
            <a:custGeom>
              <a:avLst/>
              <a:gdLst/>
              <a:ahLst/>
              <a:rect l="0" t="0" r="r" b="b"/>
              <a:pathLst>
                <a:path fill="none" w="5482" h="1099">
                  <a:moveTo>
                    <a:pt x="0" y="1099"/>
                  </a:moveTo>
                  <a:lnTo>
                    <a:pt x="5482" y="1099"/>
                  </a:lnTo>
                  <a:lnTo>
                    <a:pt x="5482" y="0"/>
                  </a:lnTo>
                  <a:lnTo>
                    <a:pt x="0" y="0"/>
                  </a:lnTo>
                  <a:lnTo>
                    <a:pt x="0" y="109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 txBox="1"/>
            <p:nvPr/>
          </p:nvSpPr>
          <p:spPr>
            <a:xfrm>
              <a:off x="2050920" y="1039680"/>
              <a:ext cx="47628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CO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 txBox="1"/>
            <p:nvPr/>
          </p:nvSpPr>
          <p:spPr>
            <a:xfrm>
              <a:off x="1309680" y="1165320"/>
              <a:ext cx="33192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1341360" y="1036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1019160" y="1036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 txBox="1"/>
            <p:nvPr/>
          </p:nvSpPr>
          <p:spPr>
            <a:xfrm>
              <a:off x="601560" y="1104840"/>
              <a:ext cx="31428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 txBox="1"/>
            <p:nvPr/>
          </p:nvSpPr>
          <p:spPr>
            <a:xfrm>
              <a:off x="601560" y="1160640"/>
              <a:ext cx="41904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 txBox="1"/>
            <p:nvPr/>
          </p:nvSpPr>
          <p:spPr>
            <a:xfrm>
              <a:off x="601560" y="1042920"/>
              <a:ext cx="30960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1360440" y="1069920"/>
              <a:ext cx="300240" cy="71640"/>
            </a:xfrm>
            <a:custGeom>
              <a:avLst/>
              <a:gdLst/>
              <a:ahLst/>
              <a:rect l="0" t="0" r="r" b="b"/>
              <a:pathLst>
                <a:path w="834" h="199">
                  <a:moveTo>
                    <a:pt x="0" y="199"/>
                  </a:moveTo>
                  <a:lnTo>
                    <a:pt x="0" y="0"/>
                  </a:lnTo>
                  <a:lnTo>
                    <a:pt x="834" y="0"/>
                  </a:lnTo>
                  <a:lnTo>
                    <a:pt x="834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 txBox="1"/>
            <p:nvPr/>
          </p:nvSpPr>
          <p:spPr>
            <a:xfrm>
              <a:off x="1281240" y="1039680"/>
              <a:ext cx="41292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AR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1800360" y="1076400"/>
              <a:ext cx="227520" cy="65520"/>
            </a:xfrm>
            <a:custGeom>
              <a:avLst/>
              <a:gdLst/>
              <a:ahLst/>
              <a:rect l="0" t="0" r="r" b="b"/>
              <a:pathLst>
                <a:path w="632" h="182">
                  <a:moveTo>
                    <a:pt x="0" y="182"/>
                  </a:moveTo>
                  <a:lnTo>
                    <a:pt x="0" y="0"/>
                  </a:lnTo>
                  <a:lnTo>
                    <a:pt x="632" y="0"/>
                  </a:lnTo>
                  <a:lnTo>
                    <a:pt x="632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 txBox="1"/>
            <p:nvPr/>
          </p:nvSpPr>
          <p:spPr>
            <a:xfrm>
              <a:off x="1703520" y="1030320"/>
              <a:ext cx="35892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PT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698400" y="1274760"/>
              <a:ext cx="1805400" cy="360720"/>
            </a:xfrm>
            <a:custGeom>
              <a:avLst/>
              <a:gdLst/>
              <a:ahLst/>
              <a:rect l="0" t="0" r="r" b="b"/>
              <a:pathLst>
                <a:path w="5015" h="1002">
                  <a:moveTo>
                    <a:pt x="0" y="1002"/>
                  </a:moveTo>
                  <a:lnTo>
                    <a:pt x="0" y="0"/>
                  </a:lnTo>
                  <a:lnTo>
                    <a:pt x="5015" y="0"/>
                  </a:lnTo>
                  <a:lnTo>
                    <a:pt x="5015" y="1002"/>
                  </a:lnTo>
                  <a:lnTo>
                    <a:pt x="0" y="10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 txBox="1"/>
            <p:nvPr/>
          </p:nvSpPr>
          <p:spPr>
            <a:xfrm>
              <a:off x="674640" y="1392120"/>
              <a:ext cx="17557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  <a:ea typeface="Arial"/>
                </a:rPr>
                <a:t>Peripheral-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39760" y="638280"/>
              <a:ext cx="33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 txBox="1"/>
            <p:nvPr/>
          </p:nvSpPr>
          <p:spPr>
            <a:xfrm>
              <a:off x="1555920" y="1160640"/>
              <a:ext cx="84312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nc Communic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 txBox="1"/>
            <p:nvPr/>
          </p:nvSpPr>
          <p:spPr>
            <a:xfrm>
              <a:off x="2289240" y="1160640"/>
              <a:ext cx="34920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W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 txBox="1"/>
            <p:nvPr/>
          </p:nvSpPr>
          <p:spPr>
            <a:xfrm>
              <a:off x="961920" y="1038240"/>
              <a:ext cx="37800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X-Bu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 txBox="1"/>
            <p:nvPr/>
          </p:nvSpPr>
          <p:spPr>
            <a:xfrm>
              <a:off x="958680" y="1123920"/>
              <a:ext cx="45072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rl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1" name=""/>
          <p:cNvSpPr txBox="1"/>
          <p:nvPr/>
        </p:nvSpPr>
        <p:spPr>
          <a:xfrm>
            <a:off x="304920" y="2239920"/>
            <a:ext cx="852480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Multi-functional Timer/Counter Units (5 Timers / Counters) with Complex Concatenat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Comprehensive 16/32 Channel Capture/Compare Unit with 2/4 Allocatable Time-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10-bit Multi-Functional A/D-Converter for Fast Data Acquisition in Contro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3" name=""/>
          <p:cNvGrpSpPr/>
          <p:nvPr/>
        </p:nvGrpSpPr>
        <p:grpSpPr>
          <a:xfrm>
            <a:off x="235080" y="638280"/>
            <a:ext cx="2727000" cy="1155960"/>
            <a:chOff x="235080" y="638280"/>
            <a:chExt cx="2727000" cy="1155960"/>
          </a:xfrm>
        </p:grpSpPr>
        <p:sp>
          <p:nvSpPr>
            <p:cNvPr id="3334" name=""/>
            <p:cNvSpPr/>
            <p:nvPr/>
          </p:nvSpPr>
          <p:spPr>
            <a:xfrm>
              <a:off x="244440" y="642960"/>
              <a:ext cx="2703960" cy="1141920"/>
            </a:xfrm>
            <a:custGeom>
              <a:avLst/>
              <a:gdLst/>
              <a:ahLst/>
              <a:rect l="0" t="0" r="r" b="b"/>
              <a:pathLst>
                <a:path w="7511" h="3172">
                  <a:moveTo>
                    <a:pt x="0" y="0"/>
                  </a:moveTo>
                  <a:lnTo>
                    <a:pt x="0" y="3172"/>
                  </a:lnTo>
                  <a:lnTo>
                    <a:pt x="7511" y="3172"/>
                  </a:lnTo>
                  <a:lnTo>
                    <a:pt x="7511" y="0"/>
                  </a:lnTo>
                  <a:lnTo>
                    <a:pt x="6600" y="0"/>
                  </a:lnTo>
                  <a:lnTo>
                    <a:pt x="6600" y="961"/>
                  </a:lnTo>
                  <a:lnTo>
                    <a:pt x="915" y="961"/>
                  </a:lnTo>
                  <a:lnTo>
                    <a:pt x="9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36520" y="642960"/>
              <a:ext cx="2715120" cy="1151280"/>
            </a:xfrm>
            <a:custGeom>
              <a:avLst/>
              <a:gdLst/>
              <a:ahLst/>
              <a:rect l="0" t="0" r="r" b="b"/>
              <a:pathLst>
                <a:path fill="none" w="7542" h="3198">
                  <a:moveTo>
                    <a:pt x="0" y="0"/>
                  </a:moveTo>
                  <a:lnTo>
                    <a:pt x="0" y="3198"/>
                  </a:lnTo>
                  <a:lnTo>
                    <a:pt x="7542" y="3198"/>
                  </a:lnTo>
                  <a:lnTo>
                    <a:pt x="7542" y="0"/>
                  </a:lnTo>
                  <a:lnTo>
                    <a:pt x="6627" y="0"/>
                  </a:lnTo>
                  <a:lnTo>
                    <a:pt x="6627" y="968"/>
                  </a:lnTo>
                  <a:lnTo>
                    <a:pt x="919" y="968"/>
                  </a:lnTo>
                  <a:lnTo>
                    <a:pt x="91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295200" y="1008000"/>
              <a:ext cx="2630880" cy="730440"/>
            </a:xfrm>
            <a:custGeom>
              <a:avLst/>
              <a:gdLst/>
              <a:ahLst/>
              <a:rect l="0" t="0" r="r" b="b"/>
              <a:pathLst>
                <a:path w="7308" h="2029">
                  <a:moveTo>
                    <a:pt x="707" y="0"/>
                  </a:moveTo>
                  <a:lnTo>
                    <a:pt x="707" y="1353"/>
                  </a:lnTo>
                  <a:lnTo>
                    <a:pt x="6596" y="1353"/>
                  </a:lnTo>
                  <a:lnTo>
                    <a:pt x="6596" y="0"/>
                  </a:lnTo>
                  <a:lnTo>
                    <a:pt x="7308" y="0"/>
                  </a:lnTo>
                  <a:lnTo>
                    <a:pt x="7308" y="2029"/>
                  </a:lnTo>
                  <a:lnTo>
                    <a:pt x="0" y="2029"/>
                  </a:lnTo>
                  <a:lnTo>
                    <a:pt x="0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95200" y="1008000"/>
              <a:ext cx="2640240" cy="740160"/>
            </a:xfrm>
            <a:custGeom>
              <a:avLst/>
              <a:gdLst/>
              <a:ahLst/>
              <a:rect l="0" t="0" r="r" b="b"/>
              <a:pathLst>
                <a:path fill="none" w="7334" h="2056">
                  <a:moveTo>
                    <a:pt x="710" y="0"/>
                  </a:moveTo>
                  <a:lnTo>
                    <a:pt x="710" y="1370"/>
                  </a:lnTo>
                  <a:lnTo>
                    <a:pt x="6619" y="1370"/>
                  </a:lnTo>
                  <a:lnTo>
                    <a:pt x="6619" y="0"/>
                  </a:lnTo>
                  <a:lnTo>
                    <a:pt x="7334" y="0"/>
                  </a:lnTo>
                  <a:lnTo>
                    <a:pt x="7334" y="2056"/>
                  </a:lnTo>
                  <a:lnTo>
                    <a:pt x="0" y="2056"/>
                  </a:lnTo>
                  <a:lnTo>
                    <a:pt x="0" y="0"/>
                  </a:lnTo>
                  <a:lnTo>
                    <a:pt x="71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678040" y="673200"/>
              <a:ext cx="241560" cy="262440"/>
            </a:xfrm>
            <a:custGeom>
              <a:avLst/>
              <a:gdLst/>
              <a:ahLst/>
              <a:rect l="0" t="0" r="r" b="b"/>
              <a:pathLst>
                <a:path w="671" h="729">
                  <a:moveTo>
                    <a:pt x="0" y="729"/>
                  </a:moveTo>
                  <a:lnTo>
                    <a:pt x="0" y="0"/>
                  </a:lnTo>
                  <a:lnTo>
                    <a:pt x="671" y="0"/>
                  </a:lnTo>
                  <a:lnTo>
                    <a:pt x="671" y="729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2678040" y="673200"/>
              <a:ext cx="251280" cy="273240"/>
            </a:xfrm>
            <a:custGeom>
              <a:avLst/>
              <a:gdLst/>
              <a:ahLst/>
              <a:rect l="0" t="0" r="r" b="b"/>
              <a:pathLst>
                <a:path fill="none" w="698" h="759">
                  <a:moveTo>
                    <a:pt x="0" y="759"/>
                  </a:moveTo>
                  <a:lnTo>
                    <a:pt x="698" y="759"/>
                  </a:lnTo>
                  <a:lnTo>
                    <a:pt x="698" y="0"/>
                  </a:lnTo>
                  <a:lnTo>
                    <a:pt x="0" y="0"/>
                  </a:lnTo>
                  <a:lnTo>
                    <a:pt x="0" y="75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 txBox="1"/>
            <p:nvPr/>
          </p:nvSpPr>
          <p:spPr>
            <a:xfrm>
              <a:off x="2624040" y="792000"/>
              <a:ext cx="33804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295200" y="665280"/>
              <a:ext cx="240120" cy="263880"/>
            </a:xfrm>
            <a:custGeom>
              <a:avLst/>
              <a:gdLst/>
              <a:ahLst/>
              <a:rect l="0" t="0" r="r" b="b"/>
              <a:pathLst>
                <a:path w="667" h="733">
                  <a:moveTo>
                    <a:pt x="0" y="733"/>
                  </a:moveTo>
                  <a:lnTo>
                    <a:pt x="0" y="0"/>
                  </a:lnTo>
                  <a:lnTo>
                    <a:pt x="667" y="0"/>
                  </a:lnTo>
                  <a:lnTo>
                    <a:pt x="667" y="733"/>
                  </a:lnTo>
                  <a:lnTo>
                    <a:pt x="0" y="7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95200" y="665280"/>
              <a:ext cx="249480" cy="273240"/>
            </a:xfrm>
            <a:custGeom>
              <a:avLst/>
              <a:gdLst/>
              <a:ahLst/>
              <a:rect l="0" t="0" r="r" b="b"/>
              <a:pathLst>
                <a:path fill="none" w="693" h="759">
                  <a:moveTo>
                    <a:pt x="0" y="759"/>
                  </a:moveTo>
                  <a:lnTo>
                    <a:pt x="693" y="759"/>
                  </a:lnTo>
                  <a:lnTo>
                    <a:pt x="693" y="0"/>
                  </a:lnTo>
                  <a:lnTo>
                    <a:pt x="0" y="0"/>
                  </a:lnTo>
                  <a:lnTo>
                    <a:pt x="0" y="75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 txBox="1"/>
            <p:nvPr/>
          </p:nvSpPr>
          <p:spPr>
            <a:xfrm>
              <a:off x="247680" y="792000"/>
              <a:ext cx="34920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SC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 txBox="1"/>
            <p:nvPr/>
          </p:nvSpPr>
          <p:spPr>
            <a:xfrm>
              <a:off x="235080" y="1616040"/>
              <a:ext cx="41292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633240" y="1036800"/>
              <a:ext cx="1964160" cy="386280"/>
            </a:xfrm>
            <a:custGeom>
              <a:avLst/>
              <a:gdLst/>
              <a:ahLst/>
              <a:rect l="0" t="0" r="r" b="b"/>
              <a:pathLst>
                <a:path w="5456" h="1073">
                  <a:moveTo>
                    <a:pt x="0" y="1073"/>
                  </a:moveTo>
                  <a:lnTo>
                    <a:pt x="0" y="0"/>
                  </a:lnTo>
                  <a:lnTo>
                    <a:pt x="5456" y="0"/>
                  </a:lnTo>
                  <a:lnTo>
                    <a:pt x="5456" y="1073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633240" y="1036800"/>
              <a:ext cx="1973520" cy="395640"/>
            </a:xfrm>
            <a:custGeom>
              <a:avLst/>
              <a:gdLst/>
              <a:ahLst/>
              <a:rect l="0" t="0" r="r" b="b"/>
              <a:pathLst>
                <a:path fill="none" w="5482" h="1099">
                  <a:moveTo>
                    <a:pt x="0" y="1099"/>
                  </a:moveTo>
                  <a:lnTo>
                    <a:pt x="5482" y="1099"/>
                  </a:lnTo>
                  <a:lnTo>
                    <a:pt x="5482" y="0"/>
                  </a:lnTo>
                  <a:lnTo>
                    <a:pt x="0" y="0"/>
                  </a:lnTo>
                  <a:lnTo>
                    <a:pt x="0" y="109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 txBox="1"/>
            <p:nvPr/>
          </p:nvSpPr>
          <p:spPr>
            <a:xfrm>
              <a:off x="2050920" y="1039680"/>
              <a:ext cx="47628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CO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 txBox="1"/>
            <p:nvPr/>
          </p:nvSpPr>
          <p:spPr>
            <a:xfrm>
              <a:off x="1309680" y="1165320"/>
              <a:ext cx="33192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1341360" y="1036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1019160" y="1036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 txBox="1"/>
            <p:nvPr/>
          </p:nvSpPr>
          <p:spPr>
            <a:xfrm>
              <a:off x="601560" y="1104840"/>
              <a:ext cx="31428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 txBox="1"/>
            <p:nvPr/>
          </p:nvSpPr>
          <p:spPr>
            <a:xfrm>
              <a:off x="601560" y="1160640"/>
              <a:ext cx="41904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 txBox="1"/>
            <p:nvPr/>
          </p:nvSpPr>
          <p:spPr>
            <a:xfrm>
              <a:off x="601560" y="1042920"/>
              <a:ext cx="30960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1360440" y="1069920"/>
              <a:ext cx="300240" cy="71640"/>
            </a:xfrm>
            <a:custGeom>
              <a:avLst/>
              <a:gdLst/>
              <a:ahLst/>
              <a:rect l="0" t="0" r="r" b="b"/>
              <a:pathLst>
                <a:path w="834" h="199">
                  <a:moveTo>
                    <a:pt x="0" y="199"/>
                  </a:moveTo>
                  <a:lnTo>
                    <a:pt x="0" y="0"/>
                  </a:lnTo>
                  <a:lnTo>
                    <a:pt x="834" y="0"/>
                  </a:lnTo>
                  <a:lnTo>
                    <a:pt x="834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 txBox="1"/>
            <p:nvPr/>
          </p:nvSpPr>
          <p:spPr>
            <a:xfrm>
              <a:off x="1281240" y="1039680"/>
              <a:ext cx="41292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AR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1800360" y="1076400"/>
              <a:ext cx="227520" cy="65520"/>
            </a:xfrm>
            <a:custGeom>
              <a:avLst/>
              <a:gdLst/>
              <a:ahLst/>
              <a:rect l="0" t="0" r="r" b="b"/>
              <a:pathLst>
                <a:path w="632" h="182">
                  <a:moveTo>
                    <a:pt x="0" y="182"/>
                  </a:moveTo>
                  <a:lnTo>
                    <a:pt x="0" y="0"/>
                  </a:lnTo>
                  <a:lnTo>
                    <a:pt x="632" y="0"/>
                  </a:lnTo>
                  <a:lnTo>
                    <a:pt x="632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 txBox="1"/>
            <p:nvPr/>
          </p:nvSpPr>
          <p:spPr>
            <a:xfrm>
              <a:off x="1703520" y="1030320"/>
              <a:ext cx="35892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PT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698400" y="1274760"/>
              <a:ext cx="1805400" cy="360720"/>
            </a:xfrm>
            <a:custGeom>
              <a:avLst/>
              <a:gdLst/>
              <a:ahLst/>
              <a:rect l="0" t="0" r="r" b="b"/>
              <a:pathLst>
                <a:path w="5015" h="1002">
                  <a:moveTo>
                    <a:pt x="0" y="1002"/>
                  </a:moveTo>
                  <a:lnTo>
                    <a:pt x="0" y="0"/>
                  </a:lnTo>
                  <a:lnTo>
                    <a:pt x="5015" y="0"/>
                  </a:lnTo>
                  <a:lnTo>
                    <a:pt x="5015" y="1002"/>
                  </a:lnTo>
                  <a:lnTo>
                    <a:pt x="0" y="10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 txBox="1"/>
            <p:nvPr/>
          </p:nvSpPr>
          <p:spPr>
            <a:xfrm>
              <a:off x="674640" y="1392120"/>
              <a:ext cx="17557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  <a:ea typeface="Arial"/>
                </a:rPr>
                <a:t>Peripheral-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239760" y="638280"/>
              <a:ext cx="33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 txBox="1"/>
            <p:nvPr/>
          </p:nvSpPr>
          <p:spPr>
            <a:xfrm>
              <a:off x="1555920" y="1160640"/>
              <a:ext cx="84312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nc Communic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 txBox="1"/>
            <p:nvPr/>
          </p:nvSpPr>
          <p:spPr>
            <a:xfrm>
              <a:off x="2289240" y="1160640"/>
              <a:ext cx="34920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W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 txBox="1"/>
            <p:nvPr/>
          </p:nvSpPr>
          <p:spPr>
            <a:xfrm>
              <a:off x="961920" y="1038240"/>
              <a:ext cx="37800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X-Bu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 txBox="1"/>
            <p:nvPr/>
          </p:nvSpPr>
          <p:spPr>
            <a:xfrm>
              <a:off x="958680" y="1123920"/>
              <a:ext cx="45072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rl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5" name=""/>
          <p:cNvSpPr txBox="1"/>
          <p:nvPr/>
        </p:nvSpPr>
        <p:spPr>
          <a:xfrm>
            <a:off x="304920" y="2133720"/>
            <a:ext cx="8524800" cy="36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Bi-directional, Protected and Individually Programmable External Port-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Serial Communicatio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asynchronous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synchronous communication in master- &amp; slave-mode (S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Easy Adaptation to Special Application or Customer Requirements via Internal X-BUS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-Bus, Profibus, SS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"/>
          <p:cNvSpPr txBox="1"/>
          <p:nvPr/>
        </p:nvSpPr>
        <p:spPr>
          <a:xfrm>
            <a:off x="304920" y="1981080"/>
            <a:ext cx="85248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User-Friendly and Effective Programming with HLL and Assemb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- Compi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ul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embler, Linker, Locator, and Librarian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l-time Operating-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Easy 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HDL Simulator and Board-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-End Real-time In-Circuit-Emu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ion Boards with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Available on PC, UNIX and VAX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Developm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8" name=""/>
          <p:cNvGrpSpPr/>
          <p:nvPr/>
        </p:nvGrpSpPr>
        <p:grpSpPr>
          <a:xfrm>
            <a:off x="477720" y="777960"/>
            <a:ext cx="682920" cy="765360"/>
            <a:chOff x="477720" y="777960"/>
            <a:chExt cx="682920" cy="765360"/>
          </a:xfrm>
        </p:grpSpPr>
        <p:sp>
          <p:nvSpPr>
            <p:cNvPr id="3369" name=""/>
            <p:cNvSpPr/>
            <p:nvPr/>
          </p:nvSpPr>
          <p:spPr>
            <a:xfrm>
              <a:off x="477720" y="777960"/>
              <a:ext cx="660600" cy="743400"/>
            </a:xfrm>
            <a:custGeom>
              <a:avLst/>
              <a:gdLst/>
              <a:ahLst/>
              <a:rect l="0" t="0" r="r" b="b"/>
              <a:pathLst>
                <a:path w="1835" h="2065">
                  <a:moveTo>
                    <a:pt x="0" y="2065"/>
                  </a:moveTo>
                  <a:lnTo>
                    <a:pt x="0" y="0"/>
                  </a:lnTo>
                  <a:lnTo>
                    <a:pt x="1835" y="0"/>
                  </a:lnTo>
                  <a:lnTo>
                    <a:pt x="1835" y="2065"/>
                  </a:lnTo>
                  <a:lnTo>
                    <a:pt x="0" y="20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477720" y="777960"/>
              <a:ext cx="682920" cy="765360"/>
            </a:xfrm>
            <a:custGeom>
              <a:avLst/>
              <a:gdLst/>
              <a:ahLst/>
              <a:rect l="0" t="0" r="r" b="b"/>
              <a:pathLst>
                <a:path fill="none" w="1897" h="2126">
                  <a:moveTo>
                    <a:pt x="0" y="2126"/>
                  </a:moveTo>
                  <a:lnTo>
                    <a:pt x="1897" y="2126"/>
                  </a:lnTo>
                  <a:lnTo>
                    <a:pt x="1897" y="0"/>
                  </a:lnTo>
                  <a:lnTo>
                    <a:pt x="0" y="0"/>
                  </a:lnTo>
                  <a:lnTo>
                    <a:pt x="0" y="212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698400" y="1025640"/>
              <a:ext cx="214560" cy="243360"/>
            </a:xfrm>
            <a:custGeom>
              <a:avLst/>
              <a:gdLst/>
              <a:ahLst/>
              <a:rect l="0" t="0" r="r" b="b"/>
              <a:pathLst>
                <a:path w="596" h="676">
                  <a:moveTo>
                    <a:pt x="596" y="347"/>
                  </a:moveTo>
                  <a:lnTo>
                    <a:pt x="596" y="309"/>
                  </a:lnTo>
                  <a:lnTo>
                    <a:pt x="596" y="280"/>
                  </a:lnTo>
                  <a:lnTo>
                    <a:pt x="586" y="261"/>
                  </a:lnTo>
                  <a:lnTo>
                    <a:pt x="586" y="232"/>
                  </a:lnTo>
                  <a:lnTo>
                    <a:pt x="577" y="203"/>
                  </a:lnTo>
                  <a:lnTo>
                    <a:pt x="558" y="184"/>
                  </a:lnTo>
                  <a:lnTo>
                    <a:pt x="549" y="154"/>
                  </a:lnTo>
                  <a:lnTo>
                    <a:pt x="539" y="134"/>
                  </a:lnTo>
                  <a:lnTo>
                    <a:pt x="520" y="106"/>
                  </a:lnTo>
                  <a:lnTo>
                    <a:pt x="501" y="86"/>
                  </a:lnTo>
                  <a:lnTo>
                    <a:pt x="482" y="77"/>
                  </a:lnTo>
                  <a:lnTo>
                    <a:pt x="464" y="57"/>
                  </a:lnTo>
                  <a:lnTo>
                    <a:pt x="445" y="48"/>
                  </a:lnTo>
                  <a:lnTo>
                    <a:pt x="416" y="38"/>
                  </a:lnTo>
                  <a:lnTo>
                    <a:pt x="397" y="28"/>
                  </a:lnTo>
                  <a:lnTo>
                    <a:pt x="369" y="9"/>
                  </a:lnTo>
                  <a:lnTo>
                    <a:pt x="350" y="0"/>
                  </a:lnTo>
                  <a:lnTo>
                    <a:pt x="322" y="0"/>
                  </a:lnTo>
                  <a:lnTo>
                    <a:pt x="303" y="0"/>
                  </a:lnTo>
                  <a:lnTo>
                    <a:pt x="274" y="0"/>
                  </a:lnTo>
                  <a:lnTo>
                    <a:pt x="245" y="0"/>
                  </a:lnTo>
                  <a:lnTo>
                    <a:pt x="226" y="9"/>
                  </a:lnTo>
                  <a:lnTo>
                    <a:pt x="198" y="28"/>
                  </a:lnTo>
                  <a:lnTo>
                    <a:pt x="179" y="38"/>
                  </a:lnTo>
                  <a:lnTo>
                    <a:pt x="151" y="48"/>
                  </a:lnTo>
                  <a:lnTo>
                    <a:pt x="132" y="57"/>
                  </a:lnTo>
                  <a:lnTo>
                    <a:pt x="113" y="77"/>
                  </a:lnTo>
                  <a:lnTo>
                    <a:pt x="94" y="86"/>
                  </a:lnTo>
                  <a:lnTo>
                    <a:pt x="75" y="106"/>
                  </a:lnTo>
                  <a:lnTo>
                    <a:pt x="56" y="134"/>
                  </a:lnTo>
                  <a:lnTo>
                    <a:pt x="47" y="154"/>
                  </a:lnTo>
                  <a:lnTo>
                    <a:pt x="37" y="184"/>
                  </a:lnTo>
                  <a:lnTo>
                    <a:pt x="18" y="203"/>
                  </a:lnTo>
                  <a:lnTo>
                    <a:pt x="9" y="232"/>
                  </a:lnTo>
                  <a:lnTo>
                    <a:pt x="9" y="261"/>
                  </a:lnTo>
                  <a:lnTo>
                    <a:pt x="0" y="280"/>
                  </a:lnTo>
                  <a:lnTo>
                    <a:pt x="0" y="309"/>
                  </a:lnTo>
                  <a:lnTo>
                    <a:pt x="0" y="347"/>
                  </a:lnTo>
                  <a:lnTo>
                    <a:pt x="0" y="367"/>
                  </a:lnTo>
                  <a:lnTo>
                    <a:pt x="0" y="396"/>
                  </a:lnTo>
                  <a:lnTo>
                    <a:pt x="9" y="415"/>
                  </a:lnTo>
                  <a:lnTo>
                    <a:pt x="9" y="454"/>
                  </a:lnTo>
                  <a:lnTo>
                    <a:pt x="18" y="473"/>
                  </a:lnTo>
                  <a:lnTo>
                    <a:pt x="37" y="492"/>
                  </a:lnTo>
                  <a:lnTo>
                    <a:pt x="47" y="532"/>
                  </a:lnTo>
                  <a:lnTo>
                    <a:pt x="56" y="551"/>
                  </a:lnTo>
                  <a:lnTo>
                    <a:pt x="75" y="570"/>
                  </a:lnTo>
                  <a:lnTo>
                    <a:pt x="94" y="589"/>
                  </a:lnTo>
                  <a:lnTo>
                    <a:pt x="113" y="599"/>
                  </a:lnTo>
                  <a:lnTo>
                    <a:pt x="132" y="618"/>
                  </a:lnTo>
                  <a:lnTo>
                    <a:pt x="151" y="638"/>
                  </a:lnTo>
                  <a:lnTo>
                    <a:pt x="179" y="647"/>
                  </a:lnTo>
                  <a:lnTo>
                    <a:pt x="198" y="657"/>
                  </a:lnTo>
                  <a:lnTo>
                    <a:pt x="226" y="667"/>
                  </a:lnTo>
                  <a:lnTo>
                    <a:pt x="245" y="676"/>
                  </a:lnTo>
                  <a:lnTo>
                    <a:pt x="274" y="676"/>
                  </a:lnTo>
                  <a:lnTo>
                    <a:pt x="303" y="676"/>
                  </a:lnTo>
                  <a:lnTo>
                    <a:pt x="322" y="676"/>
                  </a:lnTo>
                  <a:lnTo>
                    <a:pt x="350" y="676"/>
                  </a:lnTo>
                  <a:lnTo>
                    <a:pt x="369" y="667"/>
                  </a:lnTo>
                  <a:lnTo>
                    <a:pt x="397" y="657"/>
                  </a:lnTo>
                  <a:lnTo>
                    <a:pt x="416" y="647"/>
                  </a:lnTo>
                  <a:lnTo>
                    <a:pt x="445" y="638"/>
                  </a:lnTo>
                  <a:lnTo>
                    <a:pt x="464" y="618"/>
                  </a:lnTo>
                  <a:lnTo>
                    <a:pt x="482" y="599"/>
                  </a:lnTo>
                  <a:lnTo>
                    <a:pt x="501" y="589"/>
                  </a:lnTo>
                  <a:lnTo>
                    <a:pt x="520" y="570"/>
                  </a:lnTo>
                  <a:lnTo>
                    <a:pt x="539" y="551"/>
                  </a:lnTo>
                  <a:lnTo>
                    <a:pt x="549" y="532"/>
                  </a:lnTo>
                  <a:lnTo>
                    <a:pt x="558" y="492"/>
                  </a:lnTo>
                  <a:lnTo>
                    <a:pt x="577" y="473"/>
                  </a:lnTo>
                  <a:lnTo>
                    <a:pt x="586" y="454"/>
                  </a:lnTo>
                  <a:lnTo>
                    <a:pt x="586" y="415"/>
                  </a:lnTo>
                  <a:lnTo>
                    <a:pt x="596" y="396"/>
                  </a:lnTo>
                  <a:lnTo>
                    <a:pt x="596" y="367"/>
                  </a:lnTo>
                  <a:lnTo>
                    <a:pt x="596" y="347"/>
                  </a:lnTo>
                  <a:lnTo>
                    <a:pt x="303" y="347"/>
                  </a:lnTo>
                  <a:lnTo>
                    <a:pt x="596" y="347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03440" y="1028880"/>
              <a:ext cx="209520" cy="239760"/>
            </a:xfrm>
            <a:prstGeom prst="ellipse">
              <a:avLst/>
            </a:prstGeom>
            <a:solidFill>
              <a:srgbClr val="84848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31880" y="1063800"/>
              <a:ext cx="147960" cy="167040"/>
            </a:xfrm>
            <a:custGeom>
              <a:avLst/>
              <a:gdLst/>
              <a:ahLst/>
              <a:rect l="0" t="0" r="r" b="b"/>
              <a:pathLst>
                <a:path w="411" h="464">
                  <a:moveTo>
                    <a:pt x="411" y="241"/>
                  </a:moveTo>
                  <a:lnTo>
                    <a:pt x="411" y="203"/>
                  </a:lnTo>
                  <a:lnTo>
                    <a:pt x="401" y="185"/>
                  </a:lnTo>
                  <a:lnTo>
                    <a:pt x="401" y="166"/>
                  </a:lnTo>
                  <a:lnTo>
                    <a:pt x="392" y="148"/>
                  </a:lnTo>
                  <a:lnTo>
                    <a:pt x="383" y="129"/>
                  </a:lnTo>
                  <a:lnTo>
                    <a:pt x="374" y="101"/>
                  </a:lnTo>
                  <a:lnTo>
                    <a:pt x="365" y="83"/>
                  </a:lnTo>
                  <a:lnTo>
                    <a:pt x="347" y="74"/>
                  </a:lnTo>
                  <a:lnTo>
                    <a:pt x="338" y="55"/>
                  </a:lnTo>
                  <a:lnTo>
                    <a:pt x="319" y="46"/>
                  </a:lnTo>
                  <a:lnTo>
                    <a:pt x="301" y="37"/>
                  </a:lnTo>
                  <a:lnTo>
                    <a:pt x="283" y="27"/>
                  </a:lnTo>
                  <a:lnTo>
                    <a:pt x="265" y="9"/>
                  </a:lnTo>
                  <a:lnTo>
                    <a:pt x="247" y="9"/>
                  </a:lnTo>
                  <a:lnTo>
                    <a:pt x="228" y="0"/>
                  </a:lnTo>
                  <a:lnTo>
                    <a:pt x="210" y="0"/>
                  </a:lnTo>
                  <a:lnTo>
                    <a:pt x="182" y="0"/>
                  </a:lnTo>
                  <a:lnTo>
                    <a:pt x="164" y="9"/>
                  </a:lnTo>
                  <a:lnTo>
                    <a:pt x="145" y="9"/>
                  </a:lnTo>
                  <a:lnTo>
                    <a:pt x="127" y="27"/>
                  </a:lnTo>
                  <a:lnTo>
                    <a:pt x="109" y="37"/>
                  </a:lnTo>
                  <a:lnTo>
                    <a:pt x="91" y="46"/>
                  </a:lnTo>
                  <a:lnTo>
                    <a:pt x="72" y="55"/>
                  </a:lnTo>
                  <a:lnTo>
                    <a:pt x="63" y="74"/>
                  </a:lnTo>
                  <a:lnTo>
                    <a:pt x="45" y="83"/>
                  </a:lnTo>
                  <a:lnTo>
                    <a:pt x="36" y="101"/>
                  </a:lnTo>
                  <a:lnTo>
                    <a:pt x="27" y="129"/>
                  </a:lnTo>
                  <a:lnTo>
                    <a:pt x="18" y="148"/>
                  </a:lnTo>
                  <a:lnTo>
                    <a:pt x="9" y="166"/>
                  </a:lnTo>
                  <a:lnTo>
                    <a:pt x="9" y="185"/>
                  </a:lnTo>
                  <a:lnTo>
                    <a:pt x="0" y="203"/>
                  </a:lnTo>
                  <a:lnTo>
                    <a:pt x="0" y="241"/>
                  </a:lnTo>
                  <a:lnTo>
                    <a:pt x="0" y="260"/>
                  </a:lnTo>
                  <a:lnTo>
                    <a:pt x="9" y="278"/>
                  </a:lnTo>
                  <a:lnTo>
                    <a:pt x="9" y="297"/>
                  </a:lnTo>
                  <a:lnTo>
                    <a:pt x="18" y="325"/>
                  </a:lnTo>
                  <a:lnTo>
                    <a:pt x="27" y="343"/>
                  </a:lnTo>
                  <a:lnTo>
                    <a:pt x="36" y="362"/>
                  </a:lnTo>
                  <a:lnTo>
                    <a:pt x="45" y="380"/>
                  </a:lnTo>
                  <a:lnTo>
                    <a:pt x="63" y="389"/>
                  </a:lnTo>
                  <a:lnTo>
                    <a:pt x="72" y="417"/>
                  </a:lnTo>
                  <a:lnTo>
                    <a:pt x="91" y="426"/>
                  </a:lnTo>
                  <a:lnTo>
                    <a:pt x="109" y="436"/>
                  </a:lnTo>
                  <a:lnTo>
                    <a:pt x="127" y="445"/>
                  </a:lnTo>
                  <a:lnTo>
                    <a:pt x="145" y="454"/>
                  </a:lnTo>
                  <a:lnTo>
                    <a:pt x="164" y="454"/>
                  </a:lnTo>
                  <a:lnTo>
                    <a:pt x="182" y="464"/>
                  </a:lnTo>
                  <a:lnTo>
                    <a:pt x="210" y="464"/>
                  </a:lnTo>
                  <a:lnTo>
                    <a:pt x="228" y="464"/>
                  </a:lnTo>
                  <a:lnTo>
                    <a:pt x="247" y="454"/>
                  </a:lnTo>
                  <a:lnTo>
                    <a:pt x="265" y="454"/>
                  </a:lnTo>
                  <a:lnTo>
                    <a:pt x="283" y="445"/>
                  </a:lnTo>
                  <a:lnTo>
                    <a:pt x="301" y="436"/>
                  </a:lnTo>
                  <a:lnTo>
                    <a:pt x="319" y="426"/>
                  </a:lnTo>
                  <a:lnTo>
                    <a:pt x="338" y="417"/>
                  </a:lnTo>
                  <a:lnTo>
                    <a:pt x="347" y="389"/>
                  </a:lnTo>
                  <a:lnTo>
                    <a:pt x="365" y="380"/>
                  </a:lnTo>
                  <a:lnTo>
                    <a:pt x="374" y="362"/>
                  </a:lnTo>
                  <a:lnTo>
                    <a:pt x="383" y="343"/>
                  </a:lnTo>
                  <a:lnTo>
                    <a:pt x="392" y="325"/>
                  </a:lnTo>
                  <a:lnTo>
                    <a:pt x="401" y="297"/>
                  </a:lnTo>
                  <a:lnTo>
                    <a:pt x="401" y="278"/>
                  </a:lnTo>
                  <a:lnTo>
                    <a:pt x="411" y="260"/>
                  </a:lnTo>
                  <a:lnTo>
                    <a:pt x="411" y="241"/>
                  </a:lnTo>
                  <a:lnTo>
                    <a:pt x="210" y="241"/>
                  </a:lnTo>
                  <a:lnTo>
                    <a:pt x="411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36560" y="1066680"/>
              <a:ext cx="142920" cy="163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93560" y="811080"/>
              <a:ext cx="246600" cy="147960"/>
            </a:xfrm>
            <a:custGeom>
              <a:avLst/>
              <a:gdLst/>
              <a:ahLst/>
              <a:rect l="0" t="0" r="r" b="b"/>
              <a:pathLst>
                <a:path w="685" h="411">
                  <a:moveTo>
                    <a:pt x="0" y="310"/>
                  </a:moveTo>
                  <a:lnTo>
                    <a:pt x="0" y="100"/>
                  </a:lnTo>
                  <a:lnTo>
                    <a:pt x="0" y="36"/>
                  </a:lnTo>
                  <a:lnTo>
                    <a:pt x="18" y="18"/>
                  </a:lnTo>
                  <a:lnTo>
                    <a:pt x="47" y="0"/>
                  </a:lnTo>
                  <a:lnTo>
                    <a:pt x="104" y="0"/>
                  </a:lnTo>
                  <a:lnTo>
                    <a:pt x="590" y="0"/>
                  </a:lnTo>
                  <a:lnTo>
                    <a:pt x="628" y="0"/>
                  </a:lnTo>
                  <a:lnTo>
                    <a:pt x="666" y="18"/>
                  </a:lnTo>
                  <a:lnTo>
                    <a:pt x="676" y="36"/>
                  </a:lnTo>
                  <a:lnTo>
                    <a:pt x="685" y="100"/>
                  </a:lnTo>
                  <a:lnTo>
                    <a:pt x="685" y="310"/>
                  </a:lnTo>
                  <a:lnTo>
                    <a:pt x="676" y="356"/>
                  </a:lnTo>
                  <a:lnTo>
                    <a:pt x="666" y="383"/>
                  </a:lnTo>
                  <a:lnTo>
                    <a:pt x="628" y="401"/>
                  </a:lnTo>
                  <a:lnTo>
                    <a:pt x="590" y="411"/>
                  </a:lnTo>
                  <a:lnTo>
                    <a:pt x="104" y="411"/>
                  </a:lnTo>
                  <a:lnTo>
                    <a:pt x="47" y="401"/>
                  </a:lnTo>
                  <a:lnTo>
                    <a:pt x="18" y="383"/>
                  </a:lnTo>
                  <a:lnTo>
                    <a:pt x="0" y="356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93560" y="811080"/>
              <a:ext cx="268560" cy="171720"/>
            </a:xfrm>
            <a:custGeom>
              <a:avLst/>
              <a:gdLst/>
              <a:ahLst/>
              <a:rect l="0" t="0" r="r" b="b"/>
              <a:pathLst>
                <a:path fill="none" w="746" h="477">
                  <a:moveTo>
                    <a:pt x="0" y="360"/>
                  </a:moveTo>
                  <a:lnTo>
                    <a:pt x="0" y="116"/>
                  </a:lnTo>
                  <a:lnTo>
                    <a:pt x="0" y="42"/>
                  </a:lnTo>
                  <a:lnTo>
                    <a:pt x="20" y="21"/>
                  </a:lnTo>
                  <a:lnTo>
                    <a:pt x="51" y="0"/>
                  </a:lnTo>
                  <a:lnTo>
                    <a:pt x="113" y="0"/>
                  </a:lnTo>
                  <a:lnTo>
                    <a:pt x="642" y="0"/>
                  </a:lnTo>
                  <a:lnTo>
                    <a:pt x="684" y="0"/>
                  </a:lnTo>
                  <a:lnTo>
                    <a:pt x="725" y="21"/>
                  </a:lnTo>
                  <a:lnTo>
                    <a:pt x="735" y="42"/>
                  </a:lnTo>
                  <a:lnTo>
                    <a:pt x="746" y="116"/>
                  </a:lnTo>
                  <a:lnTo>
                    <a:pt x="746" y="360"/>
                  </a:lnTo>
                  <a:lnTo>
                    <a:pt x="735" y="413"/>
                  </a:lnTo>
                  <a:lnTo>
                    <a:pt x="725" y="445"/>
                  </a:lnTo>
                  <a:lnTo>
                    <a:pt x="684" y="466"/>
                  </a:lnTo>
                  <a:lnTo>
                    <a:pt x="642" y="477"/>
                  </a:lnTo>
                  <a:lnTo>
                    <a:pt x="113" y="477"/>
                  </a:lnTo>
                  <a:lnTo>
                    <a:pt x="51" y="466"/>
                  </a:lnTo>
                  <a:lnTo>
                    <a:pt x="20" y="445"/>
                  </a:lnTo>
                  <a:lnTo>
                    <a:pt x="0" y="413"/>
                  </a:lnTo>
                  <a:lnTo>
                    <a:pt x="0" y="36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85880" y="1336680"/>
              <a:ext cx="44640" cy="144720"/>
            </a:xfrm>
            <a:custGeom>
              <a:avLst/>
              <a:gdLst/>
              <a:ahLst/>
              <a:rect l="0" t="0" r="r" b="b"/>
              <a:pathLst>
                <a:path w="124" h="402">
                  <a:moveTo>
                    <a:pt x="0" y="365"/>
                  </a:moveTo>
                  <a:lnTo>
                    <a:pt x="0" y="45"/>
                  </a:lnTo>
                  <a:lnTo>
                    <a:pt x="6" y="0"/>
                  </a:lnTo>
                  <a:lnTo>
                    <a:pt x="34" y="0"/>
                  </a:lnTo>
                  <a:lnTo>
                    <a:pt x="97" y="0"/>
                  </a:lnTo>
                  <a:lnTo>
                    <a:pt x="117" y="0"/>
                  </a:lnTo>
                  <a:lnTo>
                    <a:pt x="124" y="45"/>
                  </a:lnTo>
                  <a:lnTo>
                    <a:pt x="124" y="365"/>
                  </a:lnTo>
                  <a:lnTo>
                    <a:pt x="117" y="393"/>
                  </a:lnTo>
                  <a:lnTo>
                    <a:pt x="97" y="402"/>
                  </a:lnTo>
                  <a:lnTo>
                    <a:pt x="34" y="402"/>
                  </a:lnTo>
                  <a:lnTo>
                    <a:pt x="6" y="393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85880" y="1336680"/>
              <a:ext cx="66960" cy="168480"/>
            </a:xfrm>
            <a:custGeom>
              <a:avLst/>
              <a:gdLst/>
              <a:ahLst/>
              <a:rect l="0" t="0" r="r" b="b"/>
              <a:pathLst>
                <a:path fill="none" w="186" h="468">
                  <a:moveTo>
                    <a:pt x="0" y="425"/>
                  </a:moveTo>
                  <a:lnTo>
                    <a:pt x="0" y="53"/>
                  </a:lnTo>
                  <a:lnTo>
                    <a:pt x="10" y="0"/>
                  </a:lnTo>
                  <a:lnTo>
                    <a:pt x="51" y="0"/>
                  </a:lnTo>
                  <a:lnTo>
                    <a:pt x="145" y="0"/>
                  </a:lnTo>
                  <a:lnTo>
                    <a:pt x="175" y="0"/>
                  </a:lnTo>
                  <a:lnTo>
                    <a:pt x="186" y="53"/>
                  </a:lnTo>
                  <a:lnTo>
                    <a:pt x="186" y="425"/>
                  </a:lnTo>
                  <a:lnTo>
                    <a:pt x="175" y="457"/>
                  </a:lnTo>
                  <a:lnTo>
                    <a:pt x="145" y="468"/>
                  </a:lnTo>
                  <a:lnTo>
                    <a:pt x="51" y="468"/>
                  </a:lnTo>
                  <a:lnTo>
                    <a:pt x="10" y="457"/>
                  </a:lnTo>
                  <a:lnTo>
                    <a:pt x="0" y="42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939960" y="1181160"/>
              <a:ext cx="33840" cy="33840"/>
            </a:xfrm>
            <a:custGeom>
              <a:avLst/>
              <a:gdLst/>
              <a:ahLst/>
              <a:rect l="0" t="0" r="r" b="b"/>
              <a:pathLst>
                <a:path w="94" h="94">
                  <a:moveTo>
                    <a:pt x="94" y="50"/>
                  </a:moveTo>
                  <a:lnTo>
                    <a:pt x="94" y="38"/>
                  </a:lnTo>
                  <a:lnTo>
                    <a:pt x="88" y="31"/>
                  </a:lnTo>
                  <a:lnTo>
                    <a:pt x="88" y="25"/>
                  </a:lnTo>
                  <a:lnTo>
                    <a:pt x="82" y="12"/>
                  </a:lnTo>
                  <a:lnTo>
                    <a:pt x="76" y="6"/>
                  </a:lnTo>
                  <a:lnTo>
                    <a:pt x="68" y="6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5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25"/>
                  </a:lnTo>
                  <a:lnTo>
                    <a:pt x="6" y="31"/>
                  </a:lnTo>
                  <a:lnTo>
                    <a:pt x="0" y="38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6" y="62"/>
                  </a:lnTo>
                  <a:lnTo>
                    <a:pt x="6" y="68"/>
                  </a:lnTo>
                  <a:lnTo>
                    <a:pt x="12" y="76"/>
                  </a:lnTo>
                  <a:lnTo>
                    <a:pt x="18" y="88"/>
                  </a:lnTo>
                  <a:lnTo>
                    <a:pt x="25" y="88"/>
                  </a:lnTo>
                  <a:lnTo>
                    <a:pt x="31" y="94"/>
                  </a:lnTo>
                  <a:lnTo>
                    <a:pt x="38" y="94"/>
                  </a:lnTo>
                  <a:lnTo>
                    <a:pt x="50" y="94"/>
                  </a:lnTo>
                  <a:lnTo>
                    <a:pt x="56" y="94"/>
                  </a:lnTo>
                  <a:lnTo>
                    <a:pt x="62" y="94"/>
                  </a:lnTo>
                  <a:lnTo>
                    <a:pt x="68" y="88"/>
                  </a:lnTo>
                  <a:lnTo>
                    <a:pt x="76" y="88"/>
                  </a:lnTo>
                  <a:lnTo>
                    <a:pt x="82" y="76"/>
                  </a:lnTo>
                  <a:lnTo>
                    <a:pt x="88" y="68"/>
                  </a:lnTo>
                  <a:lnTo>
                    <a:pt x="88" y="62"/>
                  </a:lnTo>
                  <a:lnTo>
                    <a:pt x="94" y="56"/>
                  </a:lnTo>
                  <a:lnTo>
                    <a:pt x="94" y="50"/>
                  </a:lnTo>
                  <a:lnTo>
                    <a:pt x="50" y="50"/>
                  </a:lnTo>
                  <a:lnTo>
                    <a:pt x="94" y="5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942840" y="1185840"/>
              <a:ext cx="30240" cy="28440"/>
            </a:xfrm>
            <a:prstGeom prst="ellipse">
              <a:avLst/>
            </a:prstGeom>
            <a:solidFill>
              <a:srgbClr val="84848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1141560" y="922320"/>
              <a:ext cx="11520" cy="14760"/>
            </a:xfrm>
            <a:custGeom>
              <a:avLst/>
              <a:gdLst/>
              <a:ahLst/>
              <a:rect l="0" t="0" r="r" b="b"/>
              <a:pathLst>
                <a:path w="32" h="41">
                  <a:moveTo>
                    <a:pt x="0" y="41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890640" y="1523880"/>
              <a:ext cx="3600" cy="16200"/>
            </a:xfrm>
            <a:custGeom>
              <a:avLst/>
              <a:gdLst/>
              <a:ahLst/>
              <a:rect l="0" t="0" r="r" b="b"/>
              <a:pathLst>
                <a:path w="10" h="45">
                  <a:moveTo>
                    <a:pt x="10" y="23"/>
                  </a:moveTo>
                  <a:lnTo>
                    <a:pt x="9" y="13"/>
                  </a:lnTo>
                  <a:lnTo>
                    <a:pt x="9" y="8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1" y="36"/>
                  </a:lnTo>
                  <a:lnTo>
                    <a:pt x="3" y="40"/>
                  </a:lnTo>
                  <a:lnTo>
                    <a:pt x="4" y="40"/>
                  </a:lnTo>
                  <a:lnTo>
                    <a:pt x="6" y="45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9" y="36"/>
                  </a:lnTo>
                  <a:lnTo>
                    <a:pt x="9" y="27"/>
                  </a:lnTo>
                  <a:lnTo>
                    <a:pt x="10" y="23"/>
                  </a:lnTo>
                  <a:lnTo>
                    <a:pt x="6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893880" y="1527120"/>
              <a:ext cx="360" cy="1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17480" y="1523880"/>
              <a:ext cx="5040" cy="16200"/>
            </a:xfrm>
            <a:custGeom>
              <a:avLst/>
              <a:gdLst/>
              <a:ahLst/>
              <a:rect l="0" t="0" r="r" b="b"/>
              <a:pathLst>
                <a:path w="14" h="45">
                  <a:moveTo>
                    <a:pt x="14" y="23"/>
                  </a:moveTo>
                  <a:lnTo>
                    <a:pt x="12" y="13"/>
                  </a:lnTo>
                  <a:lnTo>
                    <a:pt x="12" y="8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5" y="4"/>
                  </a:lnTo>
                  <a:lnTo>
                    <a:pt x="3" y="4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1" y="36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8" y="45"/>
                  </a:lnTo>
                  <a:lnTo>
                    <a:pt x="8" y="40"/>
                  </a:lnTo>
                  <a:lnTo>
                    <a:pt x="10" y="40"/>
                  </a:lnTo>
                  <a:lnTo>
                    <a:pt x="12" y="36"/>
                  </a:lnTo>
                  <a:lnTo>
                    <a:pt x="12" y="27"/>
                  </a:lnTo>
                  <a:lnTo>
                    <a:pt x="14" y="23"/>
                  </a:lnTo>
                  <a:lnTo>
                    <a:pt x="8" y="23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22160" y="1527120"/>
              <a:ext cx="360" cy="1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6" name=""/>
          <p:cNvSpPr/>
          <p:nvPr/>
        </p:nvSpPr>
        <p:spPr>
          <a:xfrm>
            <a:off x="1795320" y="1149480"/>
            <a:ext cx="546480" cy="70200"/>
          </a:xfrm>
          <a:custGeom>
            <a:avLst/>
            <a:gdLst/>
            <a:ahLst/>
            <a:rect l="0" t="0" r="r" b="b"/>
            <a:pathLst>
              <a:path w="1518" h="195">
                <a:moveTo>
                  <a:pt x="0" y="195"/>
                </a:moveTo>
                <a:lnTo>
                  <a:pt x="257" y="0"/>
                </a:lnTo>
                <a:lnTo>
                  <a:pt x="1267" y="0"/>
                </a:lnTo>
                <a:lnTo>
                  <a:pt x="1518" y="193"/>
                </a:lnTo>
                <a:lnTo>
                  <a:pt x="3" y="193"/>
                </a:lnTo>
                <a:lnTo>
                  <a:pt x="0" y="1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1795320" y="1149480"/>
            <a:ext cx="549720" cy="73440"/>
          </a:xfrm>
          <a:custGeom>
            <a:avLst/>
            <a:gdLst/>
            <a:ahLst/>
            <a:rect l="0" t="0" r="r" b="b"/>
            <a:pathLst>
              <a:path fill="none" w="1527" h="204">
                <a:moveTo>
                  <a:pt x="0" y="204"/>
                </a:moveTo>
                <a:lnTo>
                  <a:pt x="258" y="0"/>
                </a:lnTo>
                <a:lnTo>
                  <a:pt x="1274" y="0"/>
                </a:lnTo>
                <a:lnTo>
                  <a:pt x="1527" y="202"/>
                </a:lnTo>
                <a:lnTo>
                  <a:pt x="3" y="2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>
            <a:off x="1873080" y="1147680"/>
            <a:ext cx="389160" cy="41760"/>
          </a:xfrm>
          <a:custGeom>
            <a:avLst/>
            <a:gdLst/>
            <a:ahLst/>
            <a:rect l="0" t="0" r="r" b="b"/>
            <a:pathLst>
              <a:path w="1081" h="116">
                <a:moveTo>
                  <a:pt x="104" y="0"/>
                </a:moveTo>
                <a:lnTo>
                  <a:pt x="0" y="116"/>
                </a:lnTo>
                <a:lnTo>
                  <a:pt x="1081" y="116"/>
                </a:lnTo>
                <a:lnTo>
                  <a:pt x="972" y="3"/>
                </a:lnTo>
                <a:lnTo>
                  <a:pt x="104" y="0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1873080" y="1147680"/>
            <a:ext cx="394200" cy="46440"/>
          </a:xfrm>
          <a:custGeom>
            <a:avLst/>
            <a:gdLst/>
            <a:ahLst/>
            <a:rect l="0" t="0" r="r" b="b"/>
            <a:pathLst>
              <a:path fill="none" w="1095" h="129">
                <a:moveTo>
                  <a:pt x="106" y="0"/>
                </a:moveTo>
                <a:lnTo>
                  <a:pt x="0" y="129"/>
                </a:lnTo>
                <a:lnTo>
                  <a:pt x="1095" y="129"/>
                </a:lnTo>
                <a:lnTo>
                  <a:pt x="985" y="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>
            <a:off x="1873080" y="1193760"/>
            <a:ext cx="389160" cy="11520"/>
          </a:xfrm>
          <a:custGeom>
            <a:avLst/>
            <a:gdLst/>
            <a:ahLst/>
            <a:rect l="0" t="0" r="r" b="b"/>
            <a:pathLst>
              <a:path w="1081" h="32">
                <a:moveTo>
                  <a:pt x="0" y="32"/>
                </a:moveTo>
                <a:lnTo>
                  <a:pt x="0" y="0"/>
                </a:lnTo>
                <a:lnTo>
                  <a:pt x="1081" y="0"/>
                </a:lnTo>
                <a:lnTo>
                  <a:pt x="1081" y="32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1873080" y="1193760"/>
            <a:ext cx="394200" cy="14760"/>
          </a:xfrm>
          <a:custGeom>
            <a:avLst/>
            <a:gdLst/>
            <a:ahLst/>
            <a:rect l="0" t="0" r="r" b="b"/>
            <a:pathLst>
              <a:path fill="none" w="1095" h="41">
                <a:moveTo>
                  <a:pt x="0" y="41"/>
                </a:moveTo>
                <a:lnTo>
                  <a:pt x="1095" y="41"/>
                </a:lnTo>
                <a:lnTo>
                  <a:pt x="1095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>
            <a:off x="2004840" y="1149480"/>
            <a:ext cx="127440" cy="11520"/>
          </a:xfrm>
          <a:custGeom>
            <a:avLst/>
            <a:gdLst/>
            <a:ahLst/>
            <a:rect l="0" t="0" r="r" b="b"/>
            <a:pathLst>
              <a:path w="354" h="32">
                <a:moveTo>
                  <a:pt x="0" y="32"/>
                </a:moveTo>
                <a:lnTo>
                  <a:pt x="0" y="0"/>
                </a:lnTo>
                <a:lnTo>
                  <a:pt x="354" y="0"/>
                </a:lnTo>
                <a:lnTo>
                  <a:pt x="354" y="32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2004840" y="1149480"/>
            <a:ext cx="130680" cy="14760"/>
          </a:xfrm>
          <a:custGeom>
            <a:avLst/>
            <a:gdLst/>
            <a:ahLst/>
            <a:rect l="0" t="0" r="r" b="b"/>
            <a:pathLst>
              <a:path fill="none" w="363" h="41">
                <a:moveTo>
                  <a:pt x="0" y="41"/>
                </a:moveTo>
                <a:lnTo>
                  <a:pt x="363" y="41"/>
                </a:lnTo>
                <a:lnTo>
                  <a:pt x="363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>
            <a:off x="1862280" y="768240"/>
            <a:ext cx="414720" cy="378360"/>
          </a:xfrm>
          <a:custGeom>
            <a:avLst/>
            <a:gdLst/>
            <a:ahLst/>
            <a:rect l="0" t="0" r="r" b="b"/>
            <a:pathLst>
              <a:path w="1152" h="1051">
                <a:moveTo>
                  <a:pt x="0" y="1051"/>
                </a:moveTo>
                <a:lnTo>
                  <a:pt x="0" y="0"/>
                </a:lnTo>
                <a:lnTo>
                  <a:pt x="1152" y="0"/>
                </a:lnTo>
                <a:lnTo>
                  <a:pt x="1152" y="1051"/>
                </a:lnTo>
                <a:lnTo>
                  <a:pt x="0" y="10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1862280" y="768240"/>
            <a:ext cx="417960" cy="381240"/>
          </a:xfrm>
          <a:custGeom>
            <a:avLst/>
            <a:gdLst/>
            <a:ahLst/>
            <a:rect l="0" t="0" r="r" b="b"/>
            <a:pathLst>
              <a:path fill="none" w="1161" h="1059">
                <a:moveTo>
                  <a:pt x="0" y="1059"/>
                </a:moveTo>
                <a:lnTo>
                  <a:pt x="1161" y="1059"/>
                </a:lnTo>
                <a:lnTo>
                  <a:pt x="1161" y="0"/>
                </a:ln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1873080" y="782640"/>
            <a:ext cx="389160" cy="349560"/>
          </a:xfrm>
          <a:custGeom>
            <a:avLst/>
            <a:gdLst/>
            <a:ahLst/>
            <a:rect l="0" t="0" r="r" b="b"/>
            <a:pathLst>
              <a:path w="1081" h="971">
                <a:moveTo>
                  <a:pt x="0" y="971"/>
                </a:moveTo>
                <a:lnTo>
                  <a:pt x="0" y="0"/>
                </a:lnTo>
                <a:lnTo>
                  <a:pt x="1081" y="0"/>
                </a:lnTo>
                <a:lnTo>
                  <a:pt x="1081" y="971"/>
                </a:lnTo>
                <a:lnTo>
                  <a:pt x="0" y="971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1873080" y="782640"/>
            <a:ext cx="394200" cy="352800"/>
          </a:xfrm>
          <a:custGeom>
            <a:avLst/>
            <a:gdLst/>
            <a:ahLst/>
            <a:rect l="0" t="0" r="r" b="b"/>
            <a:pathLst>
              <a:path fill="none" w="1095" h="980">
                <a:moveTo>
                  <a:pt x="0" y="980"/>
                </a:moveTo>
                <a:lnTo>
                  <a:pt x="1095" y="980"/>
                </a:lnTo>
                <a:lnTo>
                  <a:pt x="1095" y="0"/>
                </a:lnTo>
                <a:lnTo>
                  <a:pt x="0" y="0"/>
                </a:lnTo>
                <a:lnTo>
                  <a:pt x="0" y="98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1900080" y="812880"/>
            <a:ext cx="336960" cy="289440"/>
          </a:xfrm>
          <a:custGeom>
            <a:avLst/>
            <a:gdLst/>
            <a:ahLst/>
            <a:rect l="0" t="0" r="r" b="b"/>
            <a:pathLst>
              <a:path w="936" h="804">
                <a:moveTo>
                  <a:pt x="0" y="804"/>
                </a:moveTo>
                <a:lnTo>
                  <a:pt x="0" y="0"/>
                </a:lnTo>
                <a:lnTo>
                  <a:pt x="936" y="0"/>
                </a:lnTo>
                <a:lnTo>
                  <a:pt x="936" y="804"/>
                </a:lnTo>
                <a:lnTo>
                  <a:pt x="0" y="804"/>
                </a:lnTo>
                <a:close/>
              </a:path>
            </a:pathLst>
          </a:custGeom>
          <a:solidFill>
            <a:srgbClr val="00dfc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1900080" y="812880"/>
            <a:ext cx="341640" cy="292320"/>
          </a:xfrm>
          <a:custGeom>
            <a:avLst/>
            <a:gdLst/>
            <a:ahLst/>
            <a:rect l="0" t="0" r="r" b="b"/>
            <a:pathLst>
              <a:path fill="none" w="949" h="812">
                <a:moveTo>
                  <a:pt x="0" y="812"/>
                </a:moveTo>
                <a:lnTo>
                  <a:pt x="949" y="812"/>
                </a:lnTo>
                <a:lnTo>
                  <a:pt x="949" y="0"/>
                </a:lnTo>
                <a:lnTo>
                  <a:pt x="0" y="0"/>
                </a:lnTo>
                <a:lnTo>
                  <a:pt x="0" y="81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1795320" y="1222200"/>
            <a:ext cx="546480" cy="186120"/>
          </a:xfrm>
          <a:custGeom>
            <a:avLst/>
            <a:gdLst/>
            <a:ahLst/>
            <a:rect l="0" t="0" r="r" b="b"/>
            <a:pathLst>
              <a:path w="1518" h="517">
                <a:moveTo>
                  <a:pt x="0" y="517"/>
                </a:moveTo>
                <a:lnTo>
                  <a:pt x="0" y="0"/>
                </a:lnTo>
                <a:lnTo>
                  <a:pt x="1518" y="0"/>
                </a:lnTo>
                <a:lnTo>
                  <a:pt x="1518" y="517"/>
                </a:lnTo>
                <a:lnTo>
                  <a:pt x="0" y="5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1795320" y="1222200"/>
            <a:ext cx="549720" cy="190800"/>
          </a:xfrm>
          <a:custGeom>
            <a:avLst/>
            <a:gdLst/>
            <a:ahLst/>
            <a:rect l="0" t="0" r="r" b="b"/>
            <a:pathLst>
              <a:path fill="none" w="1527" h="530">
                <a:moveTo>
                  <a:pt x="0" y="530"/>
                </a:moveTo>
                <a:lnTo>
                  <a:pt x="1527" y="530"/>
                </a:lnTo>
                <a:lnTo>
                  <a:pt x="1527" y="0"/>
                </a:lnTo>
                <a:lnTo>
                  <a:pt x="0" y="0"/>
                </a:lnTo>
                <a:lnTo>
                  <a:pt x="0" y="53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1808280" y="1236600"/>
            <a:ext cx="519480" cy="159120"/>
          </a:xfrm>
          <a:custGeom>
            <a:avLst/>
            <a:gdLst/>
            <a:ahLst/>
            <a:rect l="0" t="0" r="r" b="b"/>
            <a:pathLst>
              <a:path w="1443" h="442">
                <a:moveTo>
                  <a:pt x="0" y="442"/>
                </a:moveTo>
                <a:lnTo>
                  <a:pt x="0" y="0"/>
                </a:lnTo>
                <a:lnTo>
                  <a:pt x="1443" y="0"/>
                </a:lnTo>
                <a:lnTo>
                  <a:pt x="1443" y="442"/>
                </a:lnTo>
                <a:lnTo>
                  <a:pt x="0" y="442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808280" y="1236600"/>
            <a:ext cx="524160" cy="162360"/>
          </a:xfrm>
          <a:custGeom>
            <a:avLst/>
            <a:gdLst/>
            <a:ahLst/>
            <a:rect l="0" t="0" r="r" b="b"/>
            <a:pathLst>
              <a:path fill="none" w="1456" h="451">
                <a:moveTo>
                  <a:pt x="0" y="451"/>
                </a:moveTo>
                <a:lnTo>
                  <a:pt x="1456" y="451"/>
                </a:lnTo>
                <a:lnTo>
                  <a:pt x="1456" y="0"/>
                </a:lnTo>
                <a:lnTo>
                  <a:pt x="0" y="0"/>
                </a:lnTo>
                <a:lnTo>
                  <a:pt x="0" y="45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2084400" y="1236600"/>
            <a:ext cx="243360" cy="159120"/>
          </a:xfrm>
          <a:custGeom>
            <a:avLst/>
            <a:gdLst/>
            <a:ahLst/>
            <a:rect l="0" t="0" r="r" b="b"/>
            <a:pathLst>
              <a:path w="676" h="442">
                <a:moveTo>
                  <a:pt x="0" y="442"/>
                </a:moveTo>
                <a:lnTo>
                  <a:pt x="0" y="0"/>
                </a:lnTo>
                <a:lnTo>
                  <a:pt x="676" y="0"/>
                </a:lnTo>
                <a:lnTo>
                  <a:pt x="676" y="442"/>
                </a:lnTo>
                <a:lnTo>
                  <a:pt x="0" y="4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2084400" y="1236600"/>
            <a:ext cx="248040" cy="162360"/>
          </a:xfrm>
          <a:custGeom>
            <a:avLst/>
            <a:gdLst/>
            <a:ahLst/>
            <a:rect l="0" t="0" r="r" b="b"/>
            <a:pathLst>
              <a:path fill="none" w="689" h="451">
                <a:moveTo>
                  <a:pt x="0" y="451"/>
                </a:moveTo>
                <a:lnTo>
                  <a:pt x="689" y="451"/>
                </a:lnTo>
                <a:lnTo>
                  <a:pt x="689" y="0"/>
                </a:lnTo>
                <a:lnTo>
                  <a:pt x="0" y="0"/>
                </a:lnTo>
                <a:lnTo>
                  <a:pt x="0" y="45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2084400" y="1317600"/>
            <a:ext cx="24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2176560" y="1252440"/>
            <a:ext cx="65520" cy="57600"/>
          </a:xfrm>
          <a:custGeom>
            <a:avLst/>
            <a:gdLst/>
            <a:ahLst/>
            <a:rect l="0" t="0" r="r" b="b"/>
            <a:pathLst>
              <a:path fill="none" w="182" h="160">
                <a:moveTo>
                  <a:pt x="0" y="0"/>
                </a:moveTo>
                <a:lnTo>
                  <a:pt x="182" y="0"/>
                </a:lnTo>
                <a:lnTo>
                  <a:pt x="182" y="160"/>
                </a:lnTo>
                <a:lnTo>
                  <a:pt x="0" y="16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2176560" y="1325520"/>
            <a:ext cx="65520" cy="59040"/>
          </a:xfrm>
          <a:custGeom>
            <a:avLst/>
            <a:gdLst/>
            <a:ahLst/>
            <a:rect l="0" t="0" r="r" b="b"/>
            <a:pathLst>
              <a:path fill="none" w="182" h="164">
                <a:moveTo>
                  <a:pt x="0" y="0"/>
                </a:moveTo>
                <a:lnTo>
                  <a:pt x="182" y="0"/>
                </a:lnTo>
                <a:lnTo>
                  <a:pt x="182" y="164"/>
                </a:lnTo>
                <a:lnTo>
                  <a:pt x="0" y="164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 flipH="1">
            <a:off x="2109960" y="1281240"/>
            <a:ext cx="66600" cy="1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 flipH="1" flipV="1">
            <a:off x="2109960" y="1353960"/>
            <a:ext cx="66600" cy="1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2241720" y="1281240"/>
            <a:ext cx="64800" cy="1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 flipV="1">
            <a:off x="2241720" y="1353960"/>
            <a:ext cx="77760" cy="1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1835280" y="1353960"/>
            <a:ext cx="20880" cy="25920"/>
          </a:xfrm>
          <a:custGeom>
            <a:avLst/>
            <a:gdLst/>
            <a:ahLst/>
            <a:rect l="0" t="0" r="r" b="b"/>
            <a:pathLst>
              <a:path w="58" h="72">
                <a:moveTo>
                  <a:pt x="58" y="37"/>
                </a:moveTo>
                <a:lnTo>
                  <a:pt x="58" y="32"/>
                </a:lnTo>
                <a:lnTo>
                  <a:pt x="56" y="27"/>
                </a:lnTo>
                <a:lnTo>
                  <a:pt x="56" y="22"/>
                </a:lnTo>
                <a:lnTo>
                  <a:pt x="53" y="19"/>
                </a:lnTo>
                <a:lnTo>
                  <a:pt x="52" y="14"/>
                </a:lnTo>
                <a:lnTo>
                  <a:pt x="49" y="11"/>
                </a:lnTo>
                <a:lnTo>
                  <a:pt x="46" y="8"/>
                </a:lnTo>
                <a:lnTo>
                  <a:pt x="43" y="4"/>
                </a:lnTo>
                <a:lnTo>
                  <a:pt x="40" y="1"/>
                </a:lnTo>
                <a:lnTo>
                  <a:pt x="37" y="1"/>
                </a:lnTo>
                <a:lnTo>
                  <a:pt x="33" y="0"/>
                </a:lnTo>
                <a:lnTo>
                  <a:pt x="30" y="0"/>
                </a:lnTo>
                <a:lnTo>
                  <a:pt x="24" y="0"/>
                </a:lnTo>
                <a:lnTo>
                  <a:pt x="20" y="1"/>
                </a:lnTo>
                <a:lnTo>
                  <a:pt x="17" y="1"/>
                </a:lnTo>
                <a:lnTo>
                  <a:pt x="14" y="4"/>
                </a:lnTo>
                <a:lnTo>
                  <a:pt x="11" y="8"/>
                </a:lnTo>
                <a:lnTo>
                  <a:pt x="8" y="11"/>
                </a:lnTo>
                <a:lnTo>
                  <a:pt x="5" y="14"/>
                </a:lnTo>
                <a:lnTo>
                  <a:pt x="4" y="19"/>
                </a:lnTo>
                <a:lnTo>
                  <a:pt x="1" y="22"/>
                </a:lnTo>
                <a:lnTo>
                  <a:pt x="1" y="27"/>
                </a:lnTo>
                <a:lnTo>
                  <a:pt x="0" y="32"/>
                </a:lnTo>
                <a:lnTo>
                  <a:pt x="0" y="37"/>
                </a:lnTo>
                <a:lnTo>
                  <a:pt x="0" y="40"/>
                </a:lnTo>
                <a:lnTo>
                  <a:pt x="1" y="46"/>
                </a:lnTo>
                <a:lnTo>
                  <a:pt x="1" y="50"/>
                </a:lnTo>
                <a:lnTo>
                  <a:pt x="4" y="53"/>
                </a:lnTo>
                <a:lnTo>
                  <a:pt x="5" y="57"/>
                </a:lnTo>
                <a:lnTo>
                  <a:pt x="8" y="62"/>
                </a:lnTo>
                <a:lnTo>
                  <a:pt x="11" y="65"/>
                </a:lnTo>
                <a:lnTo>
                  <a:pt x="14" y="67"/>
                </a:lnTo>
                <a:lnTo>
                  <a:pt x="17" y="70"/>
                </a:lnTo>
                <a:lnTo>
                  <a:pt x="20" y="70"/>
                </a:lnTo>
                <a:lnTo>
                  <a:pt x="24" y="72"/>
                </a:lnTo>
                <a:lnTo>
                  <a:pt x="30" y="72"/>
                </a:lnTo>
                <a:lnTo>
                  <a:pt x="33" y="72"/>
                </a:lnTo>
                <a:lnTo>
                  <a:pt x="37" y="70"/>
                </a:lnTo>
                <a:lnTo>
                  <a:pt x="40" y="70"/>
                </a:lnTo>
                <a:lnTo>
                  <a:pt x="43" y="67"/>
                </a:lnTo>
                <a:lnTo>
                  <a:pt x="46" y="65"/>
                </a:lnTo>
                <a:lnTo>
                  <a:pt x="49" y="62"/>
                </a:lnTo>
                <a:lnTo>
                  <a:pt x="52" y="57"/>
                </a:lnTo>
                <a:lnTo>
                  <a:pt x="53" y="53"/>
                </a:lnTo>
                <a:lnTo>
                  <a:pt x="56" y="50"/>
                </a:lnTo>
                <a:lnTo>
                  <a:pt x="56" y="46"/>
                </a:lnTo>
                <a:lnTo>
                  <a:pt x="58" y="40"/>
                </a:lnTo>
                <a:lnTo>
                  <a:pt x="58" y="37"/>
                </a:lnTo>
                <a:lnTo>
                  <a:pt x="30" y="37"/>
                </a:lnTo>
                <a:lnTo>
                  <a:pt x="58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1835280" y="1355760"/>
            <a:ext cx="20520" cy="23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1663560" y="1398600"/>
            <a:ext cx="810000" cy="98640"/>
          </a:xfrm>
          <a:custGeom>
            <a:avLst/>
            <a:gdLst/>
            <a:ahLst/>
            <a:rect l="0" t="0" r="r" b="b"/>
            <a:pathLst>
              <a:path w="2250" h="274">
                <a:moveTo>
                  <a:pt x="253" y="5"/>
                </a:moveTo>
                <a:lnTo>
                  <a:pt x="1995" y="0"/>
                </a:lnTo>
                <a:lnTo>
                  <a:pt x="2250" y="274"/>
                </a:lnTo>
                <a:lnTo>
                  <a:pt x="0" y="274"/>
                </a:lnTo>
                <a:lnTo>
                  <a:pt x="255" y="0"/>
                </a:lnTo>
                <a:lnTo>
                  <a:pt x="25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663560" y="1398600"/>
            <a:ext cx="813240" cy="101880"/>
          </a:xfrm>
          <a:custGeom>
            <a:avLst/>
            <a:gdLst/>
            <a:ahLst/>
            <a:rect l="0" t="0" r="r" b="b"/>
            <a:pathLst>
              <a:path fill="none" w="2259" h="283">
                <a:moveTo>
                  <a:pt x="254" y="5"/>
                </a:moveTo>
                <a:lnTo>
                  <a:pt x="2003" y="0"/>
                </a:lnTo>
                <a:lnTo>
                  <a:pt x="2259" y="283"/>
                </a:lnTo>
                <a:lnTo>
                  <a:pt x="0" y="283"/>
                </a:lnTo>
                <a:lnTo>
                  <a:pt x="256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1663560" y="1500120"/>
            <a:ext cx="810000" cy="27360"/>
          </a:xfrm>
          <a:custGeom>
            <a:avLst/>
            <a:gdLst/>
            <a:ahLst/>
            <a:rect l="0" t="0" r="r" b="b"/>
            <a:pathLst>
              <a:path w="2250" h="76">
                <a:moveTo>
                  <a:pt x="0" y="76"/>
                </a:moveTo>
                <a:lnTo>
                  <a:pt x="0" y="0"/>
                </a:lnTo>
                <a:lnTo>
                  <a:pt x="2250" y="0"/>
                </a:lnTo>
                <a:lnTo>
                  <a:pt x="2250" y="76"/>
                </a:lnTo>
                <a:lnTo>
                  <a:pt x="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1663560" y="1500120"/>
            <a:ext cx="813240" cy="30600"/>
          </a:xfrm>
          <a:custGeom>
            <a:avLst/>
            <a:gdLst/>
            <a:ahLst/>
            <a:rect l="0" t="0" r="r" b="b"/>
            <a:pathLst>
              <a:path fill="none" w="2259" h="85">
                <a:moveTo>
                  <a:pt x="0" y="85"/>
                </a:moveTo>
                <a:lnTo>
                  <a:pt x="2259" y="85"/>
                </a:lnTo>
                <a:lnTo>
                  <a:pt x="2259" y="0"/>
                </a:lnTo>
                <a:lnTo>
                  <a:pt x="0" y="0"/>
                </a:lnTo>
                <a:lnTo>
                  <a:pt x="0" y="8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1782720" y="1411200"/>
            <a:ext cx="520920" cy="71640"/>
          </a:xfrm>
          <a:custGeom>
            <a:avLst/>
            <a:gdLst/>
            <a:ahLst/>
            <a:rect l="0" t="0" r="r" b="b"/>
            <a:pathLst>
              <a:path w="1447" h="199">
                <a:moveTo>
                  <a:pt x="1299" y="0"/>
                </a:moveTo>
                <a:lnTo>
                  <a:pt x="143" y="1"/>
                </a:lnTo>
                <a:lnTo>
                  <a:pt x="0" y="199"/>
                </a:lnTo>
                <a:lnTo>
                  <a:pt x="1447" y="199"/>
                </a:lnTo>
                <a:lnTo>
                  <a:pt x="1301" y="1"/>
                </a:lnTo>
                <a:lnTo>
                  <a:pt x="129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1782720" y="1411200"/>
            <a:ext cx="524160" cy="74880"/>
          </a:xfrm>
          <a:custGeom>
            <a:avLst/>
            <a:gdLst/>
            <a:ahLst/>
            <a:rect l="0" t="0" r="r" b="b"/>
            <a:pathLst>
              <a:path fill="none" w="1456" h="208">
                <a:moveTo>
                  <a:pt x="1307" y="0"/>
                </a:moveTo>
                <a:lnTo>
                  <a:pt x="144" y="1"/>
                </a:lnTo>
                <a:lnTo>
                  <a:pt x="0" y="208"/>
                </a:lnTo>
                <a:lnTo>
                  <a:pt x="1456" y="208"/>
                </a:lnTo>
                <a:lnTo>
                  <a:pt x="1309" y="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1704960" y="1413000"/>
            <a:ext cx="113040" cy="70200"/>
          </a:xfrm>
          <a:custGeom>
            <a:avLst/>
            <a:gdLst/>
            <a:ahLst/>
            <a:rect l="0" t="0" r="r" b="b"/>
            <a:pathLst>
              <a:path w="314" h="195">
                <a:moveTo>
                  <a:pt x="314" y="0"/>
                </a:moveTo>
                <a:lnTo>
                  <a:pt x="174" y="195"/>
                </a:lnTo>
                <a:lnTo>
                  <a:pt x="0" y="195"/>
                </a:lnTo>
                <a:lnTo>
                  <a:pt x="174" y="0"/>
                </a:lnTo>
                <a:lnTo>
                  <a:pt x="3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1704960" y="1413000"/>
            <a:ext cx="116280" cy="73440"/>
          </a:xfrm>
          <a:custGeom>
            <a:avLst/>
            <a:gdLst/>
            <a:ahLst/>
            <a:rect l="0" t="0" r="r" b="b"/>
            <a:pathLst>
              <a:path fill="none" w="323" h="204">
                <a:moveTo>
                  <a:pt x="323" y="0"/>
                </a:moveTo>
                <a:lnTo>
                  <a:pt x="179" y="204"/>
                </a:lnTo>
                <a:lnTo>
                  <a:pt x="0" y="204"/>
                </a:lnTo>
                <a:lnTo>
                  <a:pt x="179" y="0"/>
                </a:lnTo>
                <a:lnTo>
                  <a:pt x="323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 flipH="1">
            <a:off x="1735200" y="1413000"/>
            <a:ext cx="60120" cy="71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1746360" y="1438200"/>
            <a:ext cx="56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1816200" y="1436760"/>
            <a:ext cx="452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1827360" y="1422360"/>
            <a:ext cx="433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1808280" y="1450800"/>
            <a:ext cx="473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1797120" y="1467000"/>
            <a:ext cx="493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1735200" y="145260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>
            <a:off x="1722600" y="1467000"/>
            <a:ext cx="58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1765440" y="14223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1781280" y="1486080"/>
            <a:ext cx="522720" cy="3600"/>
          </a:xfrm>
          <a:custGeom>
            <a:avLst/>
            <a:gdLst/>
            <a:ahLst/>
            <a:rect l="0" t="0" r="r" b="b"/>
            <a:pathLst>
              <a:path w="1452" h="10">
                <a:moveTo>
                  <a:pt x="0" y="10"/>
                </a:moveTo>
                <a:lnTo>
                  <a:pt x="0" y="0"/>
                </a:lnTo>
                <a:lnTo>
                  <a:pt x="1452" y="0"/>
                </a:lnTo>
                <a:lnTo>
                  <a:pt x="1452" y="10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1781280" y="1486080"/>
            <a:ext cx="525960" cy="6840"/>
          </a:xfrm>
          <a:custGeom>
            <a:avLst/>
            <a:gdLst/>
            <a:ahLst/>
            <a:rect l="0" t="0" r="r" b="b"/>
            <a:pathLst>
              <a:path fill="none" w="1461" h="19">
                <a:moveTo>
                  <a:pt x="0" y="19"/>
                </a:moveTo>
                <a:lnTo>
                  <a:pt x="1461" y="19"/>
                </a:lnTo>
                <a:lnTo>
                  <a:pt x="1461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 flipH="1">
            <a:off x="1913040" y="1414440"/>
            <a:ext cx="30240" cy="6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2151000" y="1413000"/>
            <a:ext cx="30240" cy="71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2046240" y="14144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H="1">
            <a:off x="1844640" y="1414440"/>
            <a:ext cx="38160" cy="6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2208240" y="1413000"/>
            <a:ext cx="41400" cy="71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 flipH="1">
            <a:off x="1982880" y="1413000"/>
            <a:ext cx="12600" cy="52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2100240" y="1414440"/>
            <a:ext cx="1260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2278080" y="1413000"/>
            <a:ext cx="144720" cy="68760"/>
          </a:xfrm>
          <a:custGeom>
            <a:avLst/>
            <a:gdLst/>
            <a:ahLst/>
            <a:rect l="0" t="0" r="r" b="b"/>
            <a:pathLst>
              <a:path w="402" h="191">
                <a:moveTo>
                  <a:pt x="0" y="0"/>
                </a:moveTo>
                <a:lnTo>
                  <a:pt x="132" y="191"/>
                </a:lnTo>
                <a:lnTo>
                  <a:pt x="402" y="191"/>
                </a:lnTo>
                <a:lnTo>
                  <a:pt x="24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>
            <a:off x="2278080" y="1413000"/>
            <a:ext cx="147960" cy="71640"/>
          </a:xfrm>
          <a:custGeom>
            <a:avLst/>
            <a:gdLst/>
            <a:ahLst/>
            <a:rect l="0" t="0" r="r" b="b"/>
            <a:pathLst>
              <a:path fill="none" w="411" h="199">
                <a:moveTo>
                  <a:pt x="0" y="0"/>
                </a:moveTo>
                <a:lnTo>
                  <a:pt x="135" y="199"/>
                </a:lnTo>
                <a:lnTo>
                  <a:pt x="411" y="199"/>
                </a:lnTo>
                <a:lnTo>
                  <a:pt x="246" y="0"/>
                </a:lnTo>
                <a:lnTo>
                  <a:pt x="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2325600" y="1484280"/>
            <a:ext cx="95760" cy="1800"/>
          </a:xfrm>
          <a:custGeom>
            <a:avLst/>
            <a:gdLst/>
            <a:ahLst/>
            <a:rect l="0" t="0" r="r" b="b"/>
            <a:pathLst>
              <a:path w="266" h="5">
                <a:moveTo>
                  <a:pt x="0" y="5"/>
                </a:moveTo>
                <a:lnTo>
                  <a:pt x="0" y="0"/>
                </a:lnTo>
                <a:lnTo>
                  <a:pt x="266" y="0"/>
                </a:lnTo>
                <a:lnTo>
                  <a:pt x="266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>
            <a:off x="2325600" y="1484280"/>
            <a:ext cx="100440" cy="6840"/>
          </a:xfrm>
          <a:custGeom>
            <a:avLst/>
            <a:gdLst/>
            <a:ahLst/>
            <a:rect l="0" t="0" r="r" b="b"/>
            <a:pathLst>
              <a:path fill="none" w="279" h="19">
                <a:moveTo>
                  <a:pt x="0" y="19"/>
                </a:moveTo>
                <a:lnTo>
                  <a:pt x="279" y="19"/>
                </a:lnTo>
                <a:lnTo>
                  <a:pt x="279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2276640" y="141300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2276640" y="1419120"/>
            <a:ext cx="48960" cy="7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2328840" y="1414440"/>
            <a:ext cx="47520" cy="6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2289240" y="1422360"/>
            <a:ext cx="8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2298600" y="143496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2308320" y="1449360"/>
            <a:ext cx="87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2317680" y="1467000"/>
            <a:ext cx="92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1704960" y="1486080"/>
            <a:ext cx="59040" cy="5040"/>
          </a:xfrm>
          <a:custGeom>
            <a:avLst/>
            <a:gdLst/>
            <a:ahLst/>
            <a:rect l="0" t="0" r="r" b="b"/>
            <a:pathLst>
              <a:path w="164" h="14">
                <a:moveTo>
                  <a:pt x="0" y="14"/>
                </a:moveTo>
                <a:lnTo>
                  <a:pt x="0" y="0"/>
                </a:lnTo>
                <a:lnTo>
                  <a:pt x="164" y="0"/>
                </a:lnTo>
                <a:lnTo>
                  <a:pt x="164" y="14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1704960" y="1486080"/>
            <a:ext cx="63720" cy="8280"/>
          </a:xfrm>
          <a:custGeom>
            <a:avLst/>
            <a:gdLst/>
            <a:ahLst/>
            <a:rect l="0" t="0" r="r" b="b"/>
            <a:pathLst>
              <a:path fill="none" w="177" h="23">
                <a:moveTo>
                  <a:pt x="0" y="23"/>
                </a:moveTo>
                <a:lnTo>
                  <a:pt x="177" y="23"/>
                </a:lnTo>
                <a:lnTo>
                  <a:pt x="177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1820880" y="141300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 flipH="1">
            <a:off x="1771560" y="1419120"/>
            <a:ext cx="49320" cy="73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 txBox="1"/>
          <p:nvPr/>
        </p:nvSpPr>
        <p:spPr>
          <a:xfrm>
            <a:off x="2590920" y="863640"/>
            <a:ext cx="63244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 Tool Package Adapted to the C166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830160" y="728640"/>
            <a:ext cx="7389720" cy="5089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89080" y="884160"/>
            <a:ext cx="84646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382760" y="981000"/>
            <a:ext cx="727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OM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las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P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2 K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413480" y="1119240"/>
            <a:ext cx="6573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 K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834240" y="1154160"/>
            <a:ext cx="949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ual 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292400" y="2643120"/>
            <a:ext cx="51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703680" y="2817720"/>
            <a:ext cx="1878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rupt 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246640" y="2424240"/>
            <a:ext cx="523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E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7261200" y="2738520"/>
            <a:ext cx="75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atchd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75320" y="3189240"/>
            <a:ext cx="911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rupt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319480" y="1327320"/>
            <a:ext cx="95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st. /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207120" y="1042920"/>
            <a:ext cx="452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267600" y="1319040"/>
            <a:ext cx="452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159080" y="338472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ripheral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319480" y="2525760"/>
            <a:ext cx="1341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ternal Instr. /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42960" y="2662200"/>
            <a:ext cx="501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279440" y="451008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279440" y="495792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792440" y="509760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619360" y="509760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062240" y="509760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492960" y="509760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917720" y="4094280"/>
            <a:ext cx="5936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660760" y="3919680"/>
            <a:ext cx="509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0 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189240" y="3919680"/>
            <a:ext cx="614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639960" y="3919680"/>
            <a:ext cx="614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259080" y="4273560"/>
            <a:ext cx="4586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713040" y="4278240"/>
            <a:ext cx="4586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194000" y="3919680"/>
            <a:ext cx="550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738680" y="3919680"/>
            <a:ext cx="550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280040" y="4137120"/>
            <a:ext cx="36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280040" y="4319640"/>
            <a:ext cx="36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280040" y="4514760"/>
            <a:ext cx="36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834080" y="4332240"/>
            <a:ext cx="36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835520" y="4513320"/>
            <a:ext cx="36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227560" y="4308480"/>
            <a:ext cx="614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r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858000" y="4259160"/>
            <a:ext cx="716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r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027840" y="3919680"/>
            <a:ext cx="7412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AP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911760" y="1133640"/>
            <a:ext cx="1751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B 80C16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PU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3029040" y="1233360"/>
            <a:ext cx="57240" cy="3319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787480" y="1006560"/>
            <a:ext cx="35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  <a:ea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6572160" y="982800"/>
            <a:ext cx="149400" cy="26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6599160" y="1295280"/>
            <a:ext cx="149400" cy="26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323120" y="3322800"/>
            <a:ext cx="149400" cy="26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077920" y="3119400"/>
            <a:ext cx="231840" cy="146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933560" y="5567400"/>
            <a:ext cx="260280" cy="114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727360" y="5559480"/>
            <a:ext cx="260280" cy="114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4216320" y="5540400"/>
            <a:ext cx="260280" cy="114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640560" y="5551560"/>
            <a:ext cx="260280" cy="114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662880" y="855720"/>
            <a:ext cx="325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664320" y="1179360"/>
            <a:ext cx="353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7408800" y="3214800"/>
            <a:ext cx="325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265480" y="3041640"/>
            <a:ext cx="325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838920" y="5442120"/>
            <a:ext cx="325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438800" y="5442120"/>
            <a:ext cx="325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133720" y="5442120"/>
            <a:ext cx="325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19000" y="4280040"/>
            <a:ext cx="325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909880" y="5442120"/>
            <a:ext cx="325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890640" y="4753080"/>
            <a:ext cx="254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39680" y="4481640"/>
            <a:ext cx="1033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028880" y="4950000"/>
            <a:ext cx="114120" cy="239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712880" y="6107040"/>
            <a:ext cx="3475080" cy="3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  <a:ea typeface="Arial"/>
              </a:rPr>
              <a:t>SAB 80C166 Block Diagr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"/>
          <p:cNvSpPr txBox="1"/>
          <p:nvPr/>
        </p:nvSpPr>
        <p:spPr>
          <a:xfrm>
            <a:off x="1681200" y="6113520"/>
            <a:ext cx="365760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Applications for the C166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8" name=""/>
          <p:cNvGrpSpPr/>
          <p:nvPr/>
        </p:nvGrpSpPr>
        <p:grpSpPr>
          <a:xfrm>
            <a:off x="3173400" y="1125360"/>
            <a:ext cx="2790720" cy="1494360"/>
            <a:chOff x="3173400" y="1125360"/>
            <a:chExt cx="2790720" cy="1494360"/>
          </a:xfrm>
        </p:grpSpPr>
        <p:sp>
          <p:nvSpPr>
            <p:cNvPr id="3459" name=""/>
            <p:cNvSpPr/>
            <p:nvPr/>
          </p:nvSpPr>
          <p:spPr>
            <a:xfrm>
              <a:off x="3214800" y="1906560"/>
              <a:ext cx="2665800" cy="705240"/>
            </a:xfrm>
            <a:custGeom>
              <a:avLst/>
              <a:gdLst/>
              <a:ahLst/>
              <a:rect l="0" t="0" r="r" b="b"/>
              <a:pathLst>
                <a:path w="7405" h="1959">
                  <a:moveTo>
                    <a:pt x="0" y="0"/>
                  </a:moveTo>
                  <a:lnTo>
                    <a:pt x="0" y="1959"/>
                  </a:lnTo>
                  <a:lnTo>
                    <a:pt x="7405" y="1959"/>
                  </a:lnTo>
                  <a:lnTo>
                    <a:pt x="7405" y="0"/>
                  </a:lnTo>
                  <a:lnTo>
                    <a:pt x="6961" y="0"/>
                  </a:lnTo>
                  <a:lnTo>
                    <a:pt x="6961" y="1397"/>
                  </a:lnTo>
                  <a:lnTo>
                    <a:pt x="444" y="1397"/>
                  </a:lnTo>
                  <a:lnTo>
                    <a:pt x="4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3214800" y="1906560"/>
              <a:ext cx="2673720" cy="713160"/>
            </a:xfrm>
            <a:custGeom>
              <a:avLst/>
              <a:gdLst/>
              <a:ahLst/>
              <a:rect l="0" t="0" r="r" b="b"/>
              <a:pathLst>
                <a:path fill="none" w="7427" h="1981">
                  <a:moveTo>
                    <a:pt x="0" y="0"/>
                  </a:moveTo>
                  <a:lnTo>
                    <a:pt x="0" y="1981"/>
                  </a:lnTo>
                  <a:lnTo>
                    <a:pt x="7427" y="1981"/>
                  </a:lnTo>
                  <a:lnTo>
                    <a:pt x="7427" y="0"/>
                  </a:lnTo>
                  <a:lnTo>
                    <a:pt x="6982" y="0"/>
                  </a:lnTo>
                  <a:lnTo>
                    <a:pt x="6982" y="1413"/>
                  </a:lnTo>
                  <a:lnTo>
                    <a:pt x="445" y="1413"/>
                  </a:lnTo>
                  <a:lnTo>
                    <a:pt x="445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4297320" y="1938240"/>
              <a:ext cx="1364040" cy="419400"/>
            </a:xfrm>
            <a:custGeom>
              <a:avLst/>
              <a:gdLst/>
              <a:ahLst/>
              <a:rect l="0" t="0" r="r" b="b"/>
              <a:pathLst>
                <a:path w="3789" h="1165">
                  <a:moveTo>
                    <a:pt x="0" y="1165"/>
                  </a:moveTo>
                  <a:lnTo>
                    <a:pt x="0" y="0"/>
                  </a:lnTo>
                  <a:lnTo>
                    <a:pt x="3789" y="0"/>
                  </a:lnTo>
                  <a:lnTo>
                    <a:pt x="3789" y="1165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4297320" y="1938240"/>
              <a:ext cx="1375200" cy="427320"/>
            </a:xfrm>
            <a:custGeom>
              <a:avLst/>
              <a:gdLst/>
              <a:ahLst/>
              <a:rect l="0" t="0" r="r" b="b"/>
              <a:pathLst>
                <a:path fill="none" w="3820" h="1187">
                  <a:moveTo>
                    <a:pt x="0" y="1187"/>
                  </a:moveTo>
                  <a:lnTo>
                    <a:pt x="3820" y="1187"/>
                  </a:lnTo>
                  <a:lnTo>
                    <a:pt x="3820" y="0"/>
                  </a:lnTo>
                  <a:lnTo>
                    <a:pt x="0" y="0"/>
                  </a:lnTo>
                  <a:lnTo>
                    <a:pt x="0" y="118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3787920" y="1938240"/>
              <a:ext cx="464040" cy="419400"/>
            </a:xfrm>
            <a:custGeom>
              <a:avLst/>
              <a:gdLst/>
              <a:ahLst/>
              <a:rect l="0" t="0" r="r" b="b"/>
              <a:pathLst>
                <a:path w="1289" h="1165">
                  <a:moveTo>
                    <a:pt x="0" y="1165"/>
                  </a:moveTo>
                  <a:lnTo>
                    <a:pt x="0" y="0"/>
                  </a:lnTo>
                  <a:lnTo>
                    <a:pt x="1289" y="0"/>
                  </a:lnTo>
                  <a:lnTo>
                    <a:pt x="1289" y="1165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3787920" y="1938240"/>
              <a:ext cx="470160" cy="427320"/>
            </a:xfrm>
            <a:custGeom>
              <a:avLst/>
              <a:gdLst/>
              <a:ahLst/>
              <a:rect l="0" t="0" r="r" b="b"/>
              <a:pathLst>
                <a:path fill="none" w="1306" h="1187">
                  <a:moveTo>
                    <a:pt x="0" y="1187"/>
                  </a:moveTo>
                  <a:lnTo>
                    <a:pt x="1306" y="1187"/>
                  </a:lnTo>
                  <a:lnTo>
                    <a:pt x="1306" y="0"/>
                  </a:lnTo>
                  <a:lnTo>
                    <a:pt x="0" y="0"/>
                  </a:lnTo>
                  <a:lnTo>
                    <a:pt x="0" y="118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5673600" y="1663560"/>
              <a:ext cx="206640" cy="197280"/>
            </a:xfrm>
            <a:custGeom>
              <a:avLst/>
              <a:gdLst/>
              <a:ahLst/>
              <a:rect l="0" t="0" r="r" b="b"/>
              <a:pathLst>
                <a:path w="574" h="548">
                  <a:moveTo>
                    <a:pt x="0" y="548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574" y="548"/>
                  </a:lnTo>
                  <a:lnTo>
                    <a:pt x="0" y="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5673600" y="1663560"/>
              <a:ext cx="217800" cy="208440"/>
            </a:xfrm>
            <a:custGeom>
              <a:avLst/>
              <a:gdLst/>
              <a:ahLst/>
              <a:rect l="0" t="0" r="r" b="b"/>
              <a:pathLst>
                <a:path fill="none" w="605" h="579">
                  <a:moveTo>
                    <a:pt x="0" y="579"/>
                  </a:moveTo>
                  <a:lnTo>
                    <a:pt x="605" y="579"/>
                  </a:lnTo>
                  <a:lnTo>
                    <a:pt x="605" y="0"/>
                  </a:lnTo>
                  <a:lnTo>
                    <a:pt x="0" y="0"/>
                  </a:lnTo>
                  <a:lnTo>
                    <a:pt x="0" y="57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3787920" y="1135080"/>
              <a:ext cx="1508400" cy="452880"/>
            </a:xfrm>
            <a:custGeom>
              <a:avLst/>
              <a:gdLst/>
              <a:ahLst/>
              <a:rect l="0" t="0" r="r" b="b"/>
              <a:pathLst>
                <a:path w="4190" h="1258">
                  <a:moveTo>
                    <a:pt x="0" y="1258"/>
                  </a:moveTo>
                  <a:lnTo>
                    <a:pt x="0" y="0"/>
                  </a:lnTo>
                  <a:lnTo>
                    <a:pt x="4190" y="0"/>
                  </a:lnTo>
                  <a:lnTo>
                    <a:pt x="4190" y="1258"/>
                  </a:lnTo>
                  <a:lnTo>
                    <a:pt x="0" y="12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3787920" y="1135080"/>
              <a:ext cx="1518120" cy="460800"/>
            </a:xfrm>
            <a:custGeom>
              <a:avLst/>
              <a:gdLst/>
              <a:ahLst/>
              <a:rect l="0" t="0" r="r" b="b"/>
              <a:pathLst>
                <a:path fill="none" w="4217" h="1280">
                  <a:moveTo>
                    <a:pt x="0" y="1280"/>
                  </a:moveTo>
                  <a:lnTo>
                    <a:pt x="4217" y="1280"/>
                  </a:lnTo>
                  <a:lnTo>
                    <a:pt x="4217" y="0"/>
                  </a:lnTo>
                  <a:lnTo>
                    <a:pt x="0" y="0"/>
                  </a:lnTo>
                  <a:lnTo>
                    <a:pt x="0" y="12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3537000" y="1668600"/>
              <a:ext cx="2045160" cy="197280"/>
            </a:xfrm>
            <a:custGeom>
              <a:avLst/>
              <a:gdLst/>
              <a:ahLst/>
              <a:rect l="0" t="0" r="r" b="b"/>
              <a:pathLst>
                <a:path w="5681" h="548">
                  <a:moveTo>
                    <a:pt x="0" y="548"/>
                  </a:moveTo>
                  <a:lnTo>
                    <a:pt x="0" y="0"/>
                  </a:lnTo>
                  <a:lnTo>
                    <a:pt x="5681" y="0"/>
                  </a:lnTo>
                  <a:lnTo>
                    <a:pt x="5681" y="548"/>
                  </a:lnTo>
                  <a:lnTo>
                    <a:pt x="0" y="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3537000" y="1668600"/>
              <a:ext cx="2053080" cy="206640"/>
            </a:xfrm>
            <a:custGeom>
              <a:avLst/>
              <a:gdLst/>
              <a:ahLst/>
              <a:rect l="0" t="0" r="r" b="b"/>
              <a:pathLst>
                <a:path fill="none" w="5703" h="574">
                  <a:moveTo>
                    <a:pt x="0" y="574"/>
                  </a:moveTo>
                  <a:lnTo>
                    <a:pt x="5703" y="574"/>
                  </a:lnTo>
                  <a:lnTo>
                    <a:pt x="5703" y="0"/>
                  </a:lnTo>
                  <a:lnTo>
                    <a:pt x="0" y="0"/>
                  </a:lnTo>
                  <a:lnTo>
                    <a:pt x="0" y="5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5086440" y="167328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 txBox="1"/>
            <p:nvPr/>
          </p:nvSpPr>
          <p:spPr>
            <a:xfrm>
              <a:off x="5622840" y="1687680"/>
              <a:ext cx="34128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3214800" y="1670040"/>
              <a:ext cx="233640" cy="195480"/>
            </a:xfrm>
            <a:custGeom>
              <a:avLst/>
              <a:gdLst/>
              <a:ahLst/>
              <a:rect l="0" t="0" r="r" b="b"/>
              <a:pathLst>
                <a:path w="649" h="543">
                  <a:moveTo>
                    <a:pt x="0" y="543"/>
                  </a:moveTo>
                  <a:lnTo>
                    <a:pt x="0" y="0"/>
                  </a:lnTo>
                  <a:lnTo>
                    <a:pt x="649" y="0"/>
                  </a:lnTo>
                  <a:lnTo>
                    <a:pt x="649" y="543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3214800" y="1670040"/>
              <a:ext cx="241560" cy="205200"/>
            </a:xfrm>
            <a:custGeom>
              <a:avLst/>
              <a:gdLst/>
              <a:ahLst/>
              <a:rect l="0" t="0" r="r" b="b"/>
              <a:pathLst>
                <a:path fill="none" w="671" h="570">
                  <a:moveTo>
                    <a:pt x="0" y="570"/>
                  </a:moveTo>
                  <a:lnTo>
                    <a:pt x="671" y="570"/>
                  </a:lnTo>
                  <a:lnTo>
                    <a:pt x="671" y="0"/>
                  </a:lnTo>
                  <a:lnTo>
                    <a:pt x="0" y="0"/>
                  </a:lnTo>
                  <a:lnTo>
                    <a:pt x="0" y="57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 txBox="1"/>
            <p:nvPr/>
          </p:nvSpPr>
          <p:spPr>
            <a:xfrm>
              <a:off x="3173400" y="1697040"/>
              <a:ext cx="33336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S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 txBox="1"/>
            <p:nvPr/>
          </p:nvSpPr>
          <p:spPr>
            <a:xfrm>
              <a:off x="5175360" y="1690560"/>
              <a:ext cx="32544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 txBox="1"/>
            <p:nvPr/>
          </p:nvSpPr>
          <p:spPr>
            <a:xfrm>
              <a:off x="3703680" y="1684440"/>
              <a:ext cx="86688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 Controll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 txBox="1"/>
            <p:nvPr/>
          </p:nvSpPr>
          <p:spPr>
            <a:xfrm>
              <a:off x="4137120" y="1279440"/>
              <a:ext cx="771480" cy="20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 - Co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3228840" y="1136520"/>
              <a:ext cx="476640" cy="439920"/>
            </a:xfrm>
            <a:custGeom>
              <a:avLst/>
              <a:gdLst/>
              <a:ahLst/>
              <a:rect l="0" t="0" r="r" b="b"/>
              <a:pathLst>
                <a:path w="1324" h="1222">
                  <a:moveTo>
                    <a:pt x="0" y="1222"/>
                  </a:moveTo>
                  <a:lnTo>
                    <a:pt x="0" y="0"/>
                  </a:lnTo>
                  <a:lnTo>
                    <a:pt x="1324" y="0"/>
                  </a:lnTo>
                  <a:lnTo>
                    <a:pt x="1324" y="1222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3228840" y="1136520"/>
              <a:ext cx="484560" cy="451080"/>
            </a:xfrm>
            <a:custGeom>
              <a:avLst/>
              <a:gdLst/>
              <a:ahLst/>
              <a:rect l="0" t="0" r="r" b="b"/>
              <a:pathLst>
                <a:path fill="none" w="1346" h="1253">
                  <a:moveTo>
                    <a:pt x="0" y="1253"/>
                  </a:moveTo>
                  <a:lnTo>
                    <a:pt x="1346" y="1253"/>
                  </a:lnTo>
                  <a:lnTo>
                    <a:pt x="1346" y="0"/>
                  </a:lnTo>
                  <a:lnTo>
                    <a:pt x="0" y="0"/>
                  </a:lnTo>
                  <a:lnTo>
                    <a:pt x="0" y="125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 txBox="1"/>
            <p:nvPr/>
          </p:nvSpPr>
          <p:spPr>
            <a:xfrm>
              <a:off x="3193920" y="1125360"/>
              <a:ext cx="44280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 txBox="1"/>
            <p:nvPr/>
          </p:nvSpPr>
          <p:spPr>
            <a:xfrm>
              <a:off x="3198960" y="1219320"/>
              <a:ext cx="38880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 /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5386320" y="1136520"/>
              <a:ext cx="489240" cy="452880"/>
            </a:xfrm>
            <a:custGeom>
              <a:avLst/>
              <a:gdLst/>
              <a:ahLst/>
              <a:rect l="0" t="0" r="r" b="b"/>
              <a:pathLst>
                <a:path w="1359" h="1258">
                  <a:moveTo>
                    <a:pt x="0" y="1258"/>
                  </a:moveTo>
                  <a:lnTo>
                    <a:pt x="0" y="0"/>
                  </a:lnTo>
                  <a:lnTo>
                    <a:pt x="1359" y="0"/>
                  </a:lnTo>
                  <a:lnTo>
                    <a:pt x="1359" y="1258"/>
                  </a:lnTo>
                  <a:lnTo>
                    <a:pt x="0" y="12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5386320" y="1136520"/>
              <a:ext cx="497160" cy="460800"/>
            </a:xfrm>
            <a:custGeom>
              <a:avLst/>
              <a:gdLst/>
              <a:ahLst/>
              <a:rect l="0" t="0" r="r" b="b"/>
              <a:pathLst>
                <a:path fill="none" w="1381" h="1280">
                  <a:moveTo>
                    <a:pt x="0" y="1280"/>
                  </a:moveTo>
                  <a:lnTo>
                    <a:pt x="1381" y="1280"/>
                  </a:lnTo>
                  <a:lnTo>
                    <a:pt x="1381" y="0"/>
                  </a:lnTo>
                  <a:lnTo>
                    <a:pt x="0" y="0"/>
                  </a:lnTo>
                  <a:lnTo>
                    <a:pt x="0" y="12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 txBox="1"/>
            <p:nvPr/>
          </p:nvSpPr>
          <p:spPr>
            <a:xfrm>
              <a:off x="5396040" y="1255680"/>
              <a:ext cx="44280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 txBox="1"/>
            <p:nvPr/>
          </p:nvSpPr>
          <p:spPr>
            <a:xfrm>
              <a:off x="5427720" y="1351080"/>
              <a:ext cx="34128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 txBox="1"/>
            <p:nvPr/>
          </p:nvSpPr>
          <p:spPr>
            <a:xfrm>
              <a:off x="4287960" y="2428920"/>
              <a:ext cx="395280" cy="17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3443400" y="1935000"/>
              <a:ext cx="292320" cy="422640"/>
            </a:xfrm>
            <a:custGeom>
              <a:avLst/>
              <a:gdLst/>
              <a:ahLst/>
              <a:rect l="0" t="0" r="r" b="b"/>
              <a:pathLst>
                <a:path w="812" h="1174">
                  <a:moveTo>
                    <a:pt x="0" y="1174"/>
                  </a:moveTo>
                  <a:lnTo>
                    <a:pt x="0" y="0"/>
                  </a:lnTo>
                  <a:lnTo>
                    <a:pt x="812" y="0"/>
                  </a:lnTo>
                  <a:lnTo>
                    <a:pt x="812" y="1174"/>
                  </a:lnTo>
                  <a:lnTo>
                    <a:pt x="0" y="1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443400" y="1935000"/>
              <a:ext cx="300240" cy="430560"/>
            </a:xfrm>
            <a:custGeom>
              <a:avLst/>
              <a:gdLst/>
              <a:ahLst/>
              <a:rect l="0" t="0" r="r" b="b"/>
              <a:pathLst>
                <a:path fill="none" w="834" h="1196">
                  <a:moveTo>
                    <a:pt x="0" y="1196"/>
                  </a:moveTo>
                  <a:lnTo>
                    <a:pt x="834" y="1196"/>
                  </a:lnTo>
                  <a:lnTo>
                    <a:pt x="834" y="0"/>
                  </a:lnTo>
                  <a:lnTo>
                    <a:pt x="0" y="0"/>
                  </a:lnTo>
                  <a:lnTo>
                    <a:pt x="0" y="119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 txBox="1"/>
            <p:nvPr/>
          </p:nvSpPr>
          <p:spPr>
            <a:xfrm>
              <a:off x="3436920" y="2009880"/>
              <a:ext cx="31284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 txBox="1"/>
            <p:nvPr/>
          </p:nvSpPr>
          <p:spPr>
            <a:xfrm>
              <a:off x="3365640" y="2117880"/>
              <a:ext cx="43956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 txBox="1"/>
            <p:nvPr/>
          </p:nvSpPr>
          <p:spPr>
            <a:xfrm>
              <a:off x="3436920" y="1920960"/>
              <a:ext cx="30780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 txBox="1"/>
            <p:nvPr/>
          </p:nvSpPr>
          <p:spPr>
            <a:xfrm>
              <a:off x="3193920" y="1297080"/>
              <a:ext cx="36684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las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 txBox="1"/>
            <p:nvPr/>
          </p:nvSpPr>
          <p:spPr>
            <a:xfrm>
              <a:off x="3193920" y="1380960"/>
              <a:ext cx="44784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PRO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 txBox="1"/>
            <p:nvPr/>
          </p:nvSpPr>
          <p:spPr>
            <a:xfrm>
              <a:off x="3824280" y="1949400"/>
              <a:ext cx="38412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Bu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 txBox="1"/>
            <p:nvPr/>
          </p:nvSpPr>
          <p:spPr>
            <a:xfrm>
              <a:off x="3732120" y="2048040"/>
              <a:ext cx="58248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 txBox="1"/>
            <p:nvPr/>
          </p:nvSpPr>
          <p:spPr>
            <a:xfrm>
              <a:off x="4602240" y="1922400"/>
              <a:ext cx="68112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 Se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 txBox="1"/>
            <p:nvPr/>
          </p:nvSpPr>
          <p:spPr>
            <a:xfrm>
              <a:off x="4272120" y="2019240"/>
              <a:ext cx="52056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/D Convert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 txBox="1"/>
            <p:nvPr/>
          </p:nvSpPr>
          <p:spPr>
            <a:xfrm>
              <a:off x="4272120" y="2082960"/>
              <a:ext cx="37152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USAR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 txBox="1"/>
            <p:nvPr/>
          </p:nvSpPr>
          <p:spPr>
            <a:xfrm>
              <a:off x="4272120" y="2206800"/>
              <a:ext cx="69372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ync. Communication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 txBox="1"/>
            <p:nvPr/>
          </p:nvSpPr>
          <p:spPr>
            <a:xfrm>
              <a:off x="4848120" y="2021040"/>
              <a:ext cx="75240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General Purpose Timer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 txBox="1"/>
            <p:nvPr/>
          </p:nvSpPr>
          <p:spPr>
            <a:xfrm>
              <a:off x="4844880" y="2075040"/>
              <a:ext cx="73512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apture / Compare Uni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 txBox="1"/>
            <p:nvPr/>
          </p:nvSpPr>
          <p:spPr>
            <a:xfrm>
              <a:off x="4272120" y="2144880"/>
              <a:ext cx="55260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PWM Channel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 txBox="1"/>
            <p:nvPr/>
          </p:nvSpPr>
          <p:spPr>
            <a:xfrm>
              <a:off x="4844880" y="2131920"/>
              <a:ext cx="26676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etc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5" name=""/>
          <p:cNvSpPr txBox="1"/>
          <p:nvPr/>
        </p:nvSpPr>
        <p:spPr>
          <a:xfrm>
            <a:off x="3773520" y="736560"/>
            <a:ext cx="160164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166 Famil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 txBox="1"/>
          <p:nvPr/>
        </p:nvSpPr>
        <p:spPr>
          <a:xfrm>
            <a:off x="1989000" y="3751200"/>
            <a:ext cx="1625760" cy="192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Robo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LC’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rvo-Driv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otor Cont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ower-Invert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achine-Tool Control (CN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 txBox="1"/>
          <p:nvPr/>
        </p:nvSpPr>
        <p:spPr>
          <a:xfrm>
            <a:off x="225360" y="3751200"/>
            <a:ext cx="1625760" cy="168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Engine Manag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ransmission Cont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BS/AS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ctive Suspens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 txBox="1"/>
          <p:nvPr/>
        </p:nvSpPr>
        <p:spPr>
          <a:xfrm>
            <a:off x="225360" y="3129120"/>
            <a:ext cx="1625760" cy="5936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utomoti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 txBox="1"/>
          <p:nvPr/>
        </p:nvSpPr>
        <p:spPr>
          <a:xfrm>
            <a:off x="1989000" y="3129120"/>
            <a:ext cx="1625760" cy="5936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dustrial Contr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 txBox="1"/>
          <p:nvPr/>
        </p:nvSpPr>
        <p:spPr>
          <a:xfrm>
            <a:off x="3741840" y="3129120"/>
            <a:ext cx="1662120" cy="5936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strumen-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 txBox="1"/>
          <p:nvPr/>
        </p:nvSpPr>
        <p:spPr>
          <a:xfrm>
            <a:off x="3741840" y="3751200"/>
            <a:ext cx="1662120" cy="94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easurement Syste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edical Electron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 txBox="1"/>
          <p:nvPr/>
        </p:nvSpPr>
        <p:spPr>
          <a:xfrm>
            <a:off x="5518080" y="3129120"/>
            <a:ext cx="1625760" cy="5936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Telecom/ Data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 txBox="1"/>
          <p:nvPr/>
        </p:nvSpPr>
        <p:spPr>
          <a:xfrm>
            <a:off x="5518080" y="3751200"/>
            <a:ext cx="1625760" cy="150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ommunication Boards (LA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ode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B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obile Commun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 txBox="1"/>
          <p:nvPr/>
        </p:nvSpPr>
        <p:spPr>
          <a:xfrm>
            <a:off x="7283520" y="3129120"/>
            <a:ext cx="1625760" cy="5936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D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 txBox="1"/>
          <p:nvPr/>
        </p:nvSpPr>
        <p:spPr>
          <a:xfrm>
            <a:off x="7283520" y="3751200"/>
            <a:ext cx="1625760" cy="188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Hard Disk Driv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ape Driv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int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cann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igital Copi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AX Machi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4572000" y="269388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 flipH="1">
            <a:off x="1042920" y="2776680"/>
            <a:ext cx="3529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4572000" y="2776680"/>
            <a:ext cx="3529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042920" y="27766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2806560" y="27766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6337440" y="27766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8101080" y="27766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73000" y="708120"/>
            <a:ext cx="7389720" cy="50799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1712880" y="6107040"/>
            <a:ext cx="3475080" cy="3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  <a:ea typeface="Arial"/>
              </a:rPr>
              <a:t>C167 Block Diagr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427040" y="927000"/>
            <a:ext cx="798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OM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las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P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p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28 K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397160" y="2076480"/>
            <a:ext cx="8510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input: 5MHz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SC</a:t>
            </a:r>
            <a:br>
              <a:rPr sz="10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input: 20MHz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387520" y="1328760"/>
            <a:ext cx="770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str./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690640" y="2527200"/>
            <a:ext cx="1271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ternal Instr./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428840" y="2776680"/>
            <a:ext cx="763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-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riph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365120" y="3138480"/>
            <a:ext cx="8827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add. inter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2 K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713040" y="2843280"/>
            <a:ext cx="16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rupt 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5307120" y="2419200"/>
            <a:ext cx="5493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19600" y="1236600"/>
            <a:ext cx="18604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167 CPU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932360" y="3166920"/>
            <a:ext cx="911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rupt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332240" y="338292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ripheral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014560" y="3970440"/>
            <a:ext cx="67932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ntro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S-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838600" y="3884760"/>
            <a:ext cx="65232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ul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0-Bi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409920" y="3889440"/>
            <a:ext cx="614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489480" y="4341960"/>
            <a:ext cx="4586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929040" y="3889440"/>
            <a:ext cx="6573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SP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022640" y="4332240"/>
            <a:ext cx="4586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5520" y="3909960"/>
            <a:ext cx="515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PT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011560" y="3909960"/>
            <a:ext cx="550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19520" y="4137120"/>
            <a:ext cx="36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619520" y="4319640"/>
            <a:ext cx="36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619520" y="4514760"/>
            <a:ext cx="36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103720" y="4321080"/>
            <a:ext cx="36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5105520" y="4502160"/>
            <a:ext cx="36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448240" y="4162320"/>
            <a:ext cx="399960" cy="1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Timer 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383160" y="4167360"/>
            <a:ext cx="399960" cy="1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Timer 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5437080" y="4498920"/>
            <a:ext cx="423720" cy="1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Timer 7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383160" y="4506840"/>
            <a:ext cx="399960" cy="1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Timer 8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470560" y="3889440"/>
            <a:ext cx="124632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APCOM1, CAPCOM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811840" y="4361040"/>
            <a:ext cx="60336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5722920" y="4319640"/>
            <a:ext cx="75420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2 Chann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648480" y="3889440"/>
            <a:ext cx="946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WM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672240" y="4203720"/>
            <a:ext cx="434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T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672240" y="4343400"/>
            <a:ext cx="476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T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672240" y="4464000"/>
            <a:ext cx="446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T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672240" y="4079880"/>
            <a:ext cx="476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T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737400" y="4594320"/>
            <a:ext cx="762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4 Channe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345440" y="2735280"/>
            <a:ext cx="75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atchd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485120" y="1119240"/>
            <a:ext cx="6573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 K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905520" y="1154160"/>
            <a:ext cx="949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ual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089760" y="507672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5526000" y="507672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119480" y="507672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844720" y="507672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327320" y="451152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338120" y="495792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868400" y="507672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333440" y="400860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087560" y="3957480"/>
            <a:ext cx="55440" cy="23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062000" y="4456080"/>
            <a:ext cx="55440" cy="23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066680" y="4932360"/>
            <a:ext cx="55800" cy="23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961920" y="378144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27000" y="476244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15840" y="4268880"/>
            <a:ext cx="358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965240" y="5416560"/>
            <a:ext cx="519480" cy="228600"/>
            <a:chOff x="1965240" y="5416560"/>
            <a:chExt cx="519480" cy="228600"/>
          </a:xfrm>
        </p:grpSpPr>
        <p:sp>
          <p:nvSpPr>
            <p:cNvPr id="512" name=""/>
            <p:cNvSpPr txBox="1"/>
            <p:nvPr/>
          </p:nvSpPr>
          <p:spPr>
            <a:xfrm>
              <a:off x="2125800" y="5416560"/>
              <a:ext cx="358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1965240" y="5546880"/>
              <a:ext cx="270000" cy="4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4255920" y="5427720"/>
            <a:ext cx="519480" cy="228600"/>
            <a:chOff x="4255920" y="5427720"/>
            <a:chExt cx="519480" cy="228600"/>
          </a:xfrm>
        </p:grpSpPr>
        <p:sp>
          <p:nvSpPr>
            <p:cNvPr id="515" name=""/>
            <p:cNvSpPr txBox="1"/>
            <p:nvPr/>
          </p:nvSpPr>
          <p:spPr>
            <a:xfrm>
              <a:off x="4416480" y="5427720"/>
              <a:ext cx="358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4255920" y="5557680"/>
              <a:ext cx="270000" cy="44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006720" y="5418000"/>
            <a:ext cx="519120" cy="228600"/>
            <a:chOff x="3006720" y="5418000"/>
            <a:chExt cx="519120" cy="228600"/>
          </a:xfrm>
        </p:grpSpPr>
        <p:sp>
          <p:nvSpPr>
            <p:cNvPr id="518" name=""/>
            <p:cNvSpPr txBox="1"/>
            <p:nvPr/>
          </p:nvSpPr>
          <p:spPr>
            <a:xfrm>
              <a:off x="3166920" y="5418000"/>
              <a:ext cx="358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3006720" y="5548320"/>
              <a:ext cx="270000" cy="4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641920" y="5416560"/>
            <a:ext cx="519480" cy="228600"/>
            <a:chOff x="5641920" y="5416560"/>
            <a:chExt cx="519480" cy="228600"/>
          </a:xfrm>
        </p:grpSpPr>
        <p:sp>
          <p:nvSpPr>
            <p:cNvPr id="521" name=""/>
            <p:cNvSpPr txBox="1"/>
            <p:nvPr/>
          </p:nvSpPr>
          <p:spPr>
            <a:xfrm>
              <a:off x="5802480" y="5416560"/>
              <a:ext cx="358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641920" y="5546880"/>
              <a:ext cx="270000" cy="4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226200" y="5423040"/>
            <a:ext cx="519120" cy="228600"/>
            <a:chOff x="6226200" y="5423040"/>
            <a:chExt cx="519120" cy="228600"/>
          </a:xfrm>
        </p:grpSpPr>
        <p:sp>
          <p:nvSpPr>
            <p:cNvPr id="524" name=""/>
            <p:cNvSpPr txBox="1"/>
            <p:nvPr/>
          </p:nvSpPr>
          <p:spPr>
            <a:xfrm>
              <a:off x="6386400" y="5423040"/>
              <a:ext cx="358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6226200" y="5553000"/>
              <a:ext cx="270000" cy="44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7248600" y="5423040"/>
            <a:ext cx="519120" cy="228600"/>
            <a:chOff x="7248600" y="5423040"/>
            <a:chExt cx="519120" cy="228600"/>
          </a:xfrm>
        </p:grpSpPr>
        <p:sp>
          <p:nvSpPr>
            <p:cNvPr id="527" name=""/>
            <p:cNvSpPr txBox="1"/>
            <p:nvPr/>
          </p:nvSpPr>
          <p:spPr>
            <a:xfrm>
              <a:off x="7408800" y="5423040"/>
              <a:ext cx="358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248600" y="5553000"/>
              <a:ext cx="269640" cy="44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 txBox="1"/>
          <p:nvPr/>
        </p:nvSpPr>
        <p:spPr>
          <a:xfrm>
            <a:off x="7116840" y="507672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7543800" y="3224160"/>
            <a:ext cx="344520" cy="362160"/>
            <a:chOff x="7543800" y="3224160"/>
            <a:chExt cx="344520" cy="362160"/>
          </a:xfrm>
        </p:grpSpPr>
        <p:sp>
          <p:nvSpPr>
            <p:cNvPr id="531" name=""/>
            <p:cNvSpPr/>
            <p:nvPr/>
          </p:nvSpPr>
          <p:spPr>
            <a:xfrm flipV="1">
              <a:off x="7543800" y="3357720"/>
              <a:ext cx="1112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7562880" y="3224160"/>
              <a:ext cx="3254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924600" y="857160"/>
            <a:ext cx="344520" cy="362160"/>
            <a:chOff x="6924600" y="857160"/>
            <a:chExt cx="344520" cy="362160"/>
          </a:xfrm>
        </p:grpSpPr>
        <p:sp>
          <p:nvSpPr>
            <p:cNvPr id="534" name=""/>
            <p:cNvSpPr/>
            <p:nvPr/>
          </p:nvSpPr>
          <p:spPr>
            <a:xfrm flipV="1">
              <a:off x="6924600" y="990720"/>
              <a:ext cx="1112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6943680" y="857160"/>
              <a:ext cx="3254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843600" y="1197000"/>
            <a:ext cx="344520" cy="361800"/>
            <a:chOff x="6843600" y="1197000"/>
            <a:chExt cx="344520" cy="361800"/>
          </a:xfrm>
        </p:grpSpPr>
        <p:sp>
          <p:nvSpPr>
            <p:cNvPr id="537" name=""/>
            <p:cNvSpPr/>
            <p:nvPr/>
          </p:nvSpPr>
          <p:spPr>
            <a:xfrm flipV="1">
              <a:off x="6843600" y="1330200"/>
              <a:ext cx="1112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>
              <a:off x="6862680" y="1197000"/>
              <a:ext cx="3254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 txBox="1"/>
          <p:nvPr/>
        </p:nvSpPr>
        <p:spPr>
          <a:xfrm>
            <a:off x="6278400" y="1038240"/>
            <a:ext cx="452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262560" y="1324080"/>
            <a:ext cx="452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3094200" y="1249200"/>
            <a:ext cx="75960" cy="254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092400" y="1090440"/>
            <a:ext cx="35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  <a:ea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546280" y="3049560"/>
            <a:ext cx="358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2365200" y="3179880"/>
            <a:ext cx="270000" cy="4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1803240" y="3825720"/>
            <a:ext cx="198720" cy="10188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461960" y="3629160"/>
            <a:ext cx="48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 baseline="-4000">
                <a:solidFill>
                  <a:srgbClr val="fc0128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fc0128"/>
                </a:solidFill>
                <a:latin typeface="Arial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489560" y="3706920"/>
            <a:ext cx="18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868320" y="703440"/>
            <a:ext cx="7389720" cy="507996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1712880" y="6107040"/>
            <a:ext cx="3475080" cy="3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  <a:ea typeface="Arial"/>
              </a:rPr>
              <a:t>C165 Block Diagr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522440" y="122724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397160" y="2209680"/>
            <a:ext cx="8510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SC</a:t>
            </a:r>
            <a:br>
              <a:rPr sz="10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input: 20MHz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2387520" y="1328760"/>
            <a:ext cx="770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str./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690640" y="2527200"/>
            <a:ext cx="1271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ternal Instr./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428840" y="2776680"/>
            <a:ext cx="763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-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riph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365120" y="3138480"/>
            <a:ext cx="8827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713040" y="2822400"/>
            <a:ext cx="1878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rupt 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5307120" y="2419200"/>
            <a:ext cx="5493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795840" y="1195560"/>
            <a:ext cx="18604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165 CPU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equal to the C167 Co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932360" y="3166920"/>
            <a:ext cx="911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rupt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321080" y="337968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ripheral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014560" y="3970440"/>
            <a:ext cx="67932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ntro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S-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779560" y="3863880"/>
            <a:ext cx="7700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5419800" y="3890880"/>
            <a:ext cx="614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505480" y="4343400"/>
            <a:ext cx="4586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326280" y="3890880"/>
            <a:ext cx="1009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ync. Cha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SP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591240" y="4335480"/>
            <a:ext cx="4586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168720" y="3884760"/>
            <a:ext cx="515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PT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245120" y="3889440"/>
            <a:ext cx="550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222720" y="4111560"/>
            <a:ext cx="36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222720" y="4294080"/>
            <a:ext cx="36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222720" y="4489560"/>
            <a:ext cx="36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367160" y="4300560"/>
            <a:ext cx="36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368960" y="4481640"/>
            <a:ext cx="36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340760" y="2730600"/>
            <a:ext cx="75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atchd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451640" y="1106640"/>
            <a:ext cx="6573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 K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885000" y="1052640"/>
            <a:ext cx="949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ual 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7074000" y="507060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324400" y="506736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48120" y="508176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327320" y="451152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338120" y="495792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808280" y="508644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333440" y="4008600"/>
            <a:ext cx="5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t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1087560" y="3957480"/>
            <a:ext cx="55440" cy="23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1062000" y="4456080"/>
            <a:ext cx="55440" cy="23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1066680" y="4932360"/>
            <a:ext cx="55800" cy="23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961920" y="378144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27000" y="476244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915840" y="4268880"/>
            <a:ext cx="358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965240" y="5416560"/>
            <a:ext cx="519480" cy="228600"/>
            <a:chOff x="1965240" y="5416560"/>
            <a:chExt cx="519480" cy="228600"/>
          </a:xfrm>
        </p:grpSpPr>
        <p:sp>
          <p:nvSpPr>
            <p:cNvPr id="591" name=""/>
            <p:cNvSpPr txBox="1"/>
            <p:nvPr/>
          </p:nvSpPr>
          <p:spPr>
            <a:xfrm>
              <a:off x="2125800" y="5416560"/>
              <a:ext cx="358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1965240" y="5546880"/>
              <a:ext cx="270000" cy="4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216240" y="5424480"/>
            <a:ext cx="519120" cy="228600"/>
            <a:chOff x="3216240" y="5424480"/>
            <a:chExt cx="519120" cy="228600"/>
          </a:xfrm>
        </p:grpSpPr>
        <p:sp>
          <p:nvSpPr>
            <p:cNvPr id="594" name=""/>
            <p:cNvSpPr txBox="1"/>
            <p:nvPr/>
          </p:nvSpPr>
          <p:spPr>
            <a:xfrm>
              <a:off x="3376440" y="5424480"/>
              <a:ext cx="358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3216240" y="5554800"/>
              <a:ext cx="270000" cy="4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473800" y="5416560"/>
            <a:ext cx="519120" cy="228600"/>
            <a:chOff x="5473800" y="5416560"/>
            <a:chExt cx="519120" cy="228600"/>
          </a:xfrm>
        </p:grpSpPr>
        <p:sp>
          <p:nvSpPr>
            <p:cNvPr id="597" name=""/>
            <p:cNvSpPr txBox="1"/>
            <p:nvPr/>
          </p:nvSpPr>
          <p:spPr>
            <a:xfrm>
              <a:off x="5634000" y="5416560"/>
              <a:ext cx="358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5473800" y="5546880"/>
              <a:ext cx="269640" cy="4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7248600" y="5423040"/>
            <a:ext cx="519120" cy="228600"/>
            <a:chOff x="7248600" y="5423040"/>
            <a:chExt cx="519120" cy="228600"/>
          </a:xfrm>
        </p:grpSpPr>
        <p:sp>
          <p:nvSpPr>
            <p:cNvPr id="600" name=""/>
            <p:cNvSpPr txBox="1"/>
            <p:nvPr/>
          </p:nvSpPr>
          <p:spPr>
            <a:xfrm>
              <a:off x="7408800" y="5423040"/>
              <a:ext cx="358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7248600" y="5553000"/>
              <a:ext cx="269640" cy="44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7543800" y="3224160"/>
            <a:ext cx="344520" cy="362160"/>
            <a:chOff x="7543800" y="3224160"/>
            <a:chExt cx="344520" cy="362160"/>
          </a:xfrm>
        </p:grpSpPr>
        <p:sp>
          <p:nvSpPr>
            <p:cNvPr id="603" name=""/>
            <p:cNvSpPr/>
            <p:nvPr/>
          </p:nvSpPr>
          <p:spPr>
            <a:xfrm flipV="1">
              <a:off x="7543800" y="3357720"/>
              <a:ext cx="1112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>
              <a:off x="7562880" y="3224160"/>
              <a:ext cx="3254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924600" y="857160"/>
            <a:ext cx="344520" cy="362160"/>
            <a:chOff x="6924600" y="857160"/>
            <a:chExt cx="344520" cy="362160"/>
          </a:xfrm>
        </p:grpSpPr>
        <p:sp>
          <p:nvSpPr>
            <p:cNvPr id="606" name=""/>
            <p:cNvSpPr/>
            <p:nvPr/>
          </p:nvSpPr>
          <p:spPr>
            <a:xfrm flipV="1">
              <a:off x="6924600" y="990720"/>
              <a:ext cx="1112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 txBox="1"/>
            <p:nvPr/>
          </p:nvSpPr>
          <p:spPr>
            <a:xfrm>
              <a:off x="6943680" y="857160"/>
              <a:ext cx="3254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43600" y="1197000"/>
            <a:ext cx="344520" cy="361800"/>
            <a:chOff x="6843600" y="1197000"/>
            <a:chExt cx="344520" cy="361800"/>
          </a:xfrm>
        </p:grpSpPr>
        <p:sp>
          <p:nvSpPr>
            <p:cNvPr id="609" name=""/>
            <p:cNvSpPr/>
            <p:nvPr/>
          </p:nvSpPr>
          <p:spPr>
            <a:xfrm flipV="1">
              <a:off x="6843600" y="1330200"/>
              <a:ext cx="1112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>
              <a:off x="6862680" y="1197000"/>
              <a:ext cx="3254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"/>
          <p:cNvSpPr txBox="1"/>
          <p:nvPr/>
        </p:nvSpPr>
        <p:spPr>
          <a:xfrm>
            <a:off x="6278400" y="1033560"/>
            <a:ext cx="452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6262560" y="1325520"/>
            <a:ext cx="452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094200" y="1249200"/>
            <a:ext cx="75960" cy="254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92400" y="1090440"/>
            <a:ext cx="35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  <a:ea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46280" y="3049560"/>
            <a:ext cx="358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365200" y="3179880"/>
            <a:ext cx="270000" cy="4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1803240" y="3825720"/>
            <a:ext cx="198720" cy="10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461960" y="3649680"/>
            <a:ext cx="434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200" spc="-1" strike="noStrike" baseline="-4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1668600" y="6087960"/>
            <a:ext cx="47322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4920" y="1812960"/>
            <a:ext cx="85248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Complete 16-bit architecture with 32-bit bus to the internal ROM to process 8-bit, 16-bit and even 32-bit (MUL/DIV)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20(25) MHz CPU clock results in an instruction cycle time of 100(80)ns which guarantees highest CPU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To avoid an accumulator bottleneck </a:t>
            </a:r>
            <a:br>
              <a:rPr sz="2000"/>
            </a:b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16 General Purpose Register (GPR) are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 to 16 GPRs from a registe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 register bank is freely locatable in internal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Easy and efficient programming is supported by powerful instructions combined with complex addressing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81d58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Transparent programming of the on-chip peripherals via an universal Special Function Register (SFR)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747800" y="863640"/>
            <a:ext cx="7243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PU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87480" y="630360"/>
            <a:ext cx="1735200" cy="1003320"/>
            <a:chOff x="87480" y="630360"/>
            <a:chExt cx="1735200" cy="1003320"/>
          </a:xfrm>
        </p:grpSpPr>
        <p:sp>
          <p:nvSpPr>
            <p:cNvPr id="623" name=""/>
            <p:cNvSpPr/>
            <p:nvPr/>
          </p:nvSpPr>
          <p:spPr>
            <a:xfrm>
              <a:off x="241200" y="655560"/>
              <a:ext cx="257400" cy="249480"/>
            </a:xfrm>
            <a:custGeom>
              <a:avLst/>
              <a:gdLst/>
              <a:ahLst/>
              <a:rect l="0" t="0" r="r" b="b"/>
              <a:pathLst>
                <a:path w="715" h="693">
                  <a:moveTo>
                    <a:pt x="0" y="693"/>
                  </a:moveTo>
                  <a:lnTo>
                    <a:pt x="0" y="0"/>
                  </a:lnTo>
                  <a:lnTo>
                    <a:pt x="715" y="0"/>
                  </a:lnTo>
                  <a:lnTo>
                    <a:pt x="715" y="69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9120" y="1114560"/>
              <a:ext cx="1438560" cy="433800"/>
            </a:xfrm>
            <a:custGeom>
              <a:avLst/>
              <a:gdLst/>
              <a:ahLst/>
              <a:rect l="0" t="0" r="r" b="b"/>
              <a:pathLst>
                <a:path w="3996" h="1205">
                  <a:moveTo>
                    <a:pt x="0" y="0"/>
                  </a:moveTo>
                  <a:lnTo>
                    <a:pt x="0" y="1205"/>
                  </a:lnTo>
                  <a:lnTo>
                    <a:pt x="3996" y="1205"/>
                  </a:lnTo>
                  <a:lnTo>
                    <a:pt x="3996" y="0"/>
                  </a:lnTo>
                  <a:lnTo>
                    <a:pt x="3756" y="0"/>
                  </a:lnTo>
                  <a:lnTo>
                    <a:pt x="3756" y="859"/>
                  </a:lnTo>
                  <a:lnTo>
                    <a:pt x="239" y="859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9120" y="1114560"/>
              <a:ext cx="1446480" cy="438480"/>
            </a:xfrm>
            <a:custGeom>
              <a:avLst/>
              <a:gdLst/>
              <a:ahLst/>
              <a:rect l="0" t="0" r="r" b="b"/>
              <a:pathLst>
                <a:path fill="none" w="4018" h="1218">
                  <a:moveTo>
                    <a:pt x="0" y="0"/>
                  </a:moveTo>
                  <a:lnTo>
                    <a:pt x="0" y="1218"/>
                  </a:lnTo>
                  <a:lnTo>
                    <a:pt x="4018" y="1218"/>
                  </a:lnTo>
                  <a:lnTo>
                    <a:pt x="4018" y="0"/>
                  </a:lnTo>
                  <a:lnTo>
                    <a:pt x="3777" y="0"/>
                  </a:lnTo>
                  <a:lnTo>
                    <a:pt x="3777" y="869"/>
                  </a:lnTo>
                  <a:lnTo>
                    <a:pt x="240" y="869"/>
                  </a:ln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652320" y="1133640"/>
              <a:ext cx="919800" cy="263880"/>
              <a:chOff x="652320" y="1133640"/>
              <a:chExt cx="919800" cy="263880"/>
            </a:xfrm>
          </p:grpSpPr>
          <p:sp>
            <p:nvSpPr>
              <p:cNvPr id="627" name=""/>
              <p:cNvSpPr/>
              <p:nvPr/>
            </p:nvSpPr>
            <p:spPr>
              <a:xfrm>
                <a:off x="657360" y="1138320"/>
                <a:ext cx="914760" cy="259200"/>
              </a:xfrm>
              <a:custGeom>
                <a:avLst/>
                <a:gdLst/>
                <a:ahLst/>
                <a:rect l="0" t="0" r="r" b="b"/>
                <a:pathLst>
                  <a:path w="2541" h="720">
                    <a:moveTo>
                      <a:pt x="0" y="720"/>
                    </a:moveTo>
                    <a:lnTo>
                      <a:pt x="0" y="0"/>
                    </a:lnTo>
                    <a:lnTo>
                      <a:pt x="2541" y="0"/>
                    </a:lnTo>
                    <a:lnTo>
                      <a:pt x="2541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52320" y="1133640"/>
                <a:ext cx="919440" cy="263880"/>
              </a:xfrm>
              <a:custGeom>
                <a:avLst/>
                <a:gdLst/>
                <a:ahLst/>
                <a:rect l="0" t="0" r="r" b="b"/>
                <a:pathLst>
                  <a:path fill="none" w="2554" h="733">
                    <a:moveTo>
                      <a:pt x="0" y="733"/>
                    </a:moveTo>
                    <a:lnTo>
                      <a:pt x="2554" y="733"/>
                    </a:lnTo>
                    <a:lnTo>
                      <a:pt x="2554" y="0"/>
                    </a:lnTo>
                    <a:lnTo>
                      <a:pt x="0" y="0"/>
                    </a:lnTo>
                    <a:lnTo>
                      <a:pt x="0" y="73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1579680" y="947880"/>
              <a:ext cx="111600" cy="122760"/>
            </a:xfrm>
            <a:custGeom>
              <a:avLst/>
              <a:gdLst/>
              <a:ahLst/>
              <a:rect l="0" t="0" r="r" b="b"/>
              <a:pathLst>
                <a:path w="310" h="341">
                  <a:moveTo>
                    <a:pt x="0" y="34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571760" y="947880"/>
              <a:ext cx="119520" cy="128880"/>
            </a:xfrm>
            <a:custGeom>
              <a:avLst/>
              <a:gdLst/>
              <a:ahLst/>
              <a:rect l="0" t="0" r="r" b="b"/>
              <a:pathLst>
                <a:path fill="none" w="332" h="358">
                  <a:moveTo>
                    <a:pt x="0" y="358"/>
                  </a:moveTo>
                  <a:lnTo>
                    <a:pt x="332" y="358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3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50800" y="638280"/>
              <a:ext cx="813240" cy="279720"/>
            </a:xfrm>
            <a:custGeom>
              <a:avLst/>
              <a:gdLst/>
              <a:ahLst/>
              <a:rect l="0" t="0" r="r" b="b"/>
              <a:pathLst>
                <a:path w="2259" h="777">
                  <a:moveTo>
                    <a:pt x="0" y="777"/>
                  </a:moveTo>
                  <a:lnTo>
                    <a:pt x="0" y="0"/>
                  </a:lnTo>
                  <a:lnTo>
                    <a:pt x="2259" y="0"/>
                  </a:lnTo>
                  <a:lnTo>
                    <a:pt x="2259" y="777"/>
                  </a:lnTo>
                  <a:lnTo>
                    <a:pt x="0" y="777"/>
                  </a:lnTo>
                  <a:close/>
                </a:path>
              </a:pathLst>
            </a:custGeom>
            <a:solidFill>
              <a:srgbClr val="00dfc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50800" y="638280"/>
              <a:ext cx="821160" cy="284400"/>
            </a:xfrm>
            <a:custGeom>
              <a:avLst/>
              <a:gdLst/>
              <a:ahLst/>
              <a:rect l="0" t="0" r="r" b="b"/>
              <a:pathLst>
                <a:path fill="none" w="2281" h="790">
                  <a:moveTo>
                    <a:pt x="0" y="790"/>
                  </a:moveTo>
                  <a:lnTo>
                    <a:pt x="2281" y="790"/>
                  </a:lnTo>
                  <a:lnTo>
                    <a:pt x="2281" y="0"/>
                  </a:lnTo>
                  <a:lnTo>
                    <a:pt x="0" y="0"/>
                  </a:lnTo>
                  <a:lnTo>
                    <a:pt x="0" y="7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23720" y="968400"/>
              <a:ext cx="1101960" cy="122760"/>
            </a:xfrm>
            <a:custGeom>
              <a:avLst/>
              <a:gdLst/>
              <a:ahLst/>
              <a:rect l="0" t="0" r="r" b="b"/>
              <a:pathLst>
                <a:path w="3061" h="341">
                  <a:moveTo>
                    <a:pt x="0" y="341"/>
                  </a:moveTo>
                  <a:lnTo>
                    <a:pt x="0" y="0"/>
                  </a:lnTo>
                  <a:lnTo>
                    <a:pt x="3061" y="0"/>
                  </a:lnTo>
                  <a:lnTo>
                    <a:pt x="306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3720" y="968400"/>
              <a:ext cx="1108440" cy="127440"/>
            </a:xfrm>
            <a:custGeom>
              <a:avLst/>
              <a:gdLst/>
              <a:ahLst/>
              <a:rect l="0" t="0" r="r" b="b"/>
              <a:pathLst>
                <a:path fill="none" w="3079" h="354">
                  <a:moveTo>
                    <a:pt x="0" y="354"/>
                  </a:moveTo>
                  <a:lnTo>
                    <a:pt x="3079" y="354"/>
                  </a:lnTo>
                  <a:lnTo>
                    <a:pt x="3079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260360" y="969840"/>
              <a:ext cx="0" cy="12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6520" y="9428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0" y="341"/>
                  </a:moveTo>
                  <a:lnTo>
                    <a:pt x="0" y="0"/>
                  </a:lnTo>
                  <a:lnTo>
                    <a:pt x="345" y="0"/>
                  </a:lnTo>
                  <a:lnTo>
                    <a:pt x="345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6520" y="942840"/>
              <a:ext cx="130680" cy="127440"/>
            </a:xfrm>
            <a:custGeom>
              <a:avLst/>
              <a:gdLst/>
              <a:ahLst/>
              <a:rect l="0" t="0" r="r" b="b"/>
              <a:pathLst>
                <a:path fill="none" w="363" h="354">
                  <a:moveTo>
                    <a:pt x="0" y="354"/>
                  </a:moveTo>
                  <a:lnTo>
                    <a:pt x="363" y="354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 txBox="1"/>
            <p:nvPr/>
          </p:nvSpPr>
          <p:spPr>
            <a:xfrm>
              <a:off x="1138320" y="915840"/>
              <a:ext cx="5158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 txBox="1"/>
            <p:nvPr/>
          </p:nvSpPr>
          <p:spPr>
            <a:xfrm>
              <a:off x="531720" y="900000"/>
              <a:ext cx="7113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ru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>
              <a:off x="617400" y="630360"/>
              <a:ext cx="6555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6520" y="639720"/>
              <a:ext cx="260640" cy="278280"/>
            </a:xfrm>
            <a:custGeom>
              <a:avLst/>
              <a:gdLst/>
              <a:ahLst/>
              <a:rect l="0" t="0" r="r" b="b"/>
              <a:pathLst>
                <a:path fill="none" w="724" h="773">
                  <a:moveTo>
                    <a:pt x="0" y="773"/>
                  </a:moveTo>
                  <a:lnTo>
                    <a:pt x="724" y="773"/>
                  </a:lnTo>
                  <a:lnTo>
                    <a:pt x="724" y="0"/>
                  </a:lnTo>
                  <a:lnTo>
                    <a:pt x="0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25600" y="639720"/>
              <a:ext cx="265320" cy="278280"/>
            </a:xfrm>
            <a:custGeom>
              <a:avLst/>
              <a:gdLst/>
              <a:ahLst/>
              <a:rect l="0" t="0" r="r" b="b"/>
              <a:pathLst>
                <a:path w="737" h="773">
                  <a:moveTo>
                    <a:pt x="0" y="773"/>
                  </a:moveTo>
                  <a:lnTo>
                    <a:pt x="0" y="0"/>
                  </a:lnTo>
                  <a:lnTo>
                    <a:pt x="737" y="0"/>
                  </a:lnTo>
                  <a:lnTo>
                    <a:pt x="73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20920" y="639720"/>
              <a:ext cx="270360" cy="282960"/>
            </a:xfrm>
            <a:custGeom>
              <a:avLst/>
              <a:gdLst/>
              <a:ahLst/>
              <a:rect l="0" t="0" r="r" b="b"/>
              <a:pathLst>
                <a:path fill="none" w="751" h="786">
                  <a:moveTo>
                    <a:pt x="0" y="786"/>
                  </a:moveTo>
                  <a:lnTo>
                    <a:pt x="751" y="786"/>
                  </a:lnTo>
                  <a:lnTo>
                    <a:pt x="751" y="0"/>
                  </a:lnTo>
                  <a:lnTo>
                    <a:pt x="0" y="0"/>
                  </a:lnTo>
                  <a:lnTo>
                    <a:pt x="0" y="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1292400" y="666720"/>
              <a:ext cx="53028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>
              <a:off x="657360" y="13557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1520" y="1131840"/>
              <a:ext cx="246600" cy="260640"/>
            </a:xfrm>
            <a:custGeom>
              <a:avLst/>
              <a:gdLst/>
              <a:ahLst/>
              <a:rect l="0" t="0" r="r" b="b"/>
              <a:pathLst>
                <a:path w="685" h="724">
                  <a:moveTo>
                    <a:pt x="0" y="724"/>
                  </a:moveTo>
                  <a:lnTo>
                    <a:pt x="0" y="0"/>
                  </a:lnTo>
                  <a:lnTo>
                    <a:pt x="685" y="0"/>
                  </a:lnTo>
                  <a:lnTo>
                    <a:pt x="685" y="724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71520" y="1131840"/>
              <a:ext cx="246600" cy="265320"/>
            </a:xfrm>
            <a:custGeom>
              <a:avLst/>
              <a:gdLst/>
              <a:ahLst/>
              <a:rect l="0" t="0" r="r" b="b"/>
              <a:pathLst>
                <a:path fill="none" w="685" h="737">
                  <a:moveTo>
                    <a:pt x="0" y="737"/>
                  </a:moveTo>
                  <a:lnTo>
                    <a:pt x="685" y="737"/>
                  </a:lnTo>
                  <a:lnTo>
                    <a:pt x="685" y="0"/>
                  </a:lnTo>
                  <a:lnTo>
                    <a:pt x="0" y="0"/>
                  </a:lnTo>
                  <a:lnTo>
                    <a:pt x="0" y="7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>
              <a:off x="235080" y="1128600"/>
              <a:ext cx="5302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6520" y="1122480"/>
              <a:ext cx="166680" cy="1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>
              <a:off x="652320" y="1127160"/>
              <a:ext cx="9111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 txBox="1"/>
            <p:nvPr/>
          </p:nvSpPr>
          <p:spPr>
            <a:xfrm>
              <a:off x="87480" y="655560"/>
              <a:ext cx="56988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ld Lehmann</dc:creator>
  <dc:description/>
  <dc:language>en-US</dc:language>
  <cp:lastModifiedBy>Siemens</cp:lastModifiedBy>
  <cp:revision>0</cp:revision>
  <dc:subject>complete Foilset </dc:subject>
  <dc:title>SAB C16x Family of 16-bit Microcontrollers</dc:title>
</cp:coreProperties>
</file>